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DC13E-DB2F-4B72-AB14-2F4280AD1B71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879A7-5FFD-44FC-87F6-25055F4B41FD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8A111-B020-4707-BAB3-55145E00ADB6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703AE-7D62-4A5A-AF4C-4D8082E2C54F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51170-924D-45E3-A2BA-EDBB762F5486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BCC1F-916D-48BE-9F38-2E15C78DD565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FF6-358B-460E-A0A5-EAFABE6D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3BE-1B0F-4F89-B535-3E98515F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8E0-520A-4E40-890B-3BBD2891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8F6-7BD5-4080-8CD2-9CFE55CC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FE5-453B-49A6-A83C-56A8E4A8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675-2F8E-41CC-9E03-F2F3FA2C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F6E-667B-40D5-849B-A6381B9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002-3F68-4A6B-B7BB-2F2407C9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F19-4862-4C05-A827-49581507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C93-BBC3-4BB8-A861-38F31DD8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11E-0292-4BEA-9B1B-48DF55D6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2A6-B561-4F28-B9E6-6A515327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4F33C-7BBA-4AEE-A4C0-7414C7E8D0EB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escription des supports matériels et du cont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$c 23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194-1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 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certaines en cou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u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 ; $c 23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et un ind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Daniel Paradis </cp:lastModifiedBy>
  <dcterms:modified xsi:type="dcterms:W3CDTF">2014-04-14T19:51:06Z</dcterms:modified>
  <cp:revision>6</cp:revision>
  <dc:subject/>
  <dc:title>Diapositive 1</dc:title>
</cp:coreProperties>
</file>