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668C4-1C69-44C0-BC6B-5B785D0032DD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E4212-C2E9-4E17-A112-4D646E86D457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1B058-C7C9-4BD3-8CF5-834A13C67916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E0C57-EDA6-48ED-8079-B4CE5E42AE3D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6F15B-A0B5-4A89-B114-8C08C453B67F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66DDB-1FD1-4284-9D3F-FA869F5498D5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13D-B54B-4720-A8E3-4A559E93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D5F-3B85-4267-8831-E21CC351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65E-2D3E-4F15-BEDA-804321ED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CF9-49C1-4BBD-93A9-D0AAEE86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B19-636E-4CD9-92B4-35B7CCE2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2F0-9B24-4B3F-A859-B0251071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416-1860-49CC-81B4-378902B6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B35-1934-4503-9EBD-F9A70257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C64-F5CF-4AAC-A38E-5919786C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C05-184E-421A-A031-1C3C5734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641-1329-41DE-9BCC-B090E01B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77C-A9BD-4B62-AD59-899A4D56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48D5A-8D7E-4404-9856-02D601838A4F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escription des supports matériels et du cont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199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il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stration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; $c 23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b txt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7 __ $a sans médiation $b n $2 rda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b nc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504 __ $a Comprend des réf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rences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ibliogr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phiqu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194-19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199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xi, 404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18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de p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nch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non numéroté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 : $b il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stration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(certaines en cou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u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) ; $c 23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b txt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7 __ $a sans médiation $b n $2 rda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b nc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504 __ $a Comprend des réf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renc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bibliogr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phiqu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et un ind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xi, 404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18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de p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nch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non numéro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Daniel Paradis </cp:lastModifiedBy>
  <dcterms:modified xsi:type="dcterms:W3CDTF">2014-04-14T19:51:06Z</dcterms:modified>
  <cp:revision>6</cp:revision>
  <dc:subject/>
  <dc:title>Diapositive 1</dc:title>
</cp:coreProperties>
</file>