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5054F-88E0-45FF-AC12-FDC468C7F29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E3C6E-088E-40C8-BF41-B76A24108CA8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AE87-420D-4DDE-B9C6-3F1015B1B438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712F6-9374-4433-8244-0CE4B8C0F252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31D02-7A84-4116-818F-566E12EDD716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AAF62-B496-41AF-9838-E1A843C78394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DDF-49EA-482F-8CC7-652BEE2B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002-D6A1-4C0E-ADA7-785A630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567-491C-4C25-8F17-A39B0379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FC2-2548-4282-B00D-C321E9EF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B55-1984-47FC-9A81-2FD5DC8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0A9-EB09-4D52-89CE-7711FF06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CDB-0554-4A7D-B015-10592A16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627-E6E8-408F-8CC5-CB6544E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609-9CDA-495B-963E-A39B7B8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953-0D4A-4ED1-B215-BE7400EE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0D6-56EB-4E2E-B5F4-29C61DF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1BB-5B5A-459B-BD01-1A4BD9D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30FC-ACD8-43DA-A071-8E05110F41C7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d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arti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escription des supports matériels et du cont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; $c 2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194-1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1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199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 : $b il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ustration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(certaines en cou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eur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 ; $c 23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b txt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7 __ $a sans médiation $b n $2 rda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b nc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504 __ $a Comprend des réf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érenc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bliogr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phiqu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et un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ivre 2</a:t>
            </a:r>
            <a:br>
              <a:rPr sz="4400"/>
            </a:br>
            <a:r>
              <a:rPr b="0" lang="fr-CA" sz="3600" spc="-1" strike="noStrike">
                <a:solidFill>
                  <a:srgbClr val="000000"/>
                </a:solidFill>
                <a:latin typeface="Arial"/>
              </a:rPr>
              <a:t>(Éléments fondamentaux seul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300 __ $a xi, 404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18 p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g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de pl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anch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non numéro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6 __ $a texte $2 rda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Arial"/>
              </a:rPr>
              <a:t>338 __ $a volume $2 rda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46:30Z</dcterms:created>
  <dc:creator>Pat Riva</dc:creator>
  <dc:description/>
  <dc:language>en-US</dc:language>
  <cp:lastModifiedBy>Daniel Paradis </cp:lastModifiedBy>
  <dcterms:modified xsi:type="dcterms:W3CDTF">2014-04-14T19:51:06Z</dcterms:modified>
  <cp:revision>6</cp:revision>
  <dc:subject/>
  <dc:title>Diapositive 1</dc:title>
</cp:coreProperties>
</file>