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88727C-B9B6-4653-A0F1-E6723F951BAE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163E00-437F-4485-8A7E-E1D28B266ED1}" type="slidenum"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2658E7-3A84-49BF-8600-91C01E1012E8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BAD-25B8-4479-9405-28C9B5B7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291-8940-4B00-9A1C-03E861A4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C59-5E80-4371-9FD9-054C9BCA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99D-5A7F-4AAD-8135-052993C4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06B-8250-49A9-A04F-DF4FF63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F73-E938-4DA1-A7D0-10B41061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163-FB4A-4674-BE4B-586AC6E0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E09-49A6-4CF4-85B2-14D7004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345-AAC3-45A3-AA0D-EA89DA5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C90-FBDD-4C6C-94C1-48CAA3E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19E-861C-4AF7-BB24-B427498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BA8-A9ED-4E16-8F5C-74F0006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B13E34-5B31-4E59-BAF8-02BA25171FC7}" type="slidenum">
              <a:rPr b="0" lang="fr-C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98900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168640"/>
            <a:ext cx="3311640" cy="1620720"/>
          </a:xfrm>
          <a:prstGeom prst="wedgeEllipseCallout">
            <a:avLst>
              <a:gd name="adj1" fmla="val -72532"/>
              <a:gd name="adj2" fmla="val 27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7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92120"/>
            <a:ext cx="8505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22400" y="260676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1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71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120" y="2287440"/>
            <a:ext cx="82296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2500" spc="-1" strike="noStrike">
                <a:solidFill>
                  <a:srgbClr val="333399"/>
                </a:solidFill>
                <a:latin typeface="Arial"/>
              </a:rPr>
              <a:t>Laquelle des zones 300 suivantes décrit conformément à RDA une monographie constituée d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1422360"/>
            <a:ext cx="896472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CA" sz="2000" spc="-1" strike="noStrike">
                <a:solidFill>
                  <a:srgbClr val="3f3f3f"/>
                </a:solidFill>
                <a:latin typeface="Arial"/>
              </a:rPr>
              <a:t>	</a:t>
            </a:r>
            <a:r>
              <a:rPr b="1" i="1" lang="fr-CA" sz="2600" spc="-1" strike="noStrike">
                <a:solidFill>
                  <a:srgbClr val="3f3f3f"/>
                </a:solidFill>
                <a:latin typeface="Arial"/>
              </a:rPr>
              <a:t>251 pages numérotées de texte, 18 pages de planches non numérotés. Le volume mesure 25,2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., [18] p. de pl. : $b ill.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 251 pages, 18 pages de planches non numérotées : $b illustrations ; $c 26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600" spc="-1" strike="noStrike">
                <a:solidFill>
                  <a:srgbClr val="000000"/>
                </a:solidFill>
                <a:latin typeface="Arial"/>
              </a:rPr>
              <a:t>251 pages, [18] pages ; $c 25,2 centimè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272880"/>
                <a:tab algn="l" pos="124452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BANQ</cp:lastModifiedBy>
  <dcterms:modified xsi:type="dcterms:W3CDTF">2013-04-17T20:22:48Z</dcterms:modified>
  <cp:revision>33</cp:revision>
  <dc:subject/>
  <dc:title>Diapositive 1</dc:title>
</cp:coreProperties>
</file>