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921A2-6AEE-487F-98A9-B34D0C648F35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7CC5C8-B645-44CE-BEBE-90C61A473695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35094B-968C-4C9D-BC6A-54E0C3BFEBF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7C2-EADE-4277-A38E-6A595160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9D6-258F-4B82-AF3A-12736312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038-5937-4D3D-A21C-E8C2E4A8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8A1-FA3A-4C2C-AD68-69FD8967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BCE-669A-4A11-9585-998E4D30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60F-7E6F-4FFF-8594-2165C85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4BA-D8E6-4C78-A149-EC62690E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903-50C2-4280-B86C-7DA3B966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4B0-94A3-4A9D-98B0-A2A89E4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948-1874-4AF1-A51C-1E29EA29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B3B-7125-4E69-AEBE-3B59E1CE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9DB-DECA-4C0D-B5D2-42E0B2CB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EA4F6-8648-4B23-84C4-656B2559ED60}" type="slidenum"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98900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92120"/>
            <a:ext cx="85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22400" y="260676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71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2287440"/>
            <a:ext cx="8229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422360"/>
            <a:ext cx="8964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BANQ</cp:lastModifiedBy>
  <dcterms:modified xsi:type="dcterms:W3CDTF">2013-04-17T20:22:48Z</dcterms:modified>
  <cp:revision>33</cp:revision>
  <dc:subject/>
  <dc:title>Diapositive 1</dc:title>
</cp:coreProperties>
</file>