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3FA37F-F0FE-4E95-87D6-268427E8FB1B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EA2499-CF2E-446A-97D3-9094814FDF60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FF0BA5-AAC3-4412-8725-D7E68B409BA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BEB-879E-47F6-9B66-C11C011A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A38-BDAB-47CE-9E04-FE6D5BC3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41A-2D6B-43C2-8275-BB967123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9B2-9ABD-4CFB-9480-CDD68174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C64-4A52-484D-BA6B-16912527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CCA-629B-4CCB-9FE3-DF555860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29B-4A0D-4881-95E4-110EA648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0E1-2BEF-4774-9788-856D2D29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723-67A5-4CB4-A080-50B9FE2C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FE8-2911-4CC1-8C60-6682FF52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526-0FF5-49BA-A8CE-A9910410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526-CABD-4A5E-BDC9-8BF5A8D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51DF2D-9CD2-42EF-BE89-7BA5CC019938}" type="slidenum"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98900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92120"/>
            <a:ext cx="85057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22400" y="260676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71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120" y="2287440"/>
            <a:ext cx="82296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1422360"/>
            <a:ext cx="896472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BANQ</cp:lastModifiedBy>
  <dcterms:modified xsi:type="dcterms:W3CDTF">2013-04-17T20:22:48Z</dcterms:modified>
  <cp:revision>33</cp:revision>
  <dc:subject/>
  <dc:title>Diapositive 1</dc:title>
</cp:coreProperties>
</file>