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8FD48-EF5D-4275-9B52-18D291A4B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4D1CB-D3B6-423C-B2C7-DA3591ED5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3D371-84B7-4E6B-BCC8-F029B21CB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71FBE-D793-4EED-BB20-6CBE65A11F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CB77F-B047-4E74-AEA2-8C3E5D7498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6826F-3237-4598-AC86-C00BAAF7B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7AEAE-DD63-463D-AFC5-3B3A485A8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DDC04-1086-428E-805E-4E0A716BB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98410-F7ED-4741-BF1D-2D84685D9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62652-0660-4B8F-A3CC-ACD7BF8E6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60C4E-B17F-40C7-8156-9FB8DDB62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6E266-A486-460B-B0F1-43803502E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8488268-BBFF-4911-86CB-7FB3BADDD20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ver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ronolog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gé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851280"/>
            <a:ext cx="769608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es statistiques de 198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Représente l’intégralité de l’Europe occidentale et une partie de l’Europe oriental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5BC8C-5A1F-4E76-B1B9-9E056F204E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c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lasse d’utilis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4120" y="4343400"/>
            <a:ext cx="737388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enfants de 7-9 an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des programmes de rattrapage de lectu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8D45-3654-4921-BC8B-2733E5CA6A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sur la thèse ou le mémo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ditions formell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requises pour l’obtention d’un diplôme universi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ouvelles sous-zones de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diplôme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nom de l’institution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8200" y="5041800"/>
            <a:ext cx="80755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2 ## $b M.A. $c Université Laval $d 1974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a thèse de l’aut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25A5D-2179-4A58-A891-3E4CC9ED91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9CE2-C13C-421C-B6D7-BAE9B02FFF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sumé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C pour l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ittérature pour la jeunes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ynthèse, un résumé, un synopsi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7.10.1.3 sur l’utilisation des 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9CFE-A56B-42E7-98B6-3347A33C84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35-3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04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7.12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plus de la langue prédominante, les autres langues présentes (dans les résumés, les tables des matières, etc.) sont codées si jugées importantes pour l’identification ou la sé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les codes de langue du </a:t>
            </a:r>
            <a:r>
              <a:rPr b="0" i="1" lang="en-US" sz="2400" spc="-1" strike="noStrike">
                <a:solidFill>
                  <a:srgbClr val="008080"/>
                </a:solidFill>
                <a:latin typeface="Arial"/>
              </a:rPr>
              <a:t>format M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BB616-3F0A-4943-86A1-09DC6BFF67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e de la no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certaines écritures et pour les formes de notation musi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mble de signes et/ou de symboles utilisés pou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expri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ontenu linguistique éc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.2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4480" y="4545000"/>
            <a:ext cx="7131240" cy="183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1.</a:t>
            </a: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Dévanâgarî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2.</a:t>
            </a: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Arménie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Cyrilliqu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  <a:ea typeface="SimSun"/>
              </a:rPr>
              <a:t>ressource écrite dans les deux écritures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FE7DB-0BBA-462B-99AF-6B846DF462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supplémen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s index et les bibliographies des monogra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9113B-D385-473A-8A99-950CCDE360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es et inde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9640" y="1346040"/>
            <a:ext cx="86137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7.16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pour les références bibliographiques, discographies, filmographies, index, annexes, papillons ou feuilles d’e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énéralement, indiquer s’il y a des référence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une bibliographie, indiquer aussi les pages ou les feuillets où elle se trou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(pages 310-3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quer s’il y a u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0 ##  $a Comprend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combinée de bibliographie et d’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et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0A15F-D10C-4445-9E54-48C2AFA4E8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98B40-F78F-4186-BA61-EA207D8090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4337D-F7E0-461E-BDCF-51F670DFC1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BD40E-9719-4698-8D38-56815A7F80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 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B3AFD-DD2F-4C1A-B3F9-3CC45F4257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1FCD2-5090-4217-85A5-2C5DCBF835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E85E4-EE0D-4928-9DFA-F023544E71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6D638-80D7-45B8-AFED-3A64D4C2C7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éristique d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ntenu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4-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as échéant, et dans la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61920" y="4465800"/>
            <a:ext cx="6858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Singspiel en deux act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Tableur avec traitement de texte et capacités graphiqu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42440-F66F-46F6-8C98-A2761E7663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11-28T22:29:02Z</dcterms:modified>
  <cp:revision>271</cp:revision>
  <dc:subject/>
  <dc:title>Diapositive 1</dc:title>
</cp:coreProperties>
</file>