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64284-4A0B-4083-B85A-85D9E6767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E32D3-1206-4A6A-8A28-A8C837056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952E-E5D3-4477-9849-B832DACAC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62FD6-E48B-4001-B008-0DFC2AC8F4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B477-FA1B-47D8-98B6-0EE08EA786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95F0-55B7-4428-BD36-B4D43B47B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CE8C1-66FD-4DF4-AD2A-2A2A22BCD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A007-8603-4B4D-905C-B67F9EB06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4D6A-925C-4B87-972E-E17DFB3A7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62ED-0714-4578-A3A5-845D8F2C5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B078-43DB-49FB-84AF-31FB012F7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5F36-80CF-41BB-8E23-2AA4C6410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C882AAE-C543-4CF8-A850-D6B1D0FDDD5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ver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ronolog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gé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51280"/>
            <a:ext cx="769608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es statistiques de 198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Représente l’intégralité de l’Europe occidentale et une partie de l’Europe orienta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359FC-0929-4DE3-B585-6B4DBC42D5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c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lasse d’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4120" y="4343400"/>
            <a:ext cx="73738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enfants de 7-9 a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des programmes de rattrapage de l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EA547-37DC-40A0-9A89-CFB3EB069D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sur la thèse ou le mém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ditions formell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requises pour l’obtention d’un diplôme univers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velles sous-zones de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diplôme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nom de l’institution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8200" y="5041800"/>
            <a:ext cx="8075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2 ## $b M.A. $c Université Laval $d 1974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a thèse de l’aut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9BF23-3CF0-4900-8270-720F0198ED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C851-A401-4720-B8D6-D61E79DD77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sumé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 pour l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ittérature pour la jeune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ynthèse, un résumé, un synop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7.10.1.3 sur l’utilisation des 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5841-29DD-4AAD-B49B-8C7BEF1BF8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35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0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7.12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us de la langue prédominante, les autres langues présentes (dans les résumés, les tables des matières, etc.) sont codées si jugées importantes pour l’identification ou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les codes de langue du </a:t>
            </a:r>
            <a:r>
              <a:rPr b="0" i="1" lang="en-US" sz="2400" spc="-1" strike="noStrike">
                <a:solidFill>
                  <a:srgbClr val="008080"/>
                </a:solidFill>
                <a:latin typeface="Arial"/>
              </a:rPr>
              <a:t>forma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CF08-066A-474B-B07D-5B7CF4C6E6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 de la n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certaines écritures et pour les formes de notation mus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 signes et/ou de symboles utilisés pou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xpri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ontenu linguistique é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.2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4545000"/>
            <a:ext cx="7131240" cy="183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1.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Dévanâgarî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2.</a:t>
            </a: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Arménie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Cyrilliqu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SimSun"/>
              </a:rPr>
              <a:t>ressource écrite dans les deux écritures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AC392-AB58-42E8-AA5E-03E8DF7260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supplémen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s index et les bibliographies des mon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7224-E3C7-48B1-AB38-A6AC65C877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es et ind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9640" y="1346040"/>
            <a:ext cx="86137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7.16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pour les références bibliographiques, discographies, filmographies, index, annexes, papillons ou feuilles d’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lement, indiquer s’il y a des référen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une bibliographie, indiquer aussi les pages ou les feuillets où elle se tro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(pages 310-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quer s’il y a u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0 ##  $a Comprend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ombinée de bibliographie et d’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et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619E-CE22-4002-8FD9-D12448A16A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1A1D-9682-4E23-B551-3947CBFCEF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0AD3-CE6A-43FB-A151-B87D915E30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7FFEE-5BCB-4CEA-A590-70085552BC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 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BCDE-E8BB-4D46-837E-3AFFC5365D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F1059-3DCE-4D1A-9C51-67CFDCAD8F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BA0EA-2AC3-4418-9727-FC8F8AA39A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FD00C-C621-4EA3-A14D-721E0E704A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éristique d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ntenu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4-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as échéant, et dans la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920" y="4465800"/>
            <a:ext cx="685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Singspiel en deux act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Tableur avec traitement de texte et capacités graphiqu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88A1F-2B1C-459E-B689-A75E85ACC6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6:59:21Z</dcterms:modified>
  <cp:revision>271</cp:revision>
  <dc:subject/>
  <dc:title>Diapositive 1</dc:title>
</cp:coreProperties>
</file>