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E850-9828-4E0B-886A-F2ED55DCA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7725-914F-4F61-9CF0-63B0FBDE1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866C-0C06-4CF2-8837-F7CE35B89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CE15-7B63-4046-A6E1-240A1CE661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4785-3BED-4AB8-A314-2B30E880CF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64BC-574D-47F7-B204-2D6ECA80A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6650-103D-4846-B34F-AD6525391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C43DB-3AE9-4E74-A1A5-D268B3DBF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EA53C-E8AB-4666-8C6C-EE33EB621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D0B93-CDE7-4130-B365-2858DF336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5592-1753-42C7-B1F1-E5BD42549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0202-E45B-4F1F-B346-410CA2A79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F631275-C0D7-422F-BEF1-E18452A6385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ver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ronolog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gé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51280"/>
            <a:ext cx="769608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es statistiques de 198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Représente l’intégralité de l’Europe occidentale et une partie de l’Europe orienta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7D56-F0E5-4A8E-B243-8426A7FB42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c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lasse d’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4120" y="4343400"/>
            <a:ext cx="73738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enfants de 7-9 an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des programmes de rattrapage de lectu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46A1E-933D-4568-BDCD-00E6E62B18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sur la thèse ou le mémo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ditions formell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requises pour l’obtention d’un diplôme univers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velles sous-zones de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diplôme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nom de l’institution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8200" y="5041800"/>
            <a:ext cx="8075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2 ## $b M.A. $c Université Laval $d 1974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a thèse de l’aut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73F1-830D-4EA3-8049-4A473A4223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1CB2-9BE4-4127-B945-4FCD8A4F5B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sumé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 pour l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ittérature pour la jeune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ynthèse, un résumé, un synop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7.10.1.3 sur l’utilisation des 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616A2-C5CE-4208-B0D8-E0CEABA75A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35-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0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7.12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us de la langue prédominante, les autres langues présentes (dans les résumés, les tables des matières, etc.) sont codées si jugées importantes pour l’identification ou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les codes de langue du </a:t>
            </a:r>
            <a:r>
              <a:rPr b="0" i="1" lang="en-US" sz="2400" spc="-1" strike="noStrike">
                <a:solidFill>
                  <a:srgbClr val="008080"/>
                </a:solidFill>
                <a:latin typeface="Arial"/>
              </a:rPr>
              <a:t>format M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084E-F064-415A-9CBD-E7A9F34A6E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e de la no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certaines écritures et pour les formes de notation mus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de signes et/ou de symboles utilisés pou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xpri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ontenu linguistique é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.2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4545000"/>
            <a:ext cx="7131240" cy="183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1.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Dévanâgarî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2.</a:t>
            </a: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Arménie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Cyrilliqu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SimSun"/>
              </a:rPr>
              <a:t>ressource écrite dans les deux écritures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426C-0502-459A-8413-3731A09C81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supplémen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s index et les bibliographies des mon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7B58-DBAA-4B76-8B19-DF663E38E3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es et ind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9640" y="1346040"/>
            <a:ext cx="86137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7.16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pour les références bibliographiques, discographies, filmographies, index, annexes, papillons ou feuilles d’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néralement, indiquer s’il y a des référen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une bibliographie, indiquer aussi les pages ou les feuillets où elle se trou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(pages 310-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quer s’il y a u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0 ##  $a Comprend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ombinée de bibliographie et d’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et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3E38-2319-4C2E-8AB2-C47EB6288B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B9EFB-684F-4036-AAC8-5A0D725978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B0624-FA20-4D5F-81ED-20CBFB5239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703A-3AB7-4CA1-8450-18BFBD293A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 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B0D1-BEE5-48E1-84A8-2202393944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E13A-7E4E-4788-B0AD-E960EE55A0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A1C2-3063-410E-ADF4-5377AEFB66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E9A8F-7D49-49F2-A44D-B30B03C9DB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éristique d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ntenu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4-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as échéant, et dans la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920" y="4465800"/>
            <a:ext cx="685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Singspiel en deux act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Tableur avec traitement de texte et capacités graphiqu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E4C6-9F69-4499-8FC0-C8EC50E42F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6:59:21Z</dcterms:modified>
  <cp:revision>271</cp:revision>
  <dc:subject/>
  <dc:title>Diapositive 1</dc:title>
</cp:coreProperties>
</file>