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7130-FA5D-4C96-9BF0-4EB07CD4D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6635-B6D8-47CC-A334-5C9C6672C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1986-8F7C-4A00-B096-ED933F68F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B032-635A-42D9-BAAF-71E88E1FB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5110-B637-44E3-92B6-52C6C14203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E798-1ACC-4553-90F6-D9A7BAB9F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CBF2-0A4E-4D3F-8492-9D13E6941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80E5-9925-4D84-80D2-AB3988F3F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21A8-70C8-4080-B647-2C540DAED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7A89-325F-4F7E-8E29-FFA321B01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8146-00F9-40F7-BB98-2ED4A3741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3F88-C80A-45A0-9483-E4BB5B01B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BB9FCC5-9B22-41FA-854A-5F52D540F0D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ver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ronolog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gé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851280"/>
            <a:ext cx="769608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es statistiques de 198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Représente l’intégralité de l’Europe occidentale et une partie de l’Europe oriental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94F5-AD3D-4E52-900E-3F87C9B065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c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lasse d’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4120" y="4343400"/>
            <a:ext cx="73738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enfants de 7-9 an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21 ## $a Pour des programmes de rattrapage de lectu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4C4B-18A6-4B09-8063-68AEFF418D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sur la thèse ou le mémo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ditions formell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requises pour l’obtention d’un diplôme univers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ouvelles sous-zones de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diplôme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nom de l’institution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8200" y="5041800"/>
            <a:ext cx="8075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2 ## $b M.A. $c Université Laval $d 1974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Basé sur la thèse de l’aut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8D4A-47E5-4F7C-B329-85DB8A4421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6A6D-F142-4F98-B8D3-BA9FA982D3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sumé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C pour l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ittérature pour la jeune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ynthèse, un résumé, un synop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7.10.1.3 sur l’utilisation des 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EA02-38B9-4CFE-A614-AEC71C0042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35-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0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7.12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us de la langue prédominante, les autres langues présentes (dans les résumés, les tables des matières, etc.) sont codées si jugées importantes pour l’identification ou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les codes de langue du </a:t>
            </a:r>
            <a:r>
              <a:rPr b="0" i="1" lang="en-US" sz="2400" spc="-1" strike="noStrike">
                <a:solidFill>
                  <a:srgbClr val="008080"/>
                </a:solidFill>
                <a:latin typeface="Arial"/>
              </a:rPr>
              <a:t>format M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29D3-A36E-449E-B8DE-1C9B37ABD2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e de la no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certaines écritures et pour les formes de notation mus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 signes et/ou de symboles utilisés pour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xpri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ontenu linguistique é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3.2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4480" y="4545000"/>
            <a:ext cx="7131240" cy="183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1.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Dévanâgarî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SimSun"/>
              </a:rPr>
              <a:t>2.</a:t>
            </a: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Arménie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" sz="2400" spc="-1" strike="noStrike">
                <a:solidFill>
                  <a:srgbClr val="008080"/>
                </a:solidFill>
                <a:latin typeface="Courier New"/>
                <a:ea typeface="SimSun"/>
              </a:rPr>
              <a:t>Cyrilliqu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SimSun"/>
              </a:rPr>
              <a:t>ressource écrite dans les deux écritures</a:t>
            </a:r>
            <a:r>
              <a:rPr b="0" lang="en" sz="2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1158-01FA-4B2D-8BFE-33B8D01128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supplémen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7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s index et les bibliographies des mon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D7F6-678E-4B0E-A606-5B4A410F56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es et ind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9640" y="1346040"/>
            <a:ext cx="86137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7.16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r pour les références bibliographiques, discographies, filmographies, index, annexes, papillons ou feuilles d’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lement, indiquer s’il y a des référen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une bibliographie, indiquer aussi les pages ou les feuillets où elle se trou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(pages 310-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quer s’il y a u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0 ##  $a Comprend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ombinée de bibliographie et d’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040" indent="-21456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504 ##  $a Comprend des références bibliographiques et u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5645-A0B1-4C43-8F9E-62F9BCED10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0A20-E57E-4E6B-AF05-83090BA571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BB15-871A-4A21-ABCC-84F457235D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0A59-FFA5-4B16-838D-C33CC91F1B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 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E016-EFCB-4109-AE94-BE6FD0A183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CCED-8E33-4925-BBE0-19AEBEF826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5EF9-A8D9-461D-8E23-520232771D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8C15-ADFB-4845-9ED5-18E3705D30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e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éristique d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ntenu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si jugé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008/24-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cas échéant, et dans la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920" y="4465800"/>
            <a:ext cx="685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Singspiel en deux act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500 ## $a Tableur avec traitement de texte et capacités graphiqu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3AF6-6D71-429F-B7D6-83EEB74844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9:02Z</dcterms:modified>
  <cp:revision>271</cp:revision>
  <dc:subject/>
  <dc:title>Diapositive 1</dc:title>
</cp:coreProperties>
</file>