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F2CF3-7B93-463D-B30D-2C7CB7EF1A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3F1DA-EDD2-43D2-B5DC-DCAFABD97C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965A6-88A6-451B-950D-E12696391F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49F2A-58EB-45E6-889A-C2907FB12A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E9448-8920-46B2-B7D1-9534A4859C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FAAC0-41BF-4ED2-BD1D-14CE5B892B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E452F-18E6-4DA5-8B9C-6515B78108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FA5E4-5AA7-4605-B43D-6EF48A8C1B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DA1CC-3F4B-4FB0-A8F6-9E992A60D1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207A1-F181-435F-9819-AC589FC40E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9BAD0-4295-4CD9-A3F2-1F227B7D22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500AE-FA52-4543-86C3-E68AABDBE9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A2FF9C07-A3E1-4EFD-B366-F3DA15C34319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ription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œuvre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uverture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vertur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hronologiq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géograph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si jugé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impor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dans la zone 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851280"/>
            <a:ext cx="7696080" cy="1922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00 ## $a Basé sur les statistiques de 1981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00 ## $a Représente l’intégralité de l’Europe occidentale et une partie de l’Europe oriental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2CB2F-7784-42C0-87DB-00B96A87CD9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œuvres –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ublic ci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LC pour le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ressources destinées à la jeune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Classe d’utilis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008/2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zon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5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4120" y="4343400"/>
            <a:ext cx="737388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21 ## $a Pour enfants de 7-9 an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21 ## $a Pour des programmes de rattrapage de lectur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59EAE-5C6E-403B-A56F-9B0C295B563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œuvres –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formation sur la thèse ou le mémoi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onditions formelle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requises pour l’obtention d’un diplôme universit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Nouvelles sous-zones de la zon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5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 diplôme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$c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 nom de l’institution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$d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 an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08200" y="5041800"/>
            <a:ext cx="80755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02 ## $b M.A. $c Université Laval $d 1974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00 ## $a Basé sur la thèse de l’auteur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FED2D-00EF-4885-9E9D-84E1CD4C67C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Contenu – </a:t>
            </a:r>
            <a:br>
              <a:rPr sz="2800"/>
            </a:b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Attributs des expressions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07310-C50E-4FB4-8639-1D50BCB3A3C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expression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ésumé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7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C pour l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littérature pour la jeunes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 synthèse, un résumé, un synopsi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si jugé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C-PCC PS 7.10.1.3 sur l’utilisation des zones MARC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52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8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7C262-F968-4759-B11E-320E5BC99D1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expression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ngue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7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Élément fondamental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si jugée impor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s 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008/35-3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04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5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LC-PCC PS 7.12.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plus de la langue prédominante, les autres langues présentes (dans les résumés, les tables des matières, etc.) sont codées si jugées importantes pour l’identification ou la sé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ser les codes de langue du </a:t>
            </a:r>
            <a:r>
              <a:rPr b="0" i="1" lang="en-US" sz="2400" spc="-1" strike="noStrike">
                <a:solidFill>
                  <a:srgbClr val="008080"/>
                </a:solidFill>
                <a:latin typeface="Arial"/>
              </a:rPr>
              <a:t>format MA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7FC70-9D80-4F4A-B9A1-9BAC048EB8B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expression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me de la no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7.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Élément fondamental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 L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certaines écritures et pour les formes de notation musi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emble de signes et/ou de symboles utilisés pour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exprim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 contenu linguistique écr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C-PCC PS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7.13.2.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44480" y="4545000"/>
            <a:ext cx="7131240" cy="1831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Verdana"/>
                <a:ea typeface="SimSun"/>
              </a:rPr>
              <a:t>1.</a:t>
            </a:r>
            <a:r>
              <a:rPr b="0" lang="en" sz="18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r>
              <a:rPr b="1" lang="en" sz="2400" spc="-1" strike="noStrike">
                <a:solidFill>
                  <a:srgbClr val="008080"/>
                </a:solidFill>
                <a:latin typeface="Courier New"/>
                <a:ea typeface="SimSun"/>
              </a:rPr>
              <a:t>Dévanâgarî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Verdana"/>
                <a:ea typeface="SimSun"/>
              </a:rPr>
              <a:t>2.</a:t>
            </a:r>
            <a:r>
              <a:rPr b="1" lang="en" sz="2400" spc="-1" strike="noStrike">
                <a:solidFill>
                  <a:srgbClr val="000000"/>
                </a:solidFill>
                <a:latin typeface="Courier New"/>
                <a:ea typeface="SimSun"/>
              </a:rPr>
              <a:t>	</a:t>
            </a:r>
            <a:r>
              <a:rPr b="1" lang="en" sz="2400" spc="-1" strike="noStrike">
                <a:solidFill>
                  <a:srgbClr val="008080"/>
                </a:solidFill>
                <a:latin typeface="Courier New"/>
                <a:ea typeface="SimSun"/>
              </a:rPr>
              <a:t>Arménien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Courier New"/>
                <a:ea typeface="SimSun"/>
              </a:rPr>
              <a:t>	</a:t>
            </a:r>
            <a:r>
              <a:rPr b="1" lang="en" sz="2400" spc="-1" strike="noStrike">
                <a:solidFill>
                  <a:srgbClr val="008080"/>
                </a:solidFill>
                <a:latin typeface="Courier New"/>
                <a:ea typeface="SimSun"/>
              </a:rPr>
              <a:t>Cyrilliqu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Courier New"/>
                <a:ea typeface="SimSun"/>
              </a:rPr>
              <a:t>	</a:t>
            </a:r>
            <a:r>
              <a:rPr b="0" lang="en" sz="2200" spc="-1" strike="noStrike">
                <a:solidFill>
                  <a:srgbClr val="000000"/>
                </a:solidFill>
                <a:latin typeface="Verdana"/>
                <a:ea typeface="SimSun"/>
              </a:rPr>
              <a:t>(</a:t>
            </a:r>
            <a:r>
              <a:rPr b="0" lang="fr-CA" sz="2200" spc="-1" strike="noStrike">
                <a:solidFill>
                  <a:srgbClr val="000000"/>
                </a:solidFill>
                <a:latin typeface="Verdana"/>
                <a:ea typeface="SimSun"/>
              </a:rPr>
              <a:t>ressource écrite dans les deux écritures</a:t>
            </a:r>
            <a:r>
              <a:rPr b="0" lang="en" sz="22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DCF18-0D84-4714-BEF6-0B8C236A3EB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expression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supplémentai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7.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Élément fondamental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 L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les index et les bibliographies des monograph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gement du catalogu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s MARC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50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785D9-379F-4C1B-9B33-3B9487F3ECC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expression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bliographies et index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69640" y="1346040"/>
            <a:ext cx="86137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456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LC-PCC PS 7.16.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ser pour les références bibliographiques, discographies, filmographies, index, annexes, papillons ou feuilles d’err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énéralement, indiquer s’il y a des références bibliograph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040" indent="-214560">
              <a:lnSpc>
                <a:spcPct val="90000"/>
              </a:lnSpc>
              <a:spcBef>
                <a:spcPts val="575"/>
              </a:spcBef>
              <a:buClr>
                <a:srgbClr val="008080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504 ##  $a Comprend des références bibliographiqu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’il y a une bibliographie, indiquer aussi les pages ou les feuillets où elle se trou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040" indent="-214560">
              <a:lnSpc>
                <a:spcPct val="90000"/>
              </a:lnSpc>
              <a:spcBef>
                <a:spcPts val="575"/>
              </a:spcBef>
              <a:buClr>
                <a:srgbClr val="008080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504 ##  $a Comprend des références bibliographiques (pages 310-3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quer s’il y a un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040" indent="-214560">
              <a:lnSpc>
                <a:spcPct val="90000"/>
              </a:lnSpc>
              <a:spcBef>
                <a:spcPts val="575"/>
              </a:spcBef>
              <a:buClr>
                <a:srgbClr val="008080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500 ##  $a Comprend un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combinée de bibliographie et d’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040" indent="-214560">
              <a:lnSpc>
                <a:spcPct val="90000"/>
              </a:lnSpc>
              <a:spcBef>
                <a:spcPts val="575"/>
              </a:spcBef>
              <a:buClr>
                <a:srgbClr val="008080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504 ##  $a Comprend des références bibliographiques et un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92EA5-6A71-43CB-B8C3-FDE1C4C434D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ributs du contenu enregistrés dans la zone 300 du format MA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ributs des œuv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ributs des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BFDF4-10B1-4C9A-86EF-EF597C69951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gnes directrices générale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Chapitr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endre l’information utilisée pour la description du contenu de l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ressource elle-mê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ans certains cas, l’information peut également être prise de sources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extérieures à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A155F-014B-4696-A29A-6F720DA5724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u contenu enregistrés dans la zone 300 du format MAR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Éléments associés au contenu, ils se retrouvent au chapitr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es RDA (et non au chapitre 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tenu illustratif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15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tenu de couleur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17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upport matériel et contenu dans la zone 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1A90F-8A06-448B-836A-077E580C5F8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– 30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illustratif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Élément fondamental LC pour le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ressources destinées à la jeune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.15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Enregistrer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700" spc="-1" strike="noStrike">
                <a:solidFill>
                  <a:srgbClr val="008093"/>
                </a:solidFill>
                <a:latin typeface="Arial"/>
              </a:rPr>
              <a:t>illustration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700" spc="-1" strike="noStrike">
                <a:solidFill>
                  <a:srgbClr val="008093"/>
                </a:solidFill>
                <a:latin typeface="Arial"/>
              </a:rPr>
              <a:t>illustrations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selon le ca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LC-PCC PS</a:t>
            </a:r>
            <a:r>
              <a:rPr b="0" lang="fr-CA" sz="2700" spc="-1" strike="noStrike">
                <a:solidFill>
                  <a:srgbClr val="008093"/>
                </a:solidFill>
                <a:latin typeface="Arial"/>
              </a:rPr>
              <a:t> 7.15.1.3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: Généralement, ne pas appliquer l’alternative (ajout du type d’illustration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Enregistrer dans la zone MARC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008/18-21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et dans la zon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00 $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3904C-B7D3-4D66-9D3C-5684065EC72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– 30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de coul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 un élément fondamental L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300 $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572000"/>
            <a:ext cx="8305920" cy="94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 couleu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les illustrations sont en couleur) 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 partie en couleur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10 cartes, dont certaines sont en couleur)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incipalement en couleur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illustrations, majoritairement en couleur)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766B0-F45C-4B43-A8F5-1A557C33085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– 30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ngement important par rapport aux RCAA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as d’abrév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uleur (pas « coul. 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fac-similés  (pas « fac-sim. 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llustrations  (pas « ill. 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534D3-7895-4874-807E-79BCAC47819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Contenu – </a:t>
            </a:r>
            <a:br>
              <a:rPr sz="2800"/>
            </a:b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Attributs des œuvres 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C13F7-BBDA-4E62-AE33-5970D7A1F8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œuvre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ture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actéristique du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ontenu princip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si jugé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impor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dans la zone 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008/24-2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 cas échéant, et dans la zon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61920" y="4465800"/>
            <a:ext cx="68580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00 ## $a Singspiel en deux acte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00 ## $a Tableur avec traitement de texte et capacités graphique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D43B9-70E8-4D58-BD94-6B1CF766205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Pat Riva</cp:lastModifiedBy>
  <cp:lastPrinted>2010-10-18T15:40:26Z</cp:lastPrinted>
  <dcterms:modified xsi:type="dcterms:W3CDTF">2013-11-28T22:29:02Z</dcterms:modified>
  <cp:revision>271</cp:revision>
  <dc:subject/>
  <dc:title>Diapositive 1</dc:title>
</cp:coreProperties>
</file>