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FBA7-9BD7-4281-9C85-6860FE819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5AE9-432B-4B02-B752-E6FF90F60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A40D-3247-45E5-90AF-09FFE5FB6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A664-002B-4480-BB50-C86FDABCD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CD2F-14D7-4197-9071-F7D0A47E0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4B42-A0D3-4082-B5EF-661044D1E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22DF-EDC2-479D-BA68-33DF4200E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4106-EFD4-4CBB-8411-2E7441B12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3D06-7303-4148-9672-7514889C5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D83F-E4DB-424B-AF77-9A1AD078C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985C-B80E-4A78-A647-FF9C975B9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8E87-8D2B-41C0-92CD-514CEC5D6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E3980B5-C64B-44EA-A7BA-E4C4709D592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57D2-B924-45B0-B2D1-D68828EC46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4624-E45B-4E4E-A260-6A3404B69F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D05B-5E23-45E9-A8CB-2C72F74D6B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F753-5BFA-46E8-B372-EAF2551811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7191-13E0-4665-B279-7EEEE100B0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E96C-F658-4FD0-B091-0140B41C54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0023-85AE-4015-BE75-E21FBB517F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75AC-2BDA-4DEB-AF2D-28D36E7FB8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6EDA-5858-4607-B379-BDC78E587F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BE94-23B9-4891-87C7-3E5142DE9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DF94-E4D4-4A1C-A93A-D50F0401A6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7FB8-C40A-4DBA-8E6C-31B369669E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8474-1307-4164-97AE-B9E84FE029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E018-50B7-43E0-B970-18923460B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94F8B-2992-4033-921B-F4AD472793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FB79-4F14-4567-B275-2C4FD1D03C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8278-60B9-4D65-9531-DB029AB41A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9:21Z</dcterms:modified>
  <cp:revision>271</cp:revision>
  <dc:subject/>
  <dc:title>Diapositive 1</dc:title>
</cp:coreProperties>
</file>