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1310-054E-4EF1-86E1-085A767E8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EC82-3423-4813-9817-58F996F76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F74E-F791-4041-9A71-3E5F75FAA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B8C5-F0BD-4D46-BBB0-3D8DB85A4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90C1-5093-4F31-9C51-15B8135BD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89A8-74BA-4DAD-ADBB-8AAC8D119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5E4A-8485-491D-B58F-9BC7D8EF5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4C7D-3635-4F20-938D-4F6EF8E73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B84C-D191-4679-BA40-7C7CEF1CD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5B5B-3A0B-411F-AECA-0F2A4F5E1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353D-908A-4C49-8B56-13B50F924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D4FC-69DE-449F-8851-E489A5C1E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ABFFDB4-4552-47B6-98CB-A8A06B1E30E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1F10-74BC-4F4F-BBA3-31433540D5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621C-2099-4C5D-B57A-783D0F2AF8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68D0-7661-4E4E-9B10-F0D639D78F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6563-8CC8-426F-8BF0-E872A37FB1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2910-D8D4-4D0A-81AF-50AA08914D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7708-49E8-4816-8BF4-1F3EB349EC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E007-CD55-4F17-AD42-6AAD8D1970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C6F5-1A0D-4595-AC62-2DB32FADEA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DC8B-6E42-47CC-99CC-008596A565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B314-09F5-4AA1-AEEA-E3F485D1A0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96A7-CF26-46C0-AF8A-E5D588F8E8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134B-97D9-4CDB-97D7-64729C9C8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A853-4275-4965-8906-77904CA93D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D386-A6FB-40FA-923A-DD3A78D4F4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8340-DE4B-4FF2-8AB5-2F6976E454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E40B-5610-435D-9D14-660E1A27CB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A3E8-C5FA-42B1-A6F3-1387E0AB5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9:21Z</dcterms:modified>
  <cp:revision>271</cp:revision>
  <dc:subject/>
  <dc:title>Diapositive 1</dc:title>
</cp:coreProperties>
</file>