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BD2B673C-2940-4E04-BFA1-BF229A4DBDCF}" type="datetime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-07-29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3 - Description des supports matériels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C5AF014E-88C8-4E9C-B5B8-51C307E7FB5F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3 - Description des supports matériels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4CD7B360-6A61-486A-853E-52C4385E8604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C79FE-FD78-4E8D-89C8-A8B05C8BCE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0399F-5F43-466E-8429-AE6057577F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D4616-9951-4FE9-A248-AAD6615DEA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B43F1-5209-489C-AA4E-714BD05FB4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C2490-6F00-4722-B0EF-3B03E5728A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1029C-DA34-4BEF-886F-E3C80782E7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8BB64-9F6F-46C5-A524-70982D048D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13BE3-4476-4F39-AA5E-04B647BC58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EAD9A-7483-4CF3-9CCF-138341CFEB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7D7A3-A656-4DAF-B666-E7B38C5E0C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0A3CA-82F4-4EA9-B8FA-6FD1E4D480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2F1AB-88FD-4FCF-A35D-5C3A53E897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18A9B41-8296-40A2-8D40-58FE58B50A0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haworthpress.com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C26D75B-8C66-4151-85B0-570902079B0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Zones MARC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000000"/>
                </a:solidFill>
                <a:uFillTx/>
                <a:latin typeface="Arial"/>
              </a:rPr>
              <a:t>Liv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336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texte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337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sans médiatio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338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volume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C34EAD0-976D-464E-8C5F-EFC5931AD21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: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la ressource est complète ou si l’importance matérielle totale est con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Le nombre et le type d’unités et/ou de sous-unités formant une ressourc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Uni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= composant physique ou logique d’une ressource (par exemple, 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ous-uni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= subdivision physique ou logique d’une unité (par exemple, une page d’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00 $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5785496-F252-4360-B1B2-9C243800241F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nregistrement de l’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onner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a ressource est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omplèt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’importance matérielle totale est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on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4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onner le nombre d’unités et le terme appropri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fois un terme de la liste de supports matériels (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3.1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autre terme pour désigner le type d’unité (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1.5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si le terme n’est pas dans la liste, ou préférer un terme d’usage com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lusieurs catégories couvertes par les exceptions (par exemple, texte, images fixes, musique notée, ressources cartographiqu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BC16935-1DD3-4E5B-8AF3-AEF89BD85CB1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Importance matérielle du tex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seul volume avec pages, feuillets ou colonnes numérotés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5.2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seul volume avec pages, feuillets ou colonnes non numérotés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5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RDA donne une liste de trois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LC-PCC PS 3.4.5.3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continue la pratique RCA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51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Pour le catalogage original LC, habituellement suivre la méthode c) </a:t>
            </a:r>
            <a:br>
              <a:rPr sz="1800"/>
            </a:br>
            <a:r>
              <a:rPr b="0" lang="fr-CA" sz="1800" spc="-1" strike="noStrike">
                <a:solidFill>
                  <a:srgbClr val="008093"/>
                </a:solidFill>
                <a:latin typeface="Arial"/>
              </a:rPr>
              <a:t>1 volume (non pagin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gination complexe ou irrégulière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5.8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RDA donne une liste de trois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LC-PCC PS 3.4.5.8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continue la pratique RCA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51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Pour le catalogage original LC, habituellement suivre la méthode c) </a:t>
            </a:r>
            <a:br>
              <a:rPr sz="1800"/>
            </a:br>
            <a:r>
              <a:rPr b="0" lang="fr-CA" sz="1800" spc="-1" strike="noStrike">
                <a:solidFill>
                  <a:srgbClr val="008093"/>
                </a:solidFill>
                <a:latin typeface="Arial"/>
              </a:rPr>
              <a:t>1 volume (pagination multi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F2F81FC-9E78-4E09-8910-D775E863D8D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hangements de RCAA2 reliés à l’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e pas utiliser d’abréviation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par exemple, « pages », « volumes », pas « p. », « v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envir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env. ») et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’est-à-d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i.e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on numéro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, plutôt que des crochets autour des chiff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ention aux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hangements de vocabula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par exemple: « disque informatique » est utilisé pour « disque d’ordinateur » et « disque optique d’ordinateur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7879F6B-102C-45E1-9206-04DE09F56BC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lément fondamental LC pour les ressources autres que les publications en série et les ressources en lig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Mesures du ou des supports matériels et/ou du conteneur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rrondies au centimètre supéri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cm » et « mm » sont des symboles, pas des abré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utiliser le point ISBD après le symbole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seulement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si une zone 490 apparaît dans la no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00 $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DF67A90-0D51-42E7-B7DE-76664829CD2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Pratiques LC et BAC/BAnQ : Dim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lternative sous 3.5.1.3 :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atique LC : Utiliser l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pouc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 les disques (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5.1.4.4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et pour tous les supports matériels audio; sinon, suivre l’instruction RDA telle qu’éc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atique BAC/BAnQ : Suivre l’instruction RDA telle qu’écrite et toujours employer l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unités métr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ratique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ublications en série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ter que la dimension n’est pas un élément fondamental pour les publications en série et les ressources en lig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is vous pouvez l’enregistrer si vous le voul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6BE1256-3162-41D2-9670-CCDEFBF29A2F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000000"/>
                </a:solidFill>
                <a:uFillTx/>
                <a:latin typeface="Arial"/>
              </a:rPr>
              <a:t>Liv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00 $a 123 pages, 28 pages no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numérot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text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txt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sans médiation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volum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c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Arial"/>
              </a:rPr>
              <a:t>Note : $b est op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BE0182D-D4A8-4D0A-B32A-4CFC8A59206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DV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DVD       {ou: 1 vidéodisqu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mage animée bidimensionnell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idé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idéodis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PDF en lign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ressource en ligne (39 p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nformati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essource en lign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6D581B9-E45E-49F9-871C-68672217C9F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 u="sng">
                <a:solidFill>
                  <a:srgbClr val="000000"/>
                </a:solidFill>
                <a:uFillTx/>
                <a:latin typeface="Arial"/>
              </a:rPr>
              <a:t>Site web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(avec cartes, texte et photographies)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300 $a 1 ressource en lig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image cartographiqu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</a:t>
            </a:r>
            <a:br>
              <a:rPr sz="2200"/>
            </a:b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image fix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informatiqu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ressource en lign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Note : si des notices dérivées répètent les sous-zones $a plutôt que la zone 336, vous pouvez les accepter comme elles son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336  $a texte $a image cartographique $a image fixe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ABC8DC7-4EF4-4073-A805-0040A15E11ED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utres éléments des manifestations et de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6E0EF44-2F5D-45F7-9483-1BDAD7499CA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 u="sng">
                <a:solidFill>
                  <a:srgbClr val="000000"/>
                </a:solidFill>
                <a:uFillTx/>
                <a:latin typeface="Arial"/>
              </a:rPr>
              <a:t>Livre avec un accompagnement (CD de conférence)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fr-CA" sz="2200" spc="-1" strike="noStrike">
                <a:solidFill>
                  <a:srgbClr val="ff0000"/>
                </a:solidFill>
                <a:latin typeface="Arial"/>
              </a:rPr>
              <a:t>$3 et $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00 $a 244 pages ...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+ $e 1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text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parole énoncé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sans médiation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volum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disque 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0000"/>
                </a:solidFill>
                <a:latin typeface="Arial"/>
              </a:rPr>
              <a:t>Note :  </a:t>
            </a:r>
            <a:r>
              <a:rPr b="1" i="1" lang="fr-CA" sz="2000" spc="-1" strike="noStrike">
                <a:solidFill>
                  <a:srgbClr val="ff0000"/>
                </a:solidFill>
                <a:latin typeface="Arial"/>
              </a:rPr>
              <a:t>L’utilisation du $3 est optionnelle dans cet exe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épéter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l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zone 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244 page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1 CD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donner un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500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a Accompagné d’un CD publié par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A174A70-1980-429C-A7D5-7C9AC798B96F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4120" y="188244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D d’histoire oral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parole énonc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disque 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Livre audio Playaway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Playaway (ou 1 lecteur audio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dédié ou 1 lecteur numérique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dédi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parole énonc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tr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07BF009-8A4B-4F1A-94FF-62286B86755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Ensemble multi-supports (contient un livre au sujet d’un pompier, un CD de narration et un casque de pompier)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CD, 1 livre, 1 casque en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plas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parole énonc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form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ridimensionnell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disque 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olum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ob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762120" y="5622840"/>
            <a:ext cx="83818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1600" spc="-1" strike="noStrike">
                <a:solidFill>
                  <a:srgbClr val="ff0000"/>
                </a:solidFill>
                <a:latin typeface="Verdana"/>
              </a:rPr>
              <a:t>*</a:t>
            </a:r>
            <a:r>
              <a:rPr b="1" lang="fr-CA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CA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CA" sz="1600" spc="-1" strike="noStrike">
                <a:solidFill>
                  <a:srgbClr val="ff0000"/>
                </a:solidFill>
                <a:latin typeface="Verdana"/>
              </a:rPr>
              <a:t>L’utilisation de plusieurs sous-zones $a dans la zone 336 est acceptable si c’est une notice dérivée, mais pour du catalogage original, LC enregistre des zones 33X séparées</a:t>
            </a:r>
            <a:r>
              <a:rPr b="1" lang="fr-CA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E89EE29-4C6C-46AA-89E4-C9D60529B9D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Parti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partition de chant (xii, 300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p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usique not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olum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arte géographiqu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c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mage cartographi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feuill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CA75A0D-6249-4287-83F4-5B0F97987B7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éléments des manifestations et d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8093"/>
                </a:solidFill>
                <a:latin typeface="Arial"/>
              </a:rPr>
              <a:t>Information relative à l’acquisition et à l’accè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Modalités d’acquisition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2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oordonnées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trictions d’accès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4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trictions d’usage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5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dresse URL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6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D89FF23-2AD3-452E-8233-632D2271122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odalités d’acquis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 : En général, ne pas donner de prix ou d’autres informations d’acquisition sauf pour les partitions en location ou le matériel de performance en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020  $a 0460044524 : $c matériel en </a:t>
            </a: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3129E7E-32CB-4E6E-ACA4-36F23EC19A1D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oordonné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r les coordonnées d’un éditeur, d’un diffuseur ou d’un distributeur, etc. si elles sont jugées importantes pour l’acquisition ou l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037 $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Exempl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www.HaworthPres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Alabama Department of Archives and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624 Washington Avenue, Montgomery, AL 36130-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AEE090A-9AD1-4EEA-913A-88AF22ED706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strictions d’accè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4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r toutes les restrictions d’accès à la ressource y compris la nature et la durée de la restriction de manière aussi précise que possible. L’absence de restrictions peut également être notée si elle est jugée 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5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ccès restreint aux abonnés via un nom d’usager et un mot de passe ou une authentification d’adresse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BDC985C-2C4A-40DE-A07D-2D31FB8D401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strictions d’us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: La condition fondamentale est limitée aux collections non générales de la  Library of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5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Le visionnement de ce film est restreint à l’utilisation en clas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603B7D1-409D-41C5-A0DB-68626A2FB7C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dresse UR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dresse de la ressource accessible en ligne qui est catalogu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 4.6.1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– S’il y a plus d’une adresse URL pour la ressource, toutes les enregist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8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C572236-E2D7-441B-9069-BC9A1906AAEB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n ne discutera pas des éléments spécifiques pour les ressources de formats spéciaux (films, cartes, partition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xemples disponibles dans RDA, dans la documentation MARC et dans la compilation d’exemples de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089C0E7-3157-495B-8581-467E2C946F3B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dresse UR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hangements nécessitant l’ajout, la révision ou la suppression d’une adresse UR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6.1.4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on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la pratique LC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deux situations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Quand l’URL original n’est plus ac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Quand l’URL original est toujours actif, mais la ressource originale n’est plus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42F9044-9C25-44CC-A9C3-6187D7EAF121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contenant du 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’enregistrement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2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upport d’enregistrement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tesse de lectur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4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ractéristique de sill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5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figuration de pist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figuration de bande magnétiqu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figuration des canaux de reproduc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ractéristiques de lecture particulières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8ADAC51-B9C0-4BAB-B7EC-A1230914C58F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contenant des images anim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océdé de projection (film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7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tesse de projection (film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ormat vidéo (enregistrement vidéo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rme de diffusion (enregistrement vidéo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0D37C35-60C1-4E19-9744-6DD4901436F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électroniques (fichiers numériqu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fichier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2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ormat d’encodag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aille du fichier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ésolu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de de rég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tesse de transmiss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te de visualisa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2.20.1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quipement ou système requis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6A18E4C-4A1F-4E08-BE21-AAEC8674550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cartograph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isposi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1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ractéristiques du fichier numériqu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ongitude et latitud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4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chelle des longueurs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5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chelle des hauteurs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5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nformation supplémentaire sur l’échell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ojection de contenu cartographiqu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576E56A-99D0-4807-A038-0510EF75CAD1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music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orme de la notation musicale (partitions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3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ésentation de la musique notée (partitions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0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istribution d’exécution d’un contenu musical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1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2B1AC5B-7C63-46BF-ACC2-13A401DF4E2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mplacement de l’IGGD - 245 $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Trois nouvelles zones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ontenu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-- RDA 6.9 --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médi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-- RDA 3.2 --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upport matérie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-- RDA 3.3 --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BAB1D34-29A1-4A3C-A16C-3A233F9B80C9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pour contenu, média,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ns chacune des trois zones pour ces éléments (336-338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a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te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b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2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« 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dacontent 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» ou « 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damedia 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» ou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« 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dacarrier 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» comme il conv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3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documents précisés – donner si 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cela s’app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lia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8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numéro de liaison de zone et de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sé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06E3D3A-89F0-43AE-B33B-EC49C298884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ocabulaires contrôlés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 Types de contenu, média,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ist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fermé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ans 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9.1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2.1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3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plus d’un </a:t>
            </a: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terme est appropri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deux choix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out donner: répéter la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le terme représentant le contenu/média/support prédominant ou le plus considé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l’information n’est pas connu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enregistrer « non précisé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aucun terme n’est appropri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enregistrer « autre » et si désiré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vertir un des membres du C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6C0AA44-E5FF-4EA2-88AA-3D589A05110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6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 …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forme fondamentale de communic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ous laquelle le contenu est exprimé et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ens humai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ar lequel il doit être perçu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1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contenu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54120" y="5541840"/>
            <a:ext cx="7912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Exemples :</a:t>
            </a: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</a:t>
            </a:r>
            <a:r>
              <a:rPr b="1" i="1" lang="fr-CA" sz="2400" spc="-1" strike="noStrike">
                <a:solidFill>
                  <a:srgbClr val="008093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usique exécutée</a:t>
            </a:r>
            <a:br>
              <a:rPr sz="2400"/>
            </a:b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image fixe</a:t>
            </a:r>
            <a:br>
              <a:rPr sz="2400"/>
            </a:b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text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7F96D0A-F043-4691-8365-2F371413EB7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ype de méd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lément fondamental L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type général de dispositif de médi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equis pour visionner, faire fonctionner, faire défiler, etc., le contenu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média qui s’applique à la partie prédominante ou aux parties les plus considérables de la res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654120" y="5483160"/>
            <a:ext cx="7912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659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audio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informatique</a:t>
            </a:r>
            <a:br>
              <a:rPr sz="2400"/>
            </a:b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microforme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sans médiatio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A346CB2-8241-4EFF-AA50-FAE18A36F66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ype de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forma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u support de stockage et du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ontenan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’un support matériel combiné avec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type de dispositif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de médi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equis …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ermes listés à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3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support matériel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615960" y="5675400"/>
            <a:ext cx="852804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disque audio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disque informatique</a:t>
            </a:r>
            <a:br>
              <a:rPr sz="2200"/>
            </a:b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microfiche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volume - vidéodisqu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Riva Pat</cp:lastModifiedBy>
  <cp:lastPrinted>2010-10-18T15:40:26Z</cp:lastPrinted>
  <dcterms:modified xsi:type="dcterms:W3CDTF">2014-11-05T18:19:56Z</dcterms:modified>
  <cp:revision>261</cp:revision>
  <dc:subject/>
  <dc:title>Diapositive 1</dc:title>
</cp:coreProperties>
</file>