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BF422606-3748-47EC-BEEB-93BF6488435D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62BE2E3C-8B8C-47F4-B0E2-5580C7636EE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CE1AFB94-199E-40A4-A0A7-2F725126F5D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CEDF9-6040-422C-A47C-BCCDE9879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13497-8853-412A-9BBA-B573D4937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2ABA-AB7B-4255-AC5D-B68E6CE6C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944DB-624C-40E0-9F2A-9D06F76275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9EF8C-8D8C-4D47-AFC1-D2DA9105BA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8FEE8-762E-4CEB-B760-9936A0D91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A293B-EDD4-4624-9ABA-9AF1F9AD7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A205A-9DD0-4219-94DE-3B9DF48EF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24B5E-5DEF-4059-ADBE-BB0130AB7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47EEE-C245-4341-BC23-86E61CE3F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DEADB-1517-43BD-AB50-DF912D610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9A180-DCC0-444F-8C2D-A3DED26BE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EB7155D-F356-40B9-A818-C3B218BA392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aworthpress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DE3CFD7-2761-4722-A0ED-8745F8E629F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6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7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8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9C73992-8761-4409-BF02-8F789742D87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D88E512-AA6B-45C4-A45D-94CB68742E4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nregistrement de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ressourc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mplè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’importance matérielle total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le nombre d’unités et le terme appropri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fois un terme de la liste de supports matériel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autre terme pour désigner le type d’unité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1.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si le terme n’est pas dans la liste, ou préférer un terme d’usage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lusieurs catégories couvertes par les exceptions (par exemple, texte, images fixes, musique notée, ressources cartograph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EDA5DB8-45F3-4A84-AAB8-C028E29FA02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 du tex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on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3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non pagi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gination complexe ou irrégulièr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8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8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pagination mult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E37BB2A-D871-4274-AD06-3EEAC22B342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2456441-740A-4785-9F8A-FD2E9043EFF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FFB75A2-5544-4B14-8962-7D2FE6DE446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ratiques LC et BAC/BAnQ : 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lternative sous 3.5.1.3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LC : Utilis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pouc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es disque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.1.4.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et pour tous les supports matériels audio; sinon, suivre l’instruction RDA telle qu’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BAC/BAnQ : Suivre l’instruction RDA telle qu’écrite et toujours employ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ités mét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atique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ublications en série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er que la dimension n’est pas un élément fondamental pour les publications en série et les ressources en lig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is vous pouvez l’enregistrer si vous le vou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1830B3C-990B-4F4C-AE20-1EA458A90FE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AE2D91F-164A-4E7A-9801-1BF6CE1FA6D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V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DVD       {ou: 1 vidéodisqu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animée b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dis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DF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ressource en ligne (39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87626FA-C556-43DE-A8E8-DA6E9ACAD38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Site web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avec cartes, texte et photographies)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300 $a 1 ressource en lig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</a:t>
            </a:r>
            <a:br>
              <a:rPr sz="2200"/>
            </a:b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fix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e : si des notices dérivées répètent les sous-zones $a plutôt que la zone 336, vous pouvez les accepter comme elles so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336  $a texte $a image cartographique $a image fixe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E923F85-F7E6-4A32-AE1A-AC3C2F25EDE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9791F87-D8EB-450F-AAD4-D0E79B4EB11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Livre avec un accompagnement (CD de conférence)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22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Arial"/>
              </a:rPr>
              <a:t>Note :  </a:t>
            </a: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AB4F961-FCA6-4E02-BC9E-03903EDA814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88244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D d’histoire ora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Livre audio Playaway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layaway (ou 1 lecteur audio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 ou 1 lecteur numériqu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tr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B6D0B2A-6DDA-4A29-B3E1-B03A63E0A34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semble multi-supports (contient un livre au sujet d’un pompier, un CD de narration et un casque de pompier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, 1 livre, 1 casque en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la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or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r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62120" y="5622840"/>
            <a:ext cx="8381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1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L’utilisation de plusieurs sous-zones $a dans la zone 336 est acceptable si c’est une notice dérivée, mais pour du catalogage original, LC enregistre des zones 33X séparées</a:t>
            </a:r>
            <a:r>
              <a:rPr b="1" lang="fr-CA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77E83D2-FEE9-4E27-BAD1-37029E99F5F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artition de chant (xii, 300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not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arte géographiq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eui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C23F765-C971-47CC-B94C-A7D324FC2F6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2563EC7-9237-4C8A-94B1-3084647E714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odalités d’acqui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: En général, ne pas donner de prix ou d’autres informations d’acquisition sauf pour les partitions en location ou le matériel de performance e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020  $a 0460044524 : $c matériel en 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D693317-E2A7-4D78-B50C-FAB92F33559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or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les coordonnées d’un éditeur, d’un diffuseur ou d’un distributeur, etc. si elles sont jugées importantes pour l’acquisition ou l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037 $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Haworth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Alabama Department of Archives and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624 Washington Avenue, Montgomery, AL 36130-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E6E6C84-23E4-40FA-B51F-7ED857EAD38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accè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toutes les restrictions d’accès à la ressource y compris la nature et la durée de la restriction de manière aussi précise que possible. L’absence de restrictions peut également être notée si elle est jugée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5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ccès restreint aux abonnés via un nom d’usager et un mot de passe ou une authentification d’adress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D5CD658-E3D8-4BA3-A97C-0F3BB1E5E8F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u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: La condition fondamentale est limitée aux collections non générales de la  Library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e visionnement de ce film est restreint à l’utilisation en cl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E6D639B-6883-4A33-9CB2-16B1D23F455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de la ressource accessible en ligne qui est catalogu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4.6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– S’il y a plus d’une adresse URL pour la ressource, toutes les enregist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8A42139-5A4B-434A-A603-27C815E454F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63E819F-6F40-4B90-BE79-5BEFA6EA89D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ngements nécessitant l’ajout, la révision ou la suppression d’une adresse U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.1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on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 pra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eux situation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n’est plus a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est toujours actif, mais la ressource originale n’est plus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48FEAEB-1687-4BC7-8450-9AA1EC4E5E0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u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upport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lectur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 de sill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pist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bande magnétiqu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s canaux de reproduc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e lecture particulières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EE02CD3-193C-47BF-9B1C-52F93574031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es images anim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cédé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vidéo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rme de diffusion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050A01B-2EE4-4D2A-993D-C9C5B3D63EC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électroniques (fichiers numériq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d’encodag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aille du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olu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de de rég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transmiss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te de visualisa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2.20.1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quipement ou système requi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33A02A7-CC51-40F5-803A-7CF3C89D19E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artograph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posi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u fichier numér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ongitude et latitud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longu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haut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formation supplémentaire sur l’échell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jection de contenu cartograph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9ADD547-BCE2-4A30-A8E7-D67E664ED40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musi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e de la notation musical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3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sentation de la musique noté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0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ribution d’exécution d’un contenu musical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9B87673-3AF3-41CA-B010-100A32DA924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77EFFC5-E96E-431E-B7AA-64C5A08BC5C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pour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hacune des trois zones pour ces éléments (336-338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a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b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2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ontent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 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media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arrier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comme il con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ocuments précisés – donner si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8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numéro de liaison de zone et d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sé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A73F763-6274-4375-B991-B99D8BA52B2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ocabulaires contrôlés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 Types de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st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ermé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ans 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2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plus d’un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terme 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choix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donner: répéter la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e terme représentant le contenu/média/support prédominant ou le plus consid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l’information n’est pas conn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non précisé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aucun terme n’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autre » et si désiré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rtir un des membres du C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CCD2A57-2479-4A99-8EBA-D31B35010FD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fr-CA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179FFC8-37FA-4466-94BC-C8D44660080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A17F761-8641-4B02-8864-646D4C56C92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Riva Pat</cp:lastModifiedBy>
  <cp:lastPrinted>2010-10-18T15:40:26Z</cp:lastPrinted>
  <dcterms:modified xsi:type="dcterms:W3CDTF">2014-11-05T18:19:56Z</dcterms:modified>
  <cp:revision>261</cp:revision>
  <dc:subject/>
  <dc:title>Diapositive 1</dc:title>
</cp:coreProperties>
</file>