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  <a:def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fld id="{25B32032-4686-4D0E-9CE6-07F00DAEF937}" type="datetime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6-07-30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  <a:defRPr b="1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3 - Description des supports matériels</a:t>
            </a:r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  <a:def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fld id="{B9DFB322-6941-451C-8107-EBFEB5645A61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6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3 - Description des supports matériels</a:t>
            </a:r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fld id="{A353FA26-5B81-45C8-86B0-8BC376E1665D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E4AA5-1EE2-4AA5-A69D-9C8454199C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D56A7-F207-4795-AF54-1A13250BCD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EC430-B21A-435A-B6CB-BFEA60C921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F1C31-2C87-41E9-ABF8-1A9D7EEFBA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A0506-1F82-4D81-920E-CD5D49DCBF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9A5D8-E273-4CD1-8F46-1E68C4E678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CE168-A58C-4F55-8B3C-59E5167809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A5C03-B679-49E0-B0B1-FEC159782F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D4800-7F7D-4167-AEB0-6EE71ECC04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FB6B8-DAB0-4A9E-B4DD-25D75A0052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92BDF-5E8A-4F17-BF63-50CA83EEE2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48D57-1E53-4718-A98E-04D2CC5CAD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625C3DAA-75EF-428E-A6DB-A0940C326819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haworthpress.com/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Arial"/>
              </a:rPr>
              <a:t>Description des supports matérie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484B7C2F-C57B-4A10-890B-77F3D46CFD35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 :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Zones MARC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 u="sng">
                <a:solidFill>
                  <a:srgbClr val="000000"/>
                </a:solidFill>
                <a:uFillTx/>
                <a:latin typeface="Arial"/>
              </a:rPr>
              <a:t>Livr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336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texte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337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sans médiation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338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volume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carr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E3A3CA9F-B43B-4370-8CEB-42D7B19E0651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Importance matériel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219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Élément fondamental :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i la ressource est complète ou si l’importance matérielle totale est con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3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« Le nombre et le type d’unités et/ou de sous-unités formant une ressource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Unité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= composant physique ou logique d’une ressource (par exemple, un volu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Sous-unité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= subdivision physique ou logique d’une unité (par exemple, une page d’un volu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MARC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300 $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6EF809F9-3C2E-48DF-8FD1-7B5D9F112568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nregistrement de l’importance matériel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Donner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si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la ressource est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omplèt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si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l’importance matérielle totale est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on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3.4.1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Donner le nombre d’unités et le terme appropri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arfois un terme de la liste de supports matériels (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3.1.3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Un autre terme pour désigner le type d’unité (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4.1.5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 si le terme n’est pas dans la liste, ou préférer un terme d’usage comm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lusieurs catégories couvertes par les exceptions (par exemple, texte, images fixes, musique notée, ressources cartographiqu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7BB89EEC-DDFC-4BEF-9DE7-B375D2B331CA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Importance matérielle du tex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Un seul volume avec pages, feuillets ou colonnes numérotés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4.5.2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Un seul volume avec pages, feuillets ou colonnes non numérotés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4.5.3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RDA donne une liste de trois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8093"/>
                </a:solidFill>
                <a:latin typeface="Arial"/>
              </a:rPr>
              <a:t>LC-PCC PS 3.4.5.3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continue la pratique RCAA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451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Pour le catalogage original LC, habituellement suivre la méthode c) </a:t>
            </a:r>
            <a:br>
              <a:rPr sz="1800"/>
            </a:br>
            <a:r>
              <a:rPr b="0" lang="fr-CA" sz="1800" spc="-1" strike="noStrike">
                <a:solidFill>
                  <a:srgbClr val="008093"/>
                </a:solidFill>
                <a:latin typeface="Arial"/>
              </a:rPr>
              <a:t>1 volume (non paginé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agination complexe ou irrégulière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4.5.8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RDA donne une liste de trois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8093"/>
                </a:solidFill>
                <a:latin typeface="Arial"/>
              </a:rPr>
              <a:t>LC-PCC PS 3.4.5.8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continue la pratique RCAA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451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Pour le catalogage original LC, habituellement suivre la méthode c) </a:t>
            </a:r>
            <a:br>
              <a:rPr sz="1800"/>
            </a:br>
            <a:r>
              <a:rPr b="0" lang="fr-CA" sz="1800" spc="-1" strike="noStrike">
                <a:solidFill>
                  <a:srgbClr val="008093"/>
                </a:solidFill>
                <a:latin typeface="Arial"/>
              </a:rPr>
              <a:t>1 volume (pagination multip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A74D2CED-DA32-46B6-8DD4-C8722B6D5532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Changements de RCAA2 reliés à l’importance matériel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Ne pas utiliser d’abréviation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(par exemple, « pages », « volumes », pas « p. », « v. 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Utiliser « 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environ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 » (plutôt que « env. ») et « 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’est-à-dir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 » (plutôt que « i.e. 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Utiliser « 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non numéroté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 », plutôt que des crochets autour des chiff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ttention aux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hangements de vocabulair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, par exemple: « disque informatique » est utilisé pour « disque d’ordinateur » et « disque optique d’ordinateur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83E26740-0ED8-4FD3-BE9C-75AEEAD509D4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Élément fondamental LC pour les ressources autres que les publications en série et les ressources en lig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« Mesures du ou des supports matériels et/ou du conteneur d’une ressourc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rrondies au centimètre supéri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« cm » et « mm » sont des symboles, pas des abrév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utiliser le point ISBD après le symbole </a:t>
            </a:r>
            <a:r>
              <a:rPr b="0" lang="fr-CA" sz="2000" spc="-1" strike="noStrike">
                <a:solidFill>
                  <a:srgbClr val="008093"/>
                </a:solidFill>
                <a:latin typeface="Arial"/>
              </a:rPr>
              <a:t>seulement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si une zone 490 apparaît dans la no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00 $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64E43724-1BED-4B24-BFF9-956554203DDA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Pratiques LC et BAC/BAnQ : Dimen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2239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lternative sous 3.5.1.3 :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atique LC : Utiliser les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pouce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pour les disques (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5.1.4.4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 et pour tous les supports matériels audio; sinon, suivre l’instruction RDA telle qu’éc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atique BAC/BAnQ : Suivre l’instruction RDA telle qu’écrite et toujours employer les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unités métr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Pratique LC pour les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publications en série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Noter que la dimension n’est pas un élément fondamental pour les publications en série et les ressources en lig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Mais vous pouvez l’enregistrer si vous le voul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ED4B91E2-3709-4FA8-9F12-60CA9B3C89F3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 :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3760" y="1600200"/>
            <a:ext cx="848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 u="sng">
                <a:solidFill>
                  <a:srgbClr val="000000"/>
                </a:solidFill>
                <a:uFillTx/>
                <a:latin typeface="Arial"/>
              </a:rPr>
              <a:t>Livr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300 $a 123 pages, 28 pages non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numérot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336 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texte 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$b txt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337 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sans médiation 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$b n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338 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volume 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$b nc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carr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0000"/>
                </a:solidFill>
                <a:latin typeface="Arial"/>
              </a:rPr>
              <a:t>Note : $b est opti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60CAFCAF-5A91-4278-9BF0-66E4F17C7554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s :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DVD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00 $a 1 DVD       {ou: 1 vidéodisque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36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image animée bidimensionnell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37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vidéo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38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vidéodisqu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PDF en lign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00 $a 1 ressource en ligne (39 pag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36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text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37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informatiqu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38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ressource en lign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B8A1F177-41E8-485F-8B69-0B91A63BBE42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 :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53760" y="1600200"/>
            <a:ext cx="848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 u="sng">
                <a:solidFill>
                  <a:srgbClr val="000000"/>
                </a:solidFill>
                <a:uFillTx/>
                <a:latin typeface="Arial"/>
              </a:rPr>
              <a:t>Site web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 (avec cartes, texte et photographies)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300 $a 1 ressource en lig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texte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image cartographique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2</a:t>
            </a:r>
            <a:br>
              <a:rPr sz="2200"/>
            </a:b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rdacont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image fixe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337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informatique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338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ressource en ligne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Note : si des notices dérivées répètent les sous-zones $a plutôt que la zone 336, vous pouvez les accepter comme elles sont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336  $a texte $a image cartographique $a image fixe $2 rda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2F3AE7CE-8B9C-4A55-8756-E2BE628BD7E1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Description des supports matérie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Description des supports matéri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utres éléments des manifestations et des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0D60904E-1C7F-4C4C-8DF5-D5C62BF81843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 :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 u="sng">
                <a:solidFill>
                  <a:srgbClr val="000000"/>
                </a:solidFill>
                <a:uFillTx/>
                <a:latin typeface="Arial"/>
              </a:rPr>
              <a:t>Livre avec un accompagnement (CD de conférence)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fr-CA" sz="2200" spc="-1" strike="noStrike">
                <a:solidFill>
                  <a:srgbClr val="ff0000"/>
                </a:solidFill>
                <a:latin typeface="Arial"/>
              </a:rPr>
              <a:t>$3 et $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00 $a 244 pages ...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+ $e 1 C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6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livre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texte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6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CD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parole énoncée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7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livre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sans médiation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7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CD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audio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8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livre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volume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8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CD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disque audio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carri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0000"/>
                </a:solidFill>
                <a:latin typeface="Arial"/>
              </a:rPr>
              <a:t>Note :  </a:t>
            </a:r>
            <a:r>
              <a:rPr b="1" i="1" lang="fr-CA" sz="2000" spc="-1" strike="noStrike">
                <a:solidFill>
                  <a:srgbClr val="ff0000"/>
                </a:solidFill>
                <a:latin typeface="Arial"/>
              </a:rPr>
              <a:t>L’utilisation du $3 est optionnelle dans cet exe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u lieu de $e, peut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répéter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la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zone 3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30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$a 244 pages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30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$a 1 CD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u lieu de $e, peut donner un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n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500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a Accompagné d’un CD publié par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6DF1847A-0C78-45FE-B3EF-37436482B856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s :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54120" y="1882440"/>
            <a:ext cx="822960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CD d’histoire oral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00 $a 1 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parole énoncé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7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audio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8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disque audio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Livre audio Playaway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00 $a 1 Playaway (ou 1 lecteur audio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dédié ou 1 lecteur numérique</a:t>
            </a:r>
            <a:br>
              <a:rPr sz="2400"/>
            </a:b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dédié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parole énoncé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7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audio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8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autr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1482399E-0A8B-4AA4-9EEA-B5CBF2B977FE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 :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Ensemble multi-supports (contient un livre au sujet d’un pompier, un CD de narration et un casque de pompier)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00 $a 1 CD, 1 livre, 1 casque en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plas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parole énoncé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text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form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tridimensionnell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7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audio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sans médiation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8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disque audio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volum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obj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762120" y="5622840"/>
            <a:ext cx="838188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1600" spc="-1" strike="noStrike">
                <a:solidFill>
                  <a:srgbClr val="ff0000"/>
                </a:solidFill>
                <a:latin typeface="Verdana"/>
              </a:rPr>
              <a:t>*</a:t>
            </a:r>
            <a:r>
              <a:rPr b="1" lang="fr-CA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CA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CA" sz="1600" spc="-1" strike="noStrike">
                <a:solidFill>
                  <a:srgbClr val="ff0000"/>
                </a:solidFill>
                <a:latin typeface="Verdana"/>
              </a:rPr>
              <a:t>L’utilisation de plusieurs sous-zones $a dans la zone 336 est acceptable si c’est une notice dérivée, mais pour du catalogage original, LC enregistre des zones 33X séparées</a:t>
            </a:r>
            <a:r>
              <a:rPr b="1" lang="fr-CA" sz="20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035AD70F-F2A0-436C-8620-ABC900446C89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s :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Partit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00 $a 1 partition de chant (xii, 300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pag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musique noté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7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sans médiation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8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volum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Carte géographiqu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00 $a 1 ca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image cartographiqu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7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sans médiation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8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feuill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A893549B-511E-4AE7-B4B9-D6D9132DCEB2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utres éléments des manifestations et des ite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8093"/>
                </a:solidFill>
                <a:latin typeface="Arial"/>
              </a:rPr>
              <a:t>Information relative à l’acquisition et à l’accè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Modalités d’acquisition (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2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Coordonnées (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3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estrictions d’accès (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4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estrictions d’usage (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5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dresse URL (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6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1A4EDE87-7064-4B50-8747-052538AC271D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odalités d’acquisi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C-PCC PS : En général, ne pas donner de prix ou d’autres informations d’acquisition sauf pour les partitions en location ou le matériel de performance en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800" spc="-1" strike="noStrike">
                <a:solidFill>
                  <a:srgbClr val="000000"/>
                </a:solidFill>
                <a:latin typeface="Arial"/>
              </a:rPr>
              <a:t>Exempl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8093"/>
                </a:solidFill>
                <a:latin typeface="Courier New"/>
              </a:rPr>
              <a:t>020  $a 0460044524 : $c matériel en </a:t>
            </a:r>
            <a:r>
              <a:rPr b="1" lang="fr-CA" sz="28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8093"/>
                </a:solidFill>
                <a:latin typeface="Courier New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B7BEF423-2738-4BB5-B60D-09D8197678CD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Coordonné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4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nregistrer les coordonnées d’un éditeur, d’un diffuseur ou d’un distributeur, etc. si elles sont jugées importantes pour l’acquisition ou l’accè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037 $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Exemple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  <a:hlinkClick r:id="rId1"/>
              </a:rPr>
              <a:t>http://www.HaworthPres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Alabama Department of Archives and His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624 Washington Avenue, Montgomery, AL 36130-0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1A5C8C29-1075-4584-9296-80C8242A55AF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Restrictions d’accè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4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nregistrer toutes les restrictions d’accès à la ressource y compris la nature et la durée de la restriction de manière aussi précise que possible. L’absence de restrictions peut également être notée si elle est jugée impor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5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Exempl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Accès restreint aux abonnés via un nom d’usager et un mot de passe ou une authentification d’adresse 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24419E23-3B17-4004-ADDB-5E3CB64E3B11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Restrictions d’usag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C-PCC PS: La condition fondamentale est limitée aux collections non générales de la  Library of Con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5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800" spc="-1" strike="noStrike">
                <a:solidFill>
                  <a:srgbClr val="000000"/>
                </a:solidFill>
                <a:latin typeface="Arial"/>
              </a:rPr>
              <a:t>Exempl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8093"/>
                </a:solidFill>
                <a:latin typeface="Courier New"/>
              </a:rPr>
              <a:t>Le visionnement de ce film est restreint à l’utilisation en clas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9347FFF8-7646-4F51-9975-9E67516A858E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dresse UR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Élément fondamental L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dresse de la ressource accessible en ligne qui est catalogu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C-PCC PS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 4.6.1.3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– S’il y a plus d’une adresse URL pour la ressource, toutes les enregist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8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609CDCF7-FA85-4CA7-9FDC-55594653F149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Description des supports matérie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Chapitre </a:t>
            </a:r>
            <a:r>
              <a:rPr b="1" lang="fr-CA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On ne discutera pas des éléments spécifiques pour les ressources de formats spéciaux (films, cartes, partitions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Exemples disponibles dans RDA, dans la documentation MARC et dans la compilation d’exemples de 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48FAA0EE-AE33-4691-A4EA-25604F5A6719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dresse UR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Changements nécessitant l’ajout, la révision ou la suppression d’une adresse UR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C-PCC PS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6.1.4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onn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la pratique LC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pour deux situations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Quand l’URL original n’est plus act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Quand l’URL original est toujours actif, mais la ressource originale n’est plus dispon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C61FDE9A-7560-41B3-8F49-2EACA3236410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utres caractéristiqu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essources contenant du 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ype d’enregistrement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6.2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Support d’enregistrement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6.3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Vitesse de lecture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6.4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aractéristique de sillon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6.5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nfiguration de piste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6.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nfiguration de bande magnétique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6.7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nfiguration des canaux de reproduction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6.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aractéristiques de lecture particulières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6.9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47F34521-A9C1-4099-BF67-B468961569B6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utres caractéristiqu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essources contenant des images anim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océdé de projection (film)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7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Vitesse de projection (film)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7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Format vidéo (enregistrement vidéo)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Norme de diffusion (enregistrement vidéo)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D9F5104E-AA74-420D-9F1B-7F6B57983524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utres caractéristiqu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essources électroniques (fichiers numériqu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ype de fichier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9.2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Format d’encodage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9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aille du fichier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9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ésolution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9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de de région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9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Vitesse de transmission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9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ate de visualisation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2.20.13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Équipement ou système requis –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7484762F-98AA-40F1-866B-4277477C6CAC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utres caractéristiqu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essources cartographiq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isposition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1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aractéristiques du fichier numérique –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ongitude et latitude –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4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Échelle des longueurs –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25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Échelle des hauteurs –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25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Information supplémentaire sur l’échelle –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25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ojection de contenu cartographique –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C7AFFA3A-6B5E-43D6-A0B4-F6F9500D7787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utres caractéristiqu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essources musica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Forme de la notation musicale (partitions)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13.3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ésentation de la musique notée (partitions)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20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istribution d’exécution d’un contenu musical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21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F8A35879-AA81-4EFA-B5C0-AC36C35C9222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Remplacement de l’IGGD - 245 $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Trois nouvelles zones MA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ype d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contenu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-- RDA 6.9 -- 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ype d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média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-- RDA 3.2 -- 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ype d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support matériel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-- RDA 3.3 -- 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3506D6EE-8365-414A-9CA1-591E9397C090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ARC pour contenu, média, support matéri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219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ans chacune des trois zones pour ces éléments (336-338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4760" indent="-219240">
              <a:lnSpc>
                <a:spcPct val="90000"/>
              </a:lnSpc>
              <a:spcBef>
                <a:spcPts val="575"/>
              </a:spcBef>
              <a:buClr>
                <a:srgbClr val="008093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$a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ter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4760" indent="-219240">
              <a:lnSpc>
                <a:spcPct val="90000"/>
              </a:lnSpc>
              <a:spcBef>
                <a:spcPts val="575"/>
              </a:spcBef>
              <a:buClr>
                <a:srgbClr val="008093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$b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4760" indent="-219240">
              <a:lnSpc>
                <a:spcPct val="90000"/>
              </a:lnSpc>
              <a:spcBef>
                <a:spcPts val="575"/>
              </a:spcBef>
              <a:buClr>
                <a:srgbClr val="008093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$2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« 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rdacontent 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» ou « 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rdamedia 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» ou</a:t>
            </a:r>
            <a:br>
              <a:rPr sz="2400"/>
            </a:b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« 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rdacarrier 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» comme il conv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4760" indent="-219240">
              <a:lnSpc>
                <a:spcPct val="90000"/>
              </a:lnSpc>
              <a:spcBef>
                <a:spcPts val="575"/>
              </a:spcBef>
              <a:buClr>
                <a:srgbClr val="008093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$3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documents précisés – donner si </a:t>
            </a:r>
            <a:br>
              <a:rPr sz="2400"/>
            </a:b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cela s’appl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4760" indent="-2192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6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liai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4760" indent="-2192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8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numéro de liaison de zone et de</a:t>
            </a:r>
            <a:br>
              <a:rPr sz="2400"/>
            </a:b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séqu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E0272A41-5A5F-4033-A65F-8241CCC0F828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Vocabulaires contrôlés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 Types de contenu, média, support matéri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istes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fermée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ans 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6.9.1.3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3.2.1.3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3.3.1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i plus d’un </a:t>
            </a:r>
            <a:r>
              <a:rPr b="0" i="1" lang="fr-CA" sz="2800" spc="-1" strike="noStrike">
                <a:solidFill>
                  <a:srgbClr val="000000"/>
                </a:solidFill>
                <a:latin typeface="Arial"/>
              </a:rPr>
              <a:t>terme est approprié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deux choix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out donner: répéter la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endre le terme représentant le contenu/média/support prédominant ou le plus considé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0" i="1" lang="fr-CA" sz="2800" spc="-1" strike="noStrike">
                <a:solidFill>
                  <a:srgbClr val="000000"/>
                </a:solidFill>
                <a:latin typeface="Arial"/>
              </a:rPr>
              <a:t>l’information n’est pas connu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, enregistrer « non précisé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0" i="1" lang="fr-CA" sz="2800" spc="-1" strike="noStrike">
                <a:solidFill>
                  <a:srgbClr val="000000"/>
                </a:solidFill>
                <a:latin typeface="Arial"/>
              </a:rPr>
              <a:t>aucun terme n’est approprié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, enregistrer « autre » et si désiré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avertir un des membres du CC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34916EF7-F6F6-4CE9-AC3D-036AFD2B990D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Type de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6.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«  … l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forme fondamentale de communicat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sous laquelle le contenu est exprimé et l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sens humai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par lequel il doit être perçu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ermes du tableau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6.1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u lieu de tout enregistrer, vous pouvez enregistrer le type de contenu qui s’applique à la partie prédominante ou aux parties les plus considérables de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654120" y="5541840"/>
            <a:ext cx="7912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55680" indent="-215568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000000"/>
                </a:solidFill>
                <a:latin typeface="Courier New"/>
              </a:rPr>
              <a:t>Exemples :</a:t>
            </a:r>
            <a:r>
              <a:rPr b="1" i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-</a:t>
            </a:r>
            <a:r>
              <a:rPr b="1" i="1" lang="fr-CA" sz="2400" spc="-1" strike="noStrike">
                <a:solidFill>
                  <a:srgbClr val="008093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musique exécutée</a:t>
            </a:r>
            <a:br>
              <a:rPr sz="2400"/>
            </a:b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- image fixe</a:t>
            </a:r>
            <a:br>
              <a:rPr sz="2400"/>
            </a:b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- texte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6560414A-BDE5-45E4-8D02-E016B3D04C8F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Type de méd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Élément fondamental L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« … l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type général de dispositif de médiat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requis pour visionner, faire fonctionner, faire défiler, etc., le contenu d’une ressourc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ermes du tableau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u lieu de tout enregistrer, vous pouvez enregistrer le type de média qui s’applique à la partie prédominante ou aux parties les plus considérables de la ressour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654120" y="5483160"/>
            <a:ext cx="79120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55680" indent="-2155680">
              <a:lnSpc>
                <a:spcPct val="90000"/>
              </a:lnSpc>
              <a:tabLst>
                <a:tab algn="l" pos="0"/>
                <a:tab algn="l" pos="4659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000000"/>
                </a:solidFill>
                <a:latin typeface="Courier New"/>
              </a:rPr>
              <a:t>Exemples: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- audio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- informatique</a:t>
            </a:r>
            <a:br>
              <a:rPr sz="2400"/>
            </a:b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- microforme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- sans médiation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0F3C3595-39CA-4E69-9B87-A235BD05265C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Type de support matéri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« … l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format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du support de stockage et du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contenant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d’un support matériel combiné avec l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type de dispositif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de médiat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requis …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ermes listés à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3.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u lieu de tout enregistrer, vous pouvez enregistrer le type de support matériel qui s’applique à la partie prédominante ou aux parties les plus considérables de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615960" y="5675400"/>
            <a:ext cx="852804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55680" indent="-2155680">
              <a:lnSpc>
                <a:spcPct val="90000"/>
              </a:lnSpc>
              <a:tabLst>
                <a:tab algn="l" pos="0"/>
                <a:tab algn="l" pos="4484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000000"/>
                </a:solidFill>
                <a:latin typeface="Courier New"/>
              </a:rPr>
              <a:t>Exemples: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- disque audio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- disque informatique</a:t>
            </a:r>
            <a:br>
              <a:rPr sz="2200"/>
            </a:b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- microfiche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- volume - vidéodisque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Riva Pat</cp:lastModifiedBy>
  <cp:lastPrinted>2010-10-18T15:40:26Z</cp:lastPrinted>
  <dcterms:modified xsi:type="dcterms:W3CDTF">2014-11-05T18:19:56Z</dcterms:modified>
  <cp:revision>261</cp:revision>
  <dc:subject/>
  <dc:title>Diapositive 1</dc:title>
</cp:coreProperties>
</file>