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D5993A15-156A-4A5E-AA14-9FAB8F3A77DF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EC6AA2CA-CC3A-4AE9-8F8E-7D10E6274100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832F2039-0BBF-495C-8C9D-21725965BF7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863E-DD64-471C-A99B-C2FF102CD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D9C7-BCE2-481B-9AF2-6EBF82D5B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D249-64C6-4B18-B4B0-37289EF7D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F714-AA09-4A3F-A91F-794883BA9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C3E6-E3D4-4CCB-85EF-553971BA3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76E2-53B9-413B-A030-678A73619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7C70-9204-4072-95C5-F957BB6FF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07D4-B052-403F-8EF3-138FB0F19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214C-422A-43FA-8BD9-C8EEDEE87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4FFF-4D9E-4592-A1D5-6170A2B4B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AB68-D9D6-4638-A626-EBD97A5B9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4E32-CB63-4A86-A1ED-4E4C0B825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D0F662B-C934-4867-9DC2-2EB36E2F87D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15D05D1-AF0A-4E88-BCBF-321CC08AC15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0114E1D-0727-4500-9EE2-571ABD18AA4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4F9C536-EB17-4A6A-ABF8-E8057AAD584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4C40733-C69C-405A-AF38-0EA41F3BD66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D14A545-E594-4E4E-B6A7-D45DE6B3086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8923069-E463-4413-8B52-4CBCBA5E94F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0BBC126-7520-44ED-9204-BE04DE64806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11D6EAB-9621-44EF-BF0B-328EBE097E2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F956E71-23F5-4EE2-BB60-9A13DED55DA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64B18B-96A1-42B6-B118-CC7B6AFE612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A12D9DC-7543-4CE6-99A1-58AB50E7A62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90EC02-3EA5-4B5B-8573-A241E21140F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052B244-CD9C-421A-98E8-54D0B2195D7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FEC555A-2E33-43C2-9023-29F1AD73F87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8A88C21-3EC9-4448-A3C6-099ECAAC639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 géograph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C733DA9-68BB-4378-AD11-88A596BE72E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74F0C90-0835-4692-B50C-5A7DB0BE92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E21FE2-4E99-4966-BF6D-1CDC86469DB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0CC2FB5-5AD4-47DC-8F09-418C0FFB98C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D8BFDB7-443A-4E58-AFD9-CC02A13540A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0E6033A-B15E-4C71-A36B-4F23B00FE01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F9EDB37-F1D5-4766-B573-1C98ED46B0D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9592AA6-F53F-4A97-98A6-4749FFB5E81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AEB9FC-AAB0-4EBD-BCB4-5210D35EBD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25166DC-59EC-496A-AB09-13B4F2DD5AB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C947BF-6508-4A68-A889-37B72B6EECE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EF6293-EFD1-458C-8EA7-1C61B21565A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516A17F-E1F9-4B6D-8979-CA3342F13BD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403ABC1-B5B3-43D3-8605-FA5BA8096CE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8FD7B08-A0A3-4157-91DF-F1D23CEB244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D46F8C2-FADB-42C6-AF13-9FC3749931E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189714A-0EAE-4FA7-8561-4ECD7D074CC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A38FDAF-9A8A-47F7-82E2-0AAC5E78E6B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3638EE4-9A29-46CD-8A59-E8C1A5491A3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8:19:56Z</dcterms:modified>
  <cp:revision>261</cp:revision>
  <dc:subject/>
  <dc:title>Diapositive 1</dc:title>
</cp:coreProperties>
</file>