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711AB88E-EAA6-4BB7-A5C7-02A1409AA2B2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67730DF2-367B-42C1-9C15-92515C879197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5001B065-0847-40C4-A81F-7EA507E7218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4148-0A54-4301-B679-4F0BB8FCB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F0DD-DDEA-4785-A4F3-2D3F922E9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7BCA-FDC7-4AEF-B117-015CEB9B0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0FBC-04D9-474A-B046-0D4C84AE7F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3912-5C8B-4BBA-A95B-BD800F8C4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2ABB-7347-47FC-A0C7-415388727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71DC-34B9-4BFF-AC1A-623F579AA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9908-D4B3-4C31-A3BC-1B7B0FBA1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6A45-D525-45A9-9EBD-8A67230E2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E992-0ABD-4BD5-8EB3-9DC9BB6B0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4894-AADA-44F8-A662-47339D451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51A2-34E4-4978-A52E-FCEE36733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964F0E1-6568-4BF6-9FFC-DF692D714F9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580686A-0DD2-4380-AE95-A6F00D9BC93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33E06EC-F3C3-4580-84DE-F819BA4CD49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8825537-2444-42F7-827E-E963C244110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03F5DC6-7394-4BE6-89E6-89E5C0335B9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BD8A433-DED7-4A67-AC4D-799889BF7BB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60D6A9D-E935-440F-A535-B5B5D588EA1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DFECBE3-6371-49A8-B7DE-8086E55E9A8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3691D4C-2F9F-423D-8EFD-EEBE4ACE09C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52288FF-D162-46DB-8DEC-425DF560108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559983D-7A15-48A8-AF6B-165E8E2ACCF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BBB4CB4-4590-4E40-AE7E-63C2B6C33D6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956BB99-18A0-48E2-8C4C-542907B281B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0DBF6B4-23DD-4108-9140-BE891653592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E26DC7E-B047-49E7-A7FF-EB90A790490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8DAF3BA-2044-4D08-B443-06388F61161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37755B3-19DD-4B07-A87A-ACF654EE26F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A05B247-DC66-4D90-A28C-2EF70E485EC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66E3E02-9E40-4C40-9911-44E8B5C713F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80B058B-70A9-4932-90CA-7EFB2665A56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F1FCEF6-9E36-464D-9C27-933F4D4FE1D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774B86A-0899-4543-A59D-EDABC524A30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7728521-A0F8-48CD-A99E-DCA251DC73C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DB721B1-D96B-4954-A490-3B01E5E20AF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2EF8A5D-F20C-44BE-83D8-B878843A172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B8BFA4E-4E0C-47A1-BB33-F02057B3388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1FD0749-CD2C-44EE-A867-DD3A4CA011E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9FA9DFF-9350-4FFE-91F7-9145658258F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5BC4C41-01F0-455B-9AAE-B1A53C171A3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C703962-38CC-44D5-9421-0BB8DCB3F84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ECCDE9F-C25E-470D-ABA1-49E7781615D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8102134-F96F-46F5-86E9-DA7B1EF8BB8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98FFC25-6F3C-44FC-8652-879E49712F9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CD1FE85-0FB1-4D6A-89D6-97D3518F919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226B2BD-4207-4907-BC77-E83B6B8F33B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8:56Z</dcterms:modified>
  <cp:revision>258</cp:revision>
  <dc:subject/>
  <dc:title>Diapositive 1</dc:title>
</cp:coreProperties>
</file>