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C7826C1F-8DB8-4CB5-8CB2-374E9CB34315}" type="datetime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6-07-29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3 - Description des supports matériels</a:t>
            </a:r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EA5E9AE3-376F-4E86-B3E2-21AC5D9E203F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3 - Description des supports matériels</a:t>
            </a:r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B8F5C2F8-62C0-403A-8B0A-7E0AAF77E591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7508F-3FFA-4F44-BB47-8E1F30B244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1A197-F7FA-4ADE-91AF-FC5EE0339B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08898-9301-4F9A-8FC2-37545D5173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CF765-4251-46BC-B243-FF01C65CBC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4CC91-9D0B-4EFD-B220-279DB6FCC1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9236F-ED46-4586-A711-BC98004079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33BBA-8A9F-480C-AFEA-77B80BDC99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F6A8B-A653-4E46-836C-5136F98D55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C116C-FB58-4B22-B36E-0BAD9690BD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2421B-F5D4-493B-97FA-36FC9896B0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EBF01-2ACD-4CAD-9176-031343586D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5657B-DCEF-422C-A538-96A46D68CC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D6DD52C-8249-4A68-B1CB-FC1B2D90AEE9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haworthpress.com/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Arial"/>
              </a:rPr>
              <a:t>Description des supports matéri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3C262DE0-92BD-4614-BFB7-490C5C83F815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Zones MARC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 u="sng">
                <a:solidFill>
                  <a:srgbClr val="000000"/>
                </a:solidFill>
                <a:uFillTx/>
                <a:latin typeface="Arial"/>
              </a:rPr>
              <a:t>Liv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336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texte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337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sans médiation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338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volume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carr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1041F247-6E2B-412D-9E3B-B4F8BCA28F75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Importance matériel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lément fondamental :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i la ressource est complète ou si l’importance matérielle totale est con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 Le nombre et le type d’unités et/ou de sous-unités formant une ressource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Unit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= composant physique ou logique d’une ressource (par exemple, un volu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Sous-unit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= subdivision physique ou logique d’une unité (par exemple, une page d’un volu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MARC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00 $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129BA8E5-2BE6-484E-B479-F73C7C0308AD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nregistrement de l’importance matériel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onner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si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la ressource est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omplèt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si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l’importance matérielle totale est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on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.4.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onner le nombre d’unités et le terme appropri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arfois un terme de la liste de supports matériels (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3.1.3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Un autre terme pour désigner le type d’unité (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4.1.5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 si le terme n’est pas dans la liste, ou préférer un terme d’usage comm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lusieurs catégories couvertes par les exceptions (par exemple, texte, images fixes, musique notée, ressources cartographiqu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6E03F78-9682-44A9-8F12-89B44666ACD8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Importance matérielle du tex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Un seul volume avec pages, feuillets ou colonnes numérotés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4.5.2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Un seul volume avec pages, feuillets ou colonnes non numérotés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4.5.3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RDA donne une liste de trois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LC-PCC PS 3.4.5.3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continue la pratique RCAA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451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Pour le catalogage original LC, habituellement suivre la méthode c) </a:t>
            </a:r>
            <a:br>
              <a:rPr sz="1800"/>
            </a:br>
            <a:r>
              <a:rPr b="0" lang="fr-CA" sz="1800" spc="-1" strike="noStrike">
                <a:solidFill>
                  <a:srgbClr val="008093"/>
                </a:solidFill>
                <a:latin typeface="Arial"/>
              </a:rPr>
              <a:t>1 volume (non pagin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agination complexe ou irrégulière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4.5.8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RDA donne une liste de trois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LC-PCC PS 3.4.5.8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continue la pratique RCAA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451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Pour le catalogage original LC, habituellement suivre la méthode c) </a:t>
            </a:r>
            <a:br>
              <a:rPr sz="1800"/>
            </a:br>
            <a:r>
              <a:rPr b="0" lang="fr-CA" sz="1800" spc="-1" strike="noStrike">
                <a:solidFill>
                  <a:srgbClr val="008093"/>
                </a:solidFill>
                <a:latin typeface="Arial"/>
              </a:rPr>
              <a:t>1 volume (pagination multip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C26EA7A2-4303-49C5-BC3F-F95609808CF4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Changements de RCAA2 reliés à l’importance matériel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Ne pas utiliser d’abréviation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(par exemple, « pages », « volumes », pas « p. », « v. 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Utiliser 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environ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 » (plutôt que « env. ») et 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’est-à-di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 » (plutôt que « i.e. 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Utiliser 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non numérot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 », plutôt que des crochets autour des chiff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ention aux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hangements de vocabulai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par exemple: « disque informatique » est utilisé pour « disque d’ordinateur » et « disque optique d’ordinateur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357CDAD-3D76-43B0-89A5-64D693D35C55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lément fondamental LC pour les ressources autres que les publications en série et les ressources en lig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Mesures du ou des supports matériels et/ou du conteneur d’une ressourc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rrondies au centimètre supéri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cm » et « mm » sont des symboles, pas des abrév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utiliser le point ISBD après le symbole </a:t>
            </a: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seulement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si une zone 490 apparaît dans la no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00 $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F136EDEA-7204-45F4-ACB8-2DE293628159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Pratiques LC et BAC/BAnQ : Dimen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lternative sous 3.5.1.3 :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atique LC : Utiliser les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pouce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pour les disques (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5.1.4.4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 et pour tous les supports matériels audio; sinon, suivre l’instruction RDA telle qu’éc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atique BAC/BAnQ : Suivre l’instruction RDA telle qu’écrite et toujours employer les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unités métr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ratique LC pour le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publications en série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oter que la dimension n’est pas un élément fondamental pour les publications en série et les ressources en lig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ais vous pouvez l’enregistrer si vous le voul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9C81BEAE-908C-4F18-860F-32D510807DA6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3760" y="1600200"/>
            <a:ext cx="848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 u="sng">
                <a:solidFill>
                  <a:srgbClr val="000000"/>
                </a:solidFill>
                <a:uFillTx/>
                <a:latin typeface="Arial"/>
              </a:rPr>
              <a:t>Liv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00 $a 123 pages, 28 pages non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numérot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36 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texte 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$b txt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37 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sans médiation 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$b n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38 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volume 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$b nc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carr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0000"/>
                </a:solidFill>
                <a:latin typeface="Arial"/>
              </a:rPr>
              <a:t>Note : $b est opti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5F1C9493-230F-4555-9B87-27A700677CBA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s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DVD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DVD       {ou: 1 vidéodisque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36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image animée bidimensionnell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37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vidéo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38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vidéodisqu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PDF en lign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ressource en ligne (39 pa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36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text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37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informatiqu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38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ressource en lign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B0D8241E-EE94-4CDC-A12E-E642E5D4C6C2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53760" y="1600200"/>
            <a:ext cx="848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 u="sng">
                <a:solidFill>
                  <a:srgbClr val="000000"/>
                </a:solidFill>
                <a:uFillTx/>
                <a:latin typeface="Arial"/>
              </a:rPr>
              <a:t>Site web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(avec cartes, texte et photographies)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300 $a 1 ressource en lig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texte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image cartographique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2</a:t>
            </a:r>
            <a:br>
              <a:rPr sz="2200"/>
            </a:b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rdacont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image fixe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informatique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ressource en ligne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Note : si des notices dérivées répètent les sous-zones $a plutôt que la zone 336, vous pouvez les accepter comme elles sont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336  $a texte $a image cartographique $a image fixe $2 rda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936A3AB-A990-45D9-9D08-DFD2CC863798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Description des supports matéri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escription des supports matéri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utres éléments des manifestations et des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574D45AE-D644-4D60-B5DE-106FEFC8F382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 u="sng">
                <a:solidFill>
                  <a:srgbClr val="000000"/>
                </a:solidFill>
                <a:uFillTx/>
                <a:latin typeface="Arial"/>
              </a:rPr>
              <a:t>Livre avec un accompagnement (CD de conférence)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fr-CA" sz="2200" spc="-1" strike="noStrike">
                <a:solidFill>
                  <a:srgbClr val="ff0000"/>
                </a:solidFill>
                <a:latin typeface="Arial"/>
              </a:rPr>
              <a:t>$3 et $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00 $a 244 pages ...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+ $e 1 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6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livre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texte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6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CD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parole énoncée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7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livre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sans médiation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7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CD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audio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8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livre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volume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8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CD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disque audio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arri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0000"/>
                </a:solidFill>
                <a:latin typeface="Arial"/>
              </a:rPr>
              <a:t>Note :  </a:t>
            </a:r>
            <a:r>
              <a:rPr b="1" i="1" lang="fr-CA" sz="2000" spc="-1" strike="noStrike">
                <a:solidFill>
                  <a:srgbClr val="ff0000"/>
                </a:solidFill>
                <a:latin typeface="Arial"/>
              </a:rPr>
              <a:t>L’utilisation du $3 est optionnelle dans cet exe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u lieu de $e, peut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répéter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l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zone 3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30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$a 244 pages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30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$a 1 CD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u lieu de $e, peut donner un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n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500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a Accompagné d’un CD publié par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DDCFB47-F0AF-4B59-BC2A-13C825B12F45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s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54120" y="1882440"/>
            <a:ext cx="82296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CD d’histoire oral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parole énoncé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audio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disque audio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Livre audio Playaway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Playaway (ou 1 lecteur audio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dédié ou 1 lecteur numérique</a:t>
            </a:r>
            <a:br>
              <a:rPr sz="2400"/>
            </a:b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dédi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parole énoncé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audio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autr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8A10ACB-EC87-497A-A42C-23D548329E68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Ensemble multi-supports (contient un livre au sujet d’un pompier, un CD de narration et un casque de pompier)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CD, 1 livre, 1 casque en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plas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parole énoncé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text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form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tridimensionnell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audio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sans médiation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disque audio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volum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obj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762120" y="5622840"/>
            <a:ext cx="838188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1600" spc="-1" strike="noStrike">
                <a:solidFill>
                  <a:srgbClr val="ff0000"/>
                </a:solidFill>
                <a:latin typeface="Verdana"/>
              </a:rPr>
              <a:t>*</a:t>
            </a:r>
            <a:r>
              <a:rPr b="1" lang="fr-CA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CA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CA" sz="1600" spc="-1" strike="noStrike">
                <a:solidFill>
                  <a:srgbClr val="ff0000"/>
                </a:solidFill>
                <a:latin typeface="Verdana"/>
              </a:rPr>
              <a:t>L’utilisation de plusieurs sous-zones $a dans la zone 336 est acceptable si c’est une notice dérivée, mais pour du catalogage original, LC enregistre des zones 33X séparées</a:t>
            </a:r>
            <a:r>
              <a:rPr b="1" lang="fr-CA" sz="20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10A60A4-22DB-4BA6-9F48-9A5B5EABBEE9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s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Parti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partition de chant (xii, 300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pa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musique noté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sans médiation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volum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Cart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ca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image cartographiqu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sans médiation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feuill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0FB4156F-E94E-43E3-949C-6BAA2F308848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éléments des manifestations et des ite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8093"/>
                </a:solidFill>
                <a:latin typeface="Arial"/>
              </a:rPr>
              <a:t>Information relative à l’acquisition et à l’accè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Modalités d’acquisition (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2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Coordonnées (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3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trictions d’accès (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4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trictions d’usage (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5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dresse URL (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6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14896D0A-B601-4242-8055-70E2ADFA7AF5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odalités d’acquisi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C-PCC PS : En général, ne pas donner de prix ou d’autres informations d’acquisition sauf pour les partitions en location ou le matériel de performance en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Arial"/>
              </a:rPr>
              <a:t>Exempl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8093"/>
                </a:solidFill>
                <a:latin typeface="Courier New"/>
              </a:rPr>
              <a:t>020  $a 0460044524 : $c matériel en </a:t>
            </a:r>
            <a:r>
              <a:rPr b="1" lang="fr-CA" sz="28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8093"/>
                </a:solidFill>
                <a:latin typeface="Courier New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F1784D05-4C33-4BD0-A15F-29ED0AB5CF45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Coordonné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4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nregistrer les coordonnées d’un éditeur, d’un diffuseur ou d’un distributeur, etc. si elles sont jugées importantes pour l’acquisition ou l’accè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037 $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Exemple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http://www.HaworthPres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Alabama Department of Archives and His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624 Washington Avenue, Montgomery, AL 36130-0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A5E9934C-71B1-4C68-90DF-623EB2084B12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Restrictions d’accè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4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nregistrer toutes les restrictions d’accès à la ressource y compris la nature et la durée de la restriction de manière aussi précise que possible. L’absence de restrictions peut également être notée si elle est jugée impor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5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Exempl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Accès restreint aux abonnés via un nom d’usager et un mot de passe ou une authentification d’adresse 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1F722BDB-C82C-4517-9B0B-F27E6E0183C4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Restrictions d’usa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C-PCC PS: La condition fondamentale est limitée aux collections non générales de la  Library of Con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5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Arial"/>
              </a:rPr>
              <a:t>Exempl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8093"/>
                </a:solidFill>
                <a:latin typeface="Courier New"/>
              </a:rPr>
              <a:t>Le visionnement de ce film est restreint à l’utilisation en clas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966F99B8-6FCC-48AD-859D-04B2CC17F499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dresse UR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lément fondamental L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dresse de la ressource accessible en ligne qui est catalogu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C-PCC PS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 4.6.1.3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– S’il y a plus d’une adresse URL pour la ressource, toutes les enregist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8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C6D41392-8C99-4407-B08F-E47C5DE6A9B5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Description des supports matéri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Chapitre </a:t>
            </a:r>
            <a:r>
              <a:rPr b="1" lang="fr-CA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On ne discutera pas des éléments spécifiques pour les ressources de formats spéciaux (films, cartes, partition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Exemples disponibles dans RDA, dans la documentation MARC et dans la compilation d’exemples de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28D3D5BD-D632-4A5A-B58F-130905E02A69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dresse UR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Changements nécessitant l’ajout, la révision ou la suppression d’une adresse UR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C-PCC P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6.1.4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onn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la pratique LC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pour deux situations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Quand l’URL original n’est plus act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Quand l’URL original est toujours actif, mais la ressource originale n’est plus dispon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AD421A93-CBD0-4E15-9DD1-7CC1D51C2849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caractéristiq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sources contenant du 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ype d’enregistrement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2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Support d’enregistrement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3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Vitesse de lecture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4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aractéristique de sill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5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figuration de piste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figuration de bande magnétique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7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figuration des canaux de reproducti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aractéristiques de lecture particulières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9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717D1B9-9CBA-456E-A629-A95EA38FC89E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caractéristiq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sources contenant des images anim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océdé de projection (film)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7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Vitesse de projection (film)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7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Format vidéo (enregistrement vidéo)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orme de diffusion (enregistrement vidéo)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53014E7-F4D6-4ADF-B0D7-39D8D9CC9D9F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caractéristiq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sources électroniques (fichiers numériqu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ype de fichier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.2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Format d’encodage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aille du fichier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ésoluti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de de régi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Vitesse de transmissi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ate de visualisati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2.20.13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quipement ou système requis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0788E25-F4A2-4EED-808A-4197967EF086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caractéristiq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sources cartographiq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ispositi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1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aractéristiques du fichier numérique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ongitude et latitude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4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chelle des longueurs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25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chelle des hauteurs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25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nformation supplémentaire sur l’échelle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25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ojection de contenu cartographique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0F7FD303-DDC5-4DBA-9647-FFC2DD35C971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caractéristiq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sources musica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Forme de la notation musicale (partitions)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13.3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ésentation de la musique notée (partitions)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20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istribution d’exécution d’un contenu musical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21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1288355F-F13E-4DF1-9D44-3D8CC15B42FB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Remplacement de l’IGGD - 245 $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Trois nouvelles zones MA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ype d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contenu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-- RDA 6.9 --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ype d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médi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-- RDA 3.2 --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ype d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support matériel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-- RDA 3.3 --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92E3590-6EB0-425F-BF3F-1695CBC83CE0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pour contenu, média, support matéri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ans chacune des trois zones pour ces éléments (336-338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219240">
              <a:lnSpc>
                <a:spcPct val="90000"/>
              </a:lnSpc>
              <a:spcBef>
                <a:spcPts val="575"/>
              </a:spcBef>
              <a:buClr>
                <a:srgbClr val="008093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$a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ter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219240">
              <a:lnSpc>
                <a:spcPct val="90000"/>
              </a:lnSpc>
              <a:spcBef>
                <a:spcPts val="575"/>
              </a:spcBef>
              <a:buClr>
                <a:srgbClr val="008093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$b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219240">
              <a:lnSpc>
                <a:spcPct val="90000"/>
              </a:lnSpc>
              <a:spcBef>
                <a:spcPts val="575"/>
              </a:spcBef>
              <a:buClr>
                <a:srgbClr val="008093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$2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« 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rdacontent 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» ou « 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rdamedia 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» ou</a:t>
            </a:r>
            <a:br>
              <a:rPr sz="2400"/>
            </a:b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« 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rdacarrier 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» comme il conv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219240">
              <a:lnSpc>
                <a:spcPct val="90000"/>
              </a:lnSpc>
              <a:spcBef>
                <a:spcPts val="575"/>
              </a:spcBef>
              <a:buClr>
                <a:srgbClr val="008093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$3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documents précisés – donner si </a:t>
            </a:r>
            <a:br>
              <a:rPr sz="2400"/>
            </a:b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cela s’appl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2192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lia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2192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8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numéro de liaison de zone et de</a:t>
            </a:r>
            <a:br>
              <a:rPr sz="2400"/>
            </a:b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sé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9C0E493-9BB9-473B-B8A0-00300DE1B9C5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Vocabulaires contrôlés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 Types de contenu, média, support matéri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iste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fermée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ans 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6.9.1.3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.2.1.3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.3.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i plus d’un </a:t>
            </a:r>
            <a:r>
              <a:rPr b="0" i="1" lang="fr-CA" sz="2800" spc="-1" strike="noStrike">
                <a:solidFill>
                  <a:srgbClr val="000000"/>
                </a:solidFill>
                <a:latin typeface="Arial"/>
              </a:rPr>
              <a:t>terme est appropri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deux choix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out donner: répéter la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endre le terme représentant le contenu/média/support prédominant ou le plus considé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i="1" lang="fr-CA" sz="2800" spc="-1" strike="noStrike">
                <a:solidFill>
                  <a:srgbClr val="000000"/>
                </a:solidFill>
                <a:latin typeface="Arial"/>
              </a:rPr>
              <a:t>l’information n’est pas connu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enregistrer « non précisé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i="1" lang="fr-CA" sz="2800" spc="-1" strike="noStrike">
                <a:solidFill>
                  <a:srgbClr val="000000"/>
                </a:solidFill>
                <a:latin typeface="Arial"/>
              </a:rPr>
              <a:t>aucun terme n’est appropri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enregistrer « autre » et si désiré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avertir un des membres du CC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69AE0AD-C833-46C3-B457-B4F77E3A0437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Type de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6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 … l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forme fondamentale de communica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sous laquelle le contenu est exprimé et l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sens humai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par lequel il doit être perçu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ermes du tableau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6.1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u lieu de tout enregistrer, vous pouvez enregistrer le type de contenu qui s’applique à la partie prédominante ou aux parties les plus considérables de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654120" y="5541840"/>
            <a:ext cx="7912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5680" indent="-215568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0000"/>
                </a:solidFill>
                <a:latin typeface="Courier New"/>
              </a:rPr>
              <a:t>Exemples :</a:t>
            </a:r>
            <a:r>
              <a:rPr b="1" i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</a:t>
            </a:r>
            <a:r>
              <a:rPr b="1" i="1" lang="fr-CA" sz="2400" spc="-1" strike="noStrike">
                <a:solidFill>
                  <a:srgbClr val="008093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musique exécutée</a:t>
            </a:r>
            <a:br>
              <a:rPr sz="2400"/>
            </a:b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 image fixe</a:t>
            </a:r>
            <a:br>
              <a:rPr sz="2400"/>
            </a:b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 text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D1142434-B8D3-421E-BD5D-36563CECEC1E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Type de méd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lément fondamental L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… l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type général de dispositif de média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requis pour visionner, faire fonctionner, faire défiler, etc., le contenu d’une ressourc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ermes du tableau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u lieu de tout enregistrer, vous pouvez enregistrer le type de média qui s’applique à la partie prédominante ou aux parties les plus considérables de la ressour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654120" y="5483160"/>
            <a:ext cx="79120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5680" indent="-2155680">
              <a:lnSpc>
                <a:spcPct val="90000"/>
              </a:lnSpc>
              <a:tabLst>
                <a:tab algn="l" pos="0"/>
                <a:tab algn="l" pos="4659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0000"/>
                </a:solidFill>
                <a:latin typeface="Courier New"/>
              </a:rPr>
              <a:t>Exemples: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 audio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 informatique</a:t>
            </a:r>
            <a:br>
              <a:rPr sz="2400"/>
            </a:b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 microforme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 sans médiation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A7B65D52-E4A0-4249-877C-FD9162F9878D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Type de support matéri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… l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format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du support de stockage et du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contenant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d’un support matériel combiné avec l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type de dispositif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de média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requis …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ermes listés à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3.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u lieu de tout enregistrer, vous pouvez enregistrer le type de support matériel qui s’applique à la partie prédominante ou aux parties les plus considérables de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615960" y="5675400"/>
            <a:ext cx="852804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5680" indent="-2155680">
              <a:lnSpc>
                <a:spcPct val="90000"/>
              </a:lnSpc>
              <a:tabLst>
                <a:tab algn="l" pos="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0000"/>
                </a:solidFill>
                <a:latin typeface="Courier New"/>
              </a:rPr>
              <a:t>Exemples: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- disque audio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- disque informatique</a:t>
            </a:r>
            <a:br>
              <a:rPr sz="2200"/>
            </a:b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- microfiche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- volume - vidéodisque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Mylène Robichaud</cp:lastModifiedBy>
  <cp:lastPrinted>2010-10-18T15:40:26Z</cp:lastPrinted>
  <dcterms:modified xsi:type="dcterms:W3CDTF">2013-12-06T16:58:56Z</dcterms:modified>
  <cp:revision>258</cp:revision>
  <dc:subject/>
  <dc:title>Diapositive 1</dc:title>
</cp:coreProperties>
</file>