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EA55DC7B-395A-413D-9256-FF15C5405DE5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29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741D2DBD-0A7E-48A6-BA57-536AD5037724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50FCEAE2-84B4-4C1C-A3C4-2FABF303A083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C08F7-CEE5-4AF4-8C0E-62C60ED6E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35BBE-54AB-4DFF-AF0B-3F6534936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18290-8E5F-493C-9246-23AA30586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151BC-18D1-4CAA-9A75-C32EB59437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98FBB-77D9-46A9-B41E-B60F6AC1A2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3C27B-EFD8-413D-B485-BB493784D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6129D-470F-46A8-9109-CEE0892FB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FCF2B-153C-47EA-B5BE-C4FD3A775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D6D95-955B-4E4D-A899-7F9D9E1CB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A7B0-0EEB-4FC1-92FC-11A0D29DA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6556-8486-416B-A970-06347515C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1EA67-8340-49A7-979B-C581DF162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ABAEC35-58ED-485F-A11F-AC568FF9EE5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aworthpress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A9576E4-08FC-4D85-95B0-E8B5534405D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6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7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8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20C7AB9-AE49-464E-896B-2A89A2644DC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9E2B2EC-5DF1-42F4-AA2E-E2B1E8CD9FA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nregistrement de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ressourc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mplè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’importance matérielle total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le nombre d’unités et le terme appropri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fois un terme de la liste de supports matériel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autre terme pour désigner le type d’unité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1.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si le terme n’est pas dans la liste, ou préférer un terme d’usage com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lusieurs catégories couvertes par les exceptions (par exemple, texte, images fixes, musique notée, ressources cartographiq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B9E5277-4469-4FA2-B446-582AD45AE2D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 du tex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on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3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non pagi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gination complexe ou irrégulièr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8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8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pagination multi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D842180-3F59-4635-A5C3-3528CEA332B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5245F42-F006-4370-8627-6E8B7E0D14D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387B072-1398-4F7C-AB18-10B018B9F30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ratiques LC et BAC/BAnQ : 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lternative sous 3.5.1.3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LC : Utilis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pouc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es disque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.1.4.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et pour tous les supports matériels audio; sinon, suivre l’instruction RDA telle qu’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BAC/BAnQ : Suivre l’instruction RDA telle qu’écrite et toujours employ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ités mét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atique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ublications en série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er que la dimension n’est pas un élément fondamental pour les publications en série et les ressources en lig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is vous pouvez l’enregistrer si vous le vou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5330BF2-7433-4AA8-84E0-89AEFF269E2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0C05F56-EE2B-4A00-A74C-D90261EBAEC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DV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DVD       {ou: 1 vidéodisqu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animée b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dis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DF en lig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ressource en ligne (39 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E572768-F7B4-42BE-9CD0-AB68A7A5475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Site web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avec cartes, texte et photographies)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300 $a 1 ressource en lig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</a:t>
            </a:r>
            <a:br>
              <a:rPr sz="2200"/>
            </a:b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fix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e : si des notices dérivées répètent les sous-zones $a plutôt que la zone 336, vous pouvez les accepter comme elles so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336  $a texte $a image cartographique $a image fixe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EC48A17-30A9-407C-874B-758B4DAEE68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934ACCB-AB4F-4C53-9369-72D4AA56749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Livre avec un accompagnement (CD de conférence)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CA" sz="22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Arial"/>
              </a:rPr>
              <a:t>Note :  </a:t>
            </a: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02E9BCD-913C-4A7B-B6CA-E8256899991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88244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D d’histoire ora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Livre audio Playaway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layaway (ou 1 lecteur audio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 ou 1 lecteur numériqu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tr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5D2E8CB-3884-4EE8-9D5F-63D903B8628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semble multi-supports (contient un livre au sujet d’un pompier, un CD de narration et un casque de pompier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, 1 livre, 1 casque en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las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or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r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62120" y="5622840"/>
            <a:ext cx="8381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1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L’utilisation de plusieurs sous-zones $a dans la zone 336 est acceptable si c’est une notice dérivée, mais pour du catalogage original, LC enregistre des zones 33X séparées</a:t>
            </a:r>
            <a:r>
              <a:rPr b="1" lang="fr-CA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E54925F-0935-4151-9EE6-2A31A53998D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arti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artition de chant (xii, 300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not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art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eui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850CC00-4C91-4BBE-AC91-132DA55347D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C45944F-DF8A-4475-A6C6-D536D9E3BEE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odalités d’acqui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: En général, ne pas donner de prix ou d’autres informations d’acquisition sauf pour les partitions en location ou le matériel de performance e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020  $a 0460044524 : $c matériel en 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02E1786-35D0-4E51-B2A6-FA476E17A8B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ordonn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les coordonnées d’un éditeur, d’un diffuseur ou d’un distributeur, etc. si elles sont jugées importantes pour l’acquisition ou l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037 $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HaworthPr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Alabama Department of Archives and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624 Washington Avenue, Montgomery, AL 36130-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86AA2B1-3415-468C-ADB5-CA460D638D5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accè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toutes les restrictions d’accès à la ressource y compris la nature et la durée de la restriction de manière aussi précise que possible. L’absence de restrictions peut également être notée si elle est jugée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5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ccès restreint aux abonnés via un nom d’usager et un mot de passe ou une authentification d’adress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7BF690E-DAF7-4EDA-B3A3-A74D9424A3D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us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: La condition fondamentale est limitée aux collections non générales de la  Library of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e visionnement de ce film est restreint à l’utilisation en cla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DB1DC4F-6BEB-4BB7-90CB-CDAEB8C772B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de la ressource accessible en ligne qui est catalogu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4.6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– S’il y a plus d’une adresse URL pour la ressource, toutes les enregist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8988493-4BE9-46AE-B89D-BF0AC36295C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8AECC16-4D20-4DD4-926F-FAFED7C45FD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ngements nécessitant l’ajout, la révision ou la suppression d’une adresse UR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.1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on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 pra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eux situation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n’est plus a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est toujours actif, mais la ressource originale n’est plus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E626370-3428-4A46-80A5-6861A1E9D39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u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upport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lectur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 de sill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pist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bande magnétiqu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s canaux de reproduc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e lecture particulières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07D8BFF-2F1B-4832-94F0-921E0B5CE01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es images anim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cédé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vidéo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rme de diffusion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648F30F-B30C-4919-AB56-A67C573BC05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électroniques (fichiers numériq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d’encodag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aille du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olu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de de rég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transmiss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te de visualisa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2.20.1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quipement ou système requi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BC402D1-65AD-4B1A-994B-B4CDEF350FC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artograph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posi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u fichier numér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ongitude et latitud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longu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haut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formation supplémentaire sur l’échell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jection de contenu cartograph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208FC0F-0083-4908-A888-23D7D2504EC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musi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e de la notation musical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3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sentation de la musique noté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0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ribution d’exécution d’un contenu musical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D7C935B-0356-42EF-8D68-4A870F70ED9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81C15E3-CF66-4709-92AB-FFC72E54885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pour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hacune des trois zones pour ces éléments (336-338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a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te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b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2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ontent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 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media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arrier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comme il conv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ocuments précisés – donner si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8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numéro de liaison de zone et d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sé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C810BC0-350E-40F3-8A1C-4264EC95E56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ocabulaires contrôlés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 Types de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st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ermé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ans 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2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plus d’un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terme 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choix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donner: répéter la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e terme représentant le contenu/média/support prédominant ou le plus consid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l’information n’est pas conn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non précisé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aucun terme n’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autre » et si désiré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rtir un des membres du C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3FB9566-A507-4F9D-9EF1-D22130B1869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fr-CA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58E9682-03D6-4FCD-99A5-3125B220914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198FC61-6535-4C4A-A722-9B3ED173B5B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6:58:56Z</dcterms:modified>
  <cp:revision>258</cp:revision>
  <dc:subject/>
  <dc:title>Diapositive 1</dc:title>
</cp:coreProperties>
</file>