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F3BFB599-BDFF-4F28-AE78-C836E448E887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3D014D5C-716E-41E5-B032-31A007DF393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6059087F-5F6C-4B3A-A685-DA882999BF2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898E-CEA4-486C-9BBC-58839330D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7BA7-42F4-41FD-A458-A9AFCBD7B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75B3-6C6F-4582-B477-310A5C9BA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F1EF-7B46-463B-BAC5-C9415120F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544C-2846-46DF-8404-E5C86F30B1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AD0F-36D1-4BD4-AE03-CFAE6573F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2A3E-8CE8-4A2B-83CA-7089F4684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DE55-7B94-4200-9DAF-0F5231FB7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625C6-56C8-4BB3-AA85-CF81450E1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FA7DB-2B76-400A-8FAF-97FBF22EC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18EF-8A8E-4253-A310-B69E72D06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A9B1-C6DC-4032-BFF9-02B231754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3778BD9-C648-4B43-8C64-A43EEC0736E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AC5A32D-6B52-4618-A76A-4D8CFC32971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E4D4664-67B9-4C4E-86F5-C96B7E571AB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539E196-D2A6-4D9D-A357-4FD59DACEDB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EF18581-C26F-492F-959D-618931AE1CB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4BC6B46-BDCA-41A2-A13D-4DD50CA2C48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7CA890-6CFB-472A-A129-55035ACDFCF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E552968-B0FB-4454-96DB-78535A37D76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432A5B3-3F3C-4420-B053-ABE41619AAF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A9DAE5C-A90F-44CC-A1BC-DF0DFE99B3E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32803B1-BB8D-4D7C-96F7-D51C097FAE5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6E5F819-6378-481F-AAC8-386CF775AF2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FD62A23-8CAA-447D-851B-17496B9AF06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56587E0-3388-4153-A5CA-205BB8D4159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7908BDD-6DFC-4B72-8287-05E5358BFD9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E3B753D-1699-49DC-B34A-DEE7CE6FEB3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EBE07B9-43B0-44EF-8FC6-373E1CB4988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4D193A5-39CE-4621-A9AE-48A39BE871C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A6006C4-C4F2-4CD4-9246-304B6450BA9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F31B766-7081-48AF-902F-CBAFECDF338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ED50CF6-57F4-4082-9AF4-FF6A4A0A7F3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6021898-2607-49A9-8377-68F05F4BFD0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6DDF013-EF98-4526-B597-F621BC88217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9C2717B-AA87-4364-8E36-6A4C4A49077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4C8685D-41FE-49C3-9B8D-9AA0042EF01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16BFA56-6A42-4392-89DD-14C9CF11B70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CD6BCB7-33C4-463E-AE8B-EFB7B92E7F2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B35D63A-2F6B-45AA-9FED-8A4F74AB937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E5FDA07-4C1F-4CFC-950C-13AD86850EA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7415EE2-0422-4EB7-B762-7F732DCCD3E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5B0986E-7A95-4B49-A619-D4A165DE7F5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9C3E4AA-ECE2-43F0-B561-B48DCC9410F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DC2DA88-107F-479A-BFB4-3FCD6EBA12E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C6B5CA6-1CC7-4B6F-8C70-B472302F976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1594BF2-96A2-46B0-9D39-4A651135A3C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8:56Z</dcterms:modified>
  <cp:revision>258</cp:revision>
  <dc:subject/>
  <dc:title>Diapositive 1</dc:title>
</cp:coreProperties>
</file>