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188DC6D9-54B8-4C16-BBEA-376330A18C5C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3A7CD8D1-CAE6-450B-86BC-9939144125A5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1073FA93-D542-41CB-B911-7FE2065E0B6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7AC3C-21A9-484A-81BF-ED5705234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0826B-6F9A-4B33-B1B0-920482035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3019-7337-4D20-9869-D924FB4D6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FDE67-F389-452A-B53D-B6F45E4993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AEF27-05C5-4907-B696-FF12DFB418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76BC2-7437-4608-8CB8-A31B92989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2F9DA-70EA-439A-9457-E92F329E4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BFE8B-9697-47AA-9269-3F0CA2706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8856A-3FD8-41C8-8857-CBD30D960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8753B-0B21-4CF8-8458-350441BB4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9B2E4-0E8C-4B39-BCDB-2A37C8892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A84F0-86E6-4C00-A208-33976B910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9A3E017-DD62-4046-BBC2-EFACD265796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aworthpress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97702CB-B44F-415F-BD90-EBA5C02E8B4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6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7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8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9DB81B5-B0DC-427D-8487-6ADDD63EED4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7474071-9453-4F1D-BA44-C7D67DD1F2B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nregistrement de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ressourc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mplè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’importance matérielle total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le nombre d’unités et le terme appropri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fois un terme de la liste de supports matériel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autre terme pour désigner le type d’unité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1.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si le terme n’est pas dans la liste, ou préférer un terme d’usage com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lusieurs catégories couvertes par les exceptions (par exemple, texte, images fixes, musique notée, ressources cartographiq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61D2B2C-F207-4C1F-BDC3-0ADAD9EE236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 du tex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on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3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non pagi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gination complexe ou irrégulièr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8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8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pagination mult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14B89EA-61FF-46DC-94B2-A6D218E5223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CBD3A7C-5139-4C75-86C7-6E83E96B885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88D71B0-705A-41F7-8199-85540AD41D5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ratiques LC et BAC/BAnQ : 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lternative sous 3.5.1.3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LC : Utilis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pouc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es disque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.1.4.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et pour tous les supports matériels audio; sinon, suivre l’instruction RDA telle qu’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BAC/BAnQ : Suivre l’instruction RDA telle qu’écrite et toujours employ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ités mét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atique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ublications en série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er que la dimension n’est pas un élément fondamental pour les publications en série et les ressources en lig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is vous pouvez l’enregistrer si vous le vou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8A21976-B3CE-47C1-9BBD-EABA5226D62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FDB7B91-2150-466E-A113-BC7153381B2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DV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DVD       {ou: 1 vidéodisqu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animée b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dis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DF en lig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ressource en ligne (39 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AF6BF49-ADBE-4A22-B272-EF8FA9236E0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Site web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avec cartes, texte et photographies)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300 $a 1 ressource en lig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</a:t>
            </a:r>
            <a:br>
              <a:rPr sz="2200"/>
            </a:b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fix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e : si des notices dérivées répètent les sous-zones $a plutôt que la zone 336, vous pouvez les accepter comme elles so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336  $a texte $a image cartographique $a image fixe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81E68C1-60C7-44DA-99C5-2C6FB162F6E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4242858-72E1-4599-BEED-C9741012AEF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Livre avec un accompagnement (CD de conférence)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CA" sz="22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Arial"/>
              </a:rPr>
              <a:t>Note :  </a:t>
            </a: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6F17122-AE13-4201-BFCF-180B3697A9E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88244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D d’histoire ora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Livre audio Playaway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layaway (ou 1 lecteur audio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 ou 1 lecteur numériqu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tr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4C4D914-FCD9-48FB-8D78-BC01D4EE671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semble multi-supports (contient un livre au sujet d’un pompier, un CD de narration et un casque de pompier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, 1 livre, 1 casque en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la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or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r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62120" y="5622840"/>
            <a:ext cx="8381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1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L’utilisation de plusieurs sous-zones $a dans la zone 336 est acceptable si c’est une notice dérivée, mais pour du catalogage original, LC enregistre des zones 33X séparées</a:t>
            </a:r>
            <a:r>
              <a:rPr b="1" lang="fr-CA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0B18467-0F45-43BC-9BB6-C824135376D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arti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artition de chant (xii, 300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not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art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eui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3E11E9A-17F0-4E82-BE3B-24C559FA2CE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A40F0A3-B85E-4663-940F-F87186DF7B5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odalités d’acqui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: En général, ne pas donner de prix ou d’autres informations d’acquisition sauf pour les partitions en location ou le matériel de performance e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020  $a 0460044524 : $c matériel en 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DB6C880-F36F-48B6-AF57-9F55C3C5F51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ordonn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les coordonnées d’un éditeur, d’un diffuseur ou d’un distributeur, etc. si elles sont jugées importantes pour l’acquisition ou l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037 $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HaworthPr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Alabama Department of Archives and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624 Washington Avenue, Montgomery, AL 36130-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6EA82D9-1078-42A6-B6F7-D04379D77C9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accè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toutes les restrictions d’accès à la ressource y compris la nature et la durée de la restriction de manière aussi précise que possible. L’absence de restrictions peut également être notée si elle est jugée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5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ccès restreint aux abonnés via un nom d’usager et un mot de passe ou une authentification d’adress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FE38CD3-E54F-40EE-9B06-70315AFD110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u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: La condition fondamentale est limitée aux collections non générales de la  Library of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e visionnement de ce film est restreint à l’utilisation en cla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C173445-D421-4291-BD67-6DD11BAB71C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de la ressource accessible en ligne qui est catalogu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4.6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– S’il y a plus d’une adresse URL pour la ressource, toutes les enregist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4014E2B-2D29-4F4C-AB07-5274E160F33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CF2E98B-1FAA-457D-A298-792E126EF64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ngements nécessitant l’ajout, la révision ou la suppression d’une adresse UR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.1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on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 pra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eux situation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n’est plus a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est toujours actif, mais la ressource originale n’est plus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1BF55DF-4D83-45E0-8AC0-0FEE4BA6F92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u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upport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lectur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 de sill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pist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bande magnétiqu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s canaux de reproduc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e lecture particulières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CE03933-DC03-478A-A8AB-F66DEB6F3DA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es images anim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cédé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vidéo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rme de diffusion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E2800AC-C500-4E56-930A-3304284C038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électroniques (fichiers numériq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d’encodag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aille du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olu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de de rég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transmiss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te de visualisa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2.20.1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quipement ou système requi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A5B1E19-9280-4D17-862C-D79A2341029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artograph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posi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u fichier numér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ongitude et latitud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longu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haut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formation supplémentaire sur l’échell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jection de contenu cartograph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70480C1-1413-4F86-9549-4413119E4C0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musi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e de la notation musical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3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sentation de la musique noté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0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ribution d’exécution d’un contenu musical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9374466-C5CD-4E9F-B58C-6A011EA3E0E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346E0C6-449A-4591-8FFC-EDF25149419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pour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hacune des trois zones pour ces éléments (336-338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a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t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b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2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ontent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 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media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arrier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comme il con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ocuments précisés – donner si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8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numéro de liaison de zone et d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sé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1BCF75A-6A05-4FDC-BD88-36B858488FD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ocabulaires contrôlés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 Types de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st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ermé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ans 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2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plus d’un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terme 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choix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donner: répéter la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e terme représentant le contenu/média/support prédominant ou le plus consid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l’information n’est pas conn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non précisé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aucun terme n’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autre » et si désiré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rtir un des membres du C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E431CD7-3F61-478D-B1AB-85CDCAA12D0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fr-CA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81D5D8F-9BD2-45EE-831D-B6310460D3C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A62029B-ABEF-4BC3-827E-AFAC78183D3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6:58:56Z</dcterms:modified>
  <cp:revision>258</cp:revision>
  <dc:subject/>
  <dc:title>Diapositive 1</dc:title>
</cp:coreProperties>
</file>