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0C8-3443-4A1D-93CB-E185E49C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D51-A41A-46DC-AF2A-6A6A8A4A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01C-ADA1-444D-81C0-B44D061A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234-3FD0-4185-A2D6-7A8FABF6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1A3-DEDF-4E2F-9775-55D5F077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0BA-E700-434F-975A-4FB2110A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A73-D0DC-45CE-BC89-A78FF606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9F3-A771-4325-868A-25B63AFE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FBE-A6C5-4FE9-B2B7-AFCA82A9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9D5-1710-4745-A9E9-D95B278E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C78-9D34-4093-A3BB-3A05F33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B80-9477-4B32-9DF9-42FA5EB7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CF6B7-E6D4-4F13-96E7-F6058BF9BC42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 d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1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830 _0 $a Tendances et débats en développement régional ; $v n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0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41Z</dcterms:modified>
  <cp:revision>3</cp:revision>
  <dc:subject/>
  <dc:title>Diapositive 1</dc:title>
</cp:coreProperties>
</file>