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10A-6976-45E7-9596-FE2BAE03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5CE-E618-43EC-A4B3-D701D417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1C2-DD84-461A-AC36-5051FA7F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5A0-AD33-41EA-998E-C95288D2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F07-A43E-4B83-8F88-12B8FA10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40B-0275-43EA-880F-5690A56A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00C-0D61-480E-8978-68C72CCE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AAD-6EB3-458C-AE41-5F7962CC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DDC-2010-41DB-B0CD-5649F82B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F52-60D2-4896-9C56-C187C8DB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880-9328-42CD-AEE1-57350F21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1AC-65DF-4D4A-B522-A3F583D4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FD379-D9D3-4EB0-9CCF-CDC33BCDE2BF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 d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1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830 _0 $a Tendances et débats en développement régional ; $v n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0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dcterms:modified xsi:type="dcterms:W3CDTF">2013-04-12T20:58:41Z</dcterms:modified>
  <cp:revision>3</cp:revision>
  <dc:subject/>
  <dc:title>Diapositive 1</dc:title>
</cp:coreProperties>
</file>