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58920" y="730080"/>
            <a:ext cx="47908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82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8A7F4-D86A-4832-A930-761F6E2DC878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7C534-54AA-4475-82B0-399939556212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56301-D0CF-460D-98DD-C5174EE7516A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EA4D7-2E76-4C6C-A20B-DCD8BCDE6BE1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B66A9-8FD1-47E9-872F-99B818086227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25B4E-BDA9-4D50-AD22-C5D6DAFA06E7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EBEC4-08BD-4FAC-98EA-79AA876D594E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E36-36F3-4FF6-8970-998387A9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DA5-7772-401E-A867-83FEE21B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F34-8EB7-4A82-8FC5-9B153A02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B79-3620-42E5-BC75-B43D8141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86D-A4FF-4A64-AD9B-4B3F66FF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6E3-A509-4AD6-AC2B-34C4F126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010-DDB9-4F0C-882B-B7AF658D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3EF-602E-4FEE-BE1F-5BC27D6A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099-1EC9-43A2-8E00-25144A7A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59E-D34B-4FE3-9A71-7769D214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9D3-778B-45BC-80CE-E27717BB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9A2-3B7E-4B37-8B9C-7BCCD8D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2889E-8993-4E93-89FD-040FC02F434D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s de public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692360"/>
            <a:ext cx="9145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 ; $a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CRDT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DEQ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$a [Saguenay, Québec]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, 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 (Province)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acultatif d'ajouter aus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2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distribution, GRIDEQ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 $c ©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cp:lastPrinted>2014-04-14T20:13:04Z</cp:lastPrinted>
  <dcterms:modified xsi:type="dcterms:W3CDTF">2014-05-01T20:18:09Z</dcterms:modified>
  <cp:revision>9</cp:revision>
  <dc:subject/>
  <dc:title>Diapositive 1</dc:title>
</cp:coreProperties>
</file>