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58920" y="730080"/>
            <a:ext cx="479088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31520" y="4559400"/>
            <a:ext cx="58482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B24B2-836B-4CEA-962A-EB44EBEBA284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4DE25-AA27-4F93-BBE1-312DC149ECAC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D4B35-4252-45F2-ACEE-1FA9A8AF5CE7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874A8-4B75-4ED1-B328-9FAE23A4CD5F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78D08-50F9-44BA-9BA0-4671B6507282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0D4F2-9B3A-4B62-9F42-6A6BB88D9772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4EF6F-1F9E-4AD4-B456-DDD9C98F814C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F771-AAF3-4692-B265-7F83314A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3DA-540D-43F5-9540-BA4E4D8C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027-6FA3-4BE5-9F5C-8132BA52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F86-3999-4C17-81BC-B33E8472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E99-F4DD-466C-A5C3-5688A54E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EC5-06B4-4503-BBAB-84AB9AC9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22E-AE60-40FD-A636-94851B77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2B7-4FD9-4382-A2BB-F4914DEE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D39-7A67-4106-92B4-6ED9E977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0C41-B49C-4DB4-9A24-38B621AE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463-4202-417F-A24D-0E157618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37A-B283-4EAC-B4C8-AA078EB6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2540C-7846-4D59-BAF7-FA444229427E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ntions de publicati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Saint-Constant, Q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Canad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Broquet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4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Saint-Constant, Q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Canad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Broquet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692360"/>
            <a:ext cx="91454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[Montréal] : $b ARUC-ÉS ; $a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imouski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CRDT : $b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IDEQ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$a [Saguenay, Québec] : $b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$a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imouski, 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ARUC-ÉS : $b CRDT : $b GRIDEQ : $b 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$a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 (Province)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ARUC-ÉS : $b CRDT : $b GRIDEQ : $b 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Facultatif d'ajouter aus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2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Rimouski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distribution, GRIDEQ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4 $c ©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[Montréal] : $b ARUC-ÉS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cp:lastPrinted>2014-04-14T20:13:04Z</cp:lastPrinted>
  <dcterms:modified xsi:type="dcterms:W3CDTF">2014-05-01T20:18:09Z</dcterms:modified>
  <cp:revision>9</cp:revision>
  <dc:subject/>
  <dc:title>Diapositive 1</dc:title>
</cp:coreProperties>
</file>