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58920" y="730080"/>
            <a:ext cx="479088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82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F6954-0001-4683-8C34-65AF78D773D4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345D0-895E-4754-AEEB-4D4667E75ABD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6A387-72C8-41BD-A4D3-49B90DB64540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B78CD-ECAF-424B-84A3-30C3F44765CD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F20D1-C6CF-4BC9-AE1B-92CFFE39031C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BCB75-3E5F-4A16-9B84-7E0A3A8AEF00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9C04A-A3CE-4DC2-BFDB-0AB222DC4305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B92-BE99-4A00-87D8-40B67DC6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D5A-41DF-4618-8AFC-056E20B0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A4C-4695-438E-8D1E-A4C8D93C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636-E67E-4D1B-9C0A-38103DC4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291-2D30-497F-92AF-341F2F25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DD4-B708-41C4-B934-86174859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BA7-AA70-487B-AF63-16E74E79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2FC-72D0-446B-A003-B3DF3D6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0B4-9F06-4204-BB73-4E6ED74B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D31-B956-4CC8-AF82-4B545ADB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058-106A-417B-B1D2-51BE5963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8A2-6A90-417A-9B80-8864D790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A2D19-0E30-4213-8F69-692BBD806623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s de public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692360"/>
            <a:ext cx="91454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 ; $a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CRDT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DEQ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$a [Saguenay, Québec]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, 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 (Province)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acultatif d'ajouter aus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2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distribution, GRIDEQ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 $c ©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cp:lastPrinted>2014-04-14T20:13:04Z</cp:lastPrinted>
  <dcterms:modified xsi:type="dcterms:W3CDTF">2014-05-01T20:18:09Z</dcterms:modified>
  <cp:revision>9</cp:revision>
  <dc:subject/>
  <dc:title>Diapositive 1</dc:title>
</cp:coreProperties>
</file>