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D89DD-A768-4CE7-A951-69906F0490CA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D24-4528-4B50-A4D0-63AAB4A0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6EA-6AF8-4F41-BCCF-E458D1E4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EFE-11FB-4CBD-9464-FE9BA930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5CB-F4F5-43B2-AACE-BF2D8AE8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748A-BA58-4A4F-963E-6B29382D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286-3B3C-413E-8803-CC14320C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11C-4B89-4FB0-B005-8116314A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FF81-2110-4BB2-949E-61787D1C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2D2-49F3-4A8B-AD09-75BCCDA5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689B-2034-41A0-B0D6-5D01BAC3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66F-D933-4431-BCF9-5470AAFE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5FF-274F-4081-BB5D-E359FD9C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E5D4E-345A-431B-8FA9-1ACD22A3F1A7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Titres et mentions de respons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Quoi faire à la retraite? : $b guide pratique pour passer à l’action : huit grands secteurs d’activités / $c Marie-Paule Dessaint,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 Ph.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Quoi faire à la retraite? / $c Marie-Paule Dessa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Inégalités, démocratie et développement : $b des enjeux pour la gouvernance des territoires locaux et régionaux / $c sous la direction de Martin Simard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Danielle Lafontaine, Sébastien Savard, Marielle Tremblay, Pierre-André Tremblay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ition et révision finales, Jean Larrivé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30 $a Des enjeux pour la gouvernance des territoires locaux et rég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Inégalités, démocratie et développement / $c sous la direction de Martin Simard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  <a:ea typeface="Arial"/>
              </a:rPr>
              <a:t>[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t quatre autres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  <a:ea typeface="Arial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BANQ</cp:lastModifiedBy>
  <dcterms:modified xsi:type="dcterms:W3CDTF">2013-04-17T20:24:34Z</dcterms:modified>
  <cp:revision>2</cp:revision>
  <dc:subject/>
  <dc:title>Diapositive 1</dc:title>
</cp:coreProperties>
</file>