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096A8-B8EB-486D-A3D7-A5173E988BA6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4FC-A5FB-4BB6-8A18-7C5C81A8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423-5B55-472D-9C55-9ECA56A8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173-167A-40E6-BDE4-070AFF6B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CD4-A98E-44AE-AEBC-10ACD41F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4FC-D36F-4834-912B-C7DF1657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65A-515C-47AF-85E9-759F6B6E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C12-FFFD-4E0D-AEF5-F94F2465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93F-4899-4565-A041-BBA286E0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D9F-FB53-4CD2-BF1D-5FAEC572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468-0A2A-4309-8819-BB2BF71E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9D9-6B5B-4117-89B0-BE72953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BE8-D5A7-4A9C-A582-D931685E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83FEB-BCDE-480E-B2CA-A9368F7F2561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itres et mentions de respons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: $b guide pratique pour passer à l’action : huit grands secteurs d’activités / $c Marie-Paule Dessaint,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 Ph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/ $c Marie-Paule Dess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: $b des enjeux pour la gouvernance des territoires locaux et régionaux / $c sous la direction de Martin Simard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Danielle Lafontaine, Sébastien Savard, Marielle Tremblay, Pierre-André Tremblay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ition et révision finales, Jean Larrivé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30 $a Des enjeux pour la gouvernance des territoires locaux et rég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/ $c sous la direction de Martin Simard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[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t quatre autres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BANQ</cp:lastModifiedBy>
  <dcterms:modified xsi:type="dcterms:W3CDTF">2013-04-17T20:24:34Z</dcterms:modified>
  <cp:revision>2</cp:revision>
  <dc:subject/>
  <dc:title>Diapositive 1</dc:title>
</cp:coreProperties>
</file>