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2862A-7CF1-4372-A7A9-1F3D1BF358E4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94F-FA9E-4998-A1D8-1297F2B7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710-9AF6-43F7-88B8-C4A97580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C76-2475-4742-8A1A-A373CA56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E77-AB43-44C6-A6C8-C39398AA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343-EC1B-4668-BAB7-D3998E95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A30-F9C3-45E5-B7FD-E310DD9C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EDD-2765-4367-BC8D-E5E632B1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D06-9E32-49C3-BCBD-7C3468E3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F0C-BC2C-4DC4-9640-523EB6A8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940-5A1D-41A7-ACC2-2D5B08C4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044-A109-442F-B87A-8F092F7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113-F41F-449D-8C8D-711D7AAB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02E87-6E02-4019-8325-475EA25D4CBE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itres et mentions de respons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: $b guide pratique pour passer à l’action : huit grands secteurs d’activités / $c Marie-Paule Dessaint,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 Ph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/ $c Marie-Paule Dess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: $b des enjeux pour la gouvernance des territoires locaux et régionaux / $c sous la direction de Martin Simard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Danielle Lafontaine, Sébastien Savard, Marielle Tremblay, Pierre-André Tremblay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ition et révision finales, Jean Larrivé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30 $a Des enjeux pour la gouvernance des territoires locaux et rég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/ $c sous la direction de Martin Simard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[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t quatre autres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BANQ</cp:lastModifiedBy>
  <dcterms:modified xsi:type="dcterms:W3CDTF">2013-04-17T20:24:34Z</dcterms:modified>
  <cp:revision>2</cp:revision>
  <dc:subject/>
  <dc:title>Diapositive 1</dc:title>
</cp:coreProperties>
</file>