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1E7-69A4-4D53-AFC6-84FA8957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19C-4075-4AB6-A8BF-2B2789F3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640-2567-4334-9735-2698A14E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E82-B104-4C0A-9E6D-8642D2E2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963-7F7A-4DCF-9ABD-F55E6D89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3E9-A693-4CEC-9F83-A6668CCB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3BC-2872-4916-B560-92EB0807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4BB-51CE-4844-B3FA-D25C6996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74F-F326-49AF-A0C0-1DAD56FE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9E8-CCFA-4192-AF6F-C76CF080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F6D-2921-4D8F-A220-64D8C388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766-7B94-4F92-9924-2E491D73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EAC7E-0C02-4627-8EBA-13301F26C867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 d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1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830 _0 $a Tendances et débats en développement régional ; $v n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0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41Z</dcterms:modified>
  <cp:revision>3</cp:revision>
  <dc:subject/>
  <dc:title>Diapositive 1</dc:title>
</cp:coreProperties>
</file>