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43E-0C5E-49FF-AB67-4677D219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2D2-6EE5-4A9F-9FF1-D29884DC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A27-D16F-4B85-B2E5-4E5B0761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26E-12FE-4443-B12A-AC0D01FA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EBF-35F3-4064-B7A6-FC0EE4C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6C3-EED3-4AB1-8B31-67A3EEAB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C3D-0A10-4463-8985-7AD2BCA0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61A-3180-4074-AD71-1F37C46D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34F-CB95-425B-948D-D21BF777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C00-CC37-4C9B-A874-BD43F66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D0D-3893-4A02-81F3-E8A6D5C2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48D-C7E5-4A1C-858B-9664383E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5931A-0DA4-48C5-98BD-A818BE64EA95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ntion d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 (auc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1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830 _0 $a Tendances et débats en développement régional ; $v n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490 0_ $a Tendances et débats en développement régional ; $v n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mé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Pat Riva</cp:lastModifiedBy>
  <dcterms:modified xsi:type="dcterms:W3CDTF">2013-04-12T20:58:41Z</dcterms:modified>
  <cp:revision>3</cp:revision>
  <dc:subject/>
  <dc:title>Diapositive 1</dc:title>
</cp:coreProperties>
</file>