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58920" y="730080"/>
            <a:ext cx="479088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4559400"/>
            <a:ext cx="58482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70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734C-FE5F-40F2-859D-B7537C2459FD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EFEC-3DAA-4CA3-A72E-F13A4E299667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8C27-BECC-4CEA-976D-5575E023D233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10254-F3CF-440E-BA25-62EC6D8FAED3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60EBD-3541-4012-B4D9-C64AA161BF30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2819-8C46-4B6B-9E0E-67C3A7153BC5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4140360" y="9120240"/>
            <a:ext cx="31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49240"/>
                <a:tab algn="l" pos="1276200"/>
                <a:tab algn="l" pos="1701720"/>
                <a:tab algn="l" pos="2128680"/>
                <a:tab algn="l" pos="2554200"/>
                <a:tab algn="l" pos="2981160"/>
                <a:tab algn="l" pos="3406680"/>
                <a:tab algn="l" pos="3833640"/>
                <a:tab algn="l" pos="4259160"/>
                <a:tab algn="l" pos="4686480"/>
                <a:tab algn="l" pos="5111640"/>
                <a:tab algn="l" pos="5537160"/>
                <a:tab algn="l" pos="5964120"/>
                <a:tab algn="l" pos="6389640"/>
                <a:tab algn="l" pos="6816600"/>
                <a:tab algn="l" pos="7242120"/>
                <a:tab algn="l" pos="7669080"/>
                <a:tab algn="l" pos="8094600"/>
                <a:tab algn="l" pos="85215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1C3BE-3A3C-4137-A1BE-89925C9F8F19}" type="slidenum">
              <a:rPr b="0" lang="fr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7B8-F203-4783-A744-070D784D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2EA-88C0-473F-B9FA-16D0857F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199-3086-4DF9-B8E0-FC41F345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38D-CDC9-4DB0-A7C7-67A71E0C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01A-83F5-43BE-9A27-8CA1EBAA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599-62C1-4142-BCAB-EDC7A71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6E8-A34B-4AB5-8A1B-C69CCDF5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343-4D05-4082-9020-C58291E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7E1-42E0-4BB0-8734-16A2B46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5AE-7145-4A25-82FC-2B378DC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BC4-1364-44E2-8A61-F2C6D2B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A6E-34A5-4ECE-B95D-28E21CC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0186F-ACDD-4D36-961B-003AC9901EB9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s de public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©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Saint-Constant, Q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, Canada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Broquet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692360"/>
            <a:ext cx="9145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 ; $a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CRDT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DEQ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$a [Saguenay, Québec] : $b</a:t>
            </a:r>
            <a:r>
              <a:rPr b="0" lang="fr-C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imouski, 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$a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 (Province)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ARUC-ÉS : $b CRDT : $b GRIDEQ : $b GRIR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acultatif d'ajouter aus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2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Rimouski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ébec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distribution, GRIDEQ, $c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[20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4 $c ©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264 _1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$a [Montréal] : $b ARUC-ÉS, $c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cp:lastPrinted>2014-04-14T20:13:04Z</cp:lastPrinted>
  <dcterms:modified xsi:type="dcterms:W3CDTF">2014-05-01T20:18:09Z</dcterms:modified>
  <cp:revision>9</cp:revision>
  <dc:subject/>
  <dc:title>Diapositive 1</dc:title>
</cp:coreProperties>
</file>