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D33FB-F533-4B44-8B62-1CE025589923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DDC-3B6F-49A0-9BDE-5D17EAE7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A280-DEE5-4162-9762-1D8E2C9C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57AD-B497-43AC-95F5-0C3121E3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435-E76E-4A65-BC40-25F675C9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BB8-0618-4316-B64B-CBFC73B0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6C5-2B68-4EBB-BFCD-72E9EA0E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269-6DFA-4DB1-8668-0A311976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0F35-6921-46D7-BABD-40B36E02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259A-8DFF-4E6A-81CA-75812E47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CB2A-493A-414E-A6FB-41A5D970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AA2A-5909-4B66-BD8F-2496572F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FD79-AFFC-4F62-80BD-3AE913B3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5B1A9-8B02-4A26-AF3A-9FA65C4AC071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Titres et mentions de respons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Quoi faire à la retraite? : $b guide pratique pour passer à l’action : huit grands secteurs d’activités / $c Marie-Paule Dessaint,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 Ph.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Quoi faire à la retraite? / $c Marie-Paule Dessa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Inégalités, démocratie et développement : $b des enjeux pour la gouvernance des territoires locaux et régionaux / $c sous la direction de Martin Simard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Danielle Lafontaine, Sébastien Savard, Marielle Tremblay, Pierre-André Tremblay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ition et révision finales, Jean Larrivé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6 30 $a Des enjeux pour la gouvernance des territoires locaux et rég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45 ?0 $a Inégalités, démocratie et développement / $c sous la direction de Martin Simard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  <a:ea typeface="Arial"/>
              </a:rPr>
              <a:t>[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t quatre autres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  <a:ea typeface="Arial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BANQ</cp:lastModifiedBy>
  <dcterms:modified xsi:type="dcterms:W3CDTF">2013-04-17T20:24:34Z</dcterms:modified>
  <cp:revision>2</cp:revision>
  <dc:subject/>
  <dc:title>Diapositive 1</dc:title>
</cp:coreProperties>
</file>