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manifestations et 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097889A-10AE-47F5-969D-997FE02CF621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manifestations et 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6D701B-1BD8-4295-8873-E992CDBD4DB1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3535-AED1-4780-9E65-5FD52675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2052-5ABB-474E-AF27-2846ABFA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BFCF-D33D-49DB-B339-9308DB23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91F0-FD7A-414F-8FAB-028C1E04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F979-1201-4690-A12F-B0DBE098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BAC8-F92D-4C6B-84FA-1EEFF6EA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2868-9672-4EA6-B184-989FC13D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B729-14DD-4694-B65A-400D6252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FCCE-2938-4E30-AF42-770E1B16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9D92-3C30-4E70-A564-DD165D16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05AA-D834-47C9-A9DD-F34D8DB4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DDD9-B1A3-4241-9D87-4D10EA8F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91BF-4F65-4873-A956-5BBAFBF385D2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539640" y="2205000"/>
            <a:ext cx="7921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40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Identification des manifestations et des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5045-59C8-4D9F-9C03-0350FA53308B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7848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 terme RDA pour le concept RCAA2 de « vedette » es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63480" y="2316240"/>
            <a:ext cx="779616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Cré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Point d’accès autor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Variante de point d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Titre privilég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CC48-5357-4C1C-B416-A7ACF694EC08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À quels termes RDA correspondent les termes RCAA2 ci-dessou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88920"/>
            <a:ext cx="339408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Auteur, composit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Vedette princip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Co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Renvoi 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780000" y="1887480"/>
            <a:ext cx="518472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Titre privilégié et, si approprié, point d’accès autorisé pour le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Description du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95280" y="4684680"/>
            <a:ext cx="85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) Auteur, compositeur, etc. = 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) Vedette principale            = b) Titre privilégié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) Collation                           = d) Description du suppor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) Renvoi voir                       = 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81AD-1C95-4D54-9824-0ADCE30EA3F5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 terme RCAA2 «source principale» a été remplacé par quel terme RD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569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Source principale (c.-à.-d. le terme n’a pas changé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Source presc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 Source privilégié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) Sources privilégié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0EDB-6995-4EF9-A902-1A4E6E727E22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En général, vous cataloguez _____, même si une notice bibliographique contient aussi des éléments des autres entités OEM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a) L’œuv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b) L’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) La manife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) L’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2B2E-04B0-41BF-8737-BE29DF973ED9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Quels sont les moyens de reconnaître une notice bibliographique RDA?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06 a la valeur « c 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18 a la valeur « i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1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2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39C9-A8E6-4574-A676-C428B4655F37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« Prenez ce que vous voyez et acceptez ce que vous trouvez » est le résumé de quel principe important?</a:t>
            </a: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principe FRBR des entités du groupe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principe international de catalogage de représenta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lignes directrices de l’IFLA sur la transcription des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instructions RDA sur l’exac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B058-8C41-4AC0-9809-28274249BAB0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Faites correspondre le 2</a:t>
            </a:r>
            <a:r>
              <a:rPr b="1" lang="fr-CA" sz="3000" spc="-1" strike="noStrike" baseline="30000">
                <a:solidFill>
                  <a:srgbClr val="333399"/>
                </a:solidFill>
                <a:latin typeface="Arial"/>
              </a:rPr>
              <a:t>e</a:t>
            </a:r>
            <a:r>
              <a:rPr b="1" lang="fr-CA" sz="3000" spc="-1" strike="noStrike">
                <a:solidFill>
                  <a:srgbClr val="333399"/>
                </a:solidFill>
                <a:latin typeface="Arial"/>
              </a:rPr>
              <a:t> indicateur de la zone 264 avec l’élément RDA qu’il doit désigner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99308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264 #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757080" y="4297320"/>
            <a:ext cx="77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1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2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3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264 #4       = 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333399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AEC4-FF2E-420D-B5B6-4B1A393076F7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Vrai ou faux?</a:t>
            </a:r>
            <a:br>
              <a:rPr sz="2800"/>
            </a:b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Vous pouvez enregistrer une date de copyright, en plus d’une date de publication, mais vous n’êtes pas obligés de le f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040" y="2924280"/>
            <a:ext cx="76532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) 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b) 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9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0" dur="indefinite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8:45:44Z</dcterms:created>
  <dc:creator>BANQ</dc:creator>
  <dc:description/>
  <dc:language>en-US</dc:language>
  <cp:lastModifiedBy>BANQ</cp:lastModifiedBy>
  <dcterms:modified xsi:type="dcterms:W3CDTF">2013-04-17T20:22:37Z</dcterms:modified>
  <cp:revision>97</cp:revision>
  <dc:subject/>
  <dc:title>Identification des manifestations et des items</dc:title>
</cp:coreProperties>
</file>