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98EB14-B8F2-414B-8ABB-8AF97B013E1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22A597-4252-4014-9BD0-25DAC47CC73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55E-9BE8-4446-B31C-688F5F1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7E7-5D06-4FA5-AC3E-9A44CBA2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ED5-C733-4223-8754-6181CB30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4AC-0683-4F5B-999D-CA2CA660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58E-4E06-4A2E-9793-53AF4C7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02C-474C-4176-906A-0B39568F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3C1-82BA-4543-ABC3-5F024BB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8CA-17F6-4EB9-8B1A-0B23E3D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837-D895-4339-B9F9-172072B0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3BB-E7D4-4BC9-8E63-238079DB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866-A0C8-4BE4-AA8B-0B70485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F98-37D1-4EB5-9B70-C5D78E6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331F-E6D3-4CA9-8D59-73A4C40272F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9285-5892-4A83-A7E6-27381B8063B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7B5C-D158-4130-8112-AD1526C894C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82E-7037-4914-A3E8-6BAA9497945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55A-B37D-4C65-930C-6EDC687E211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FF0-B954-4B69-8F45-177BC95764C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6A0D-DFB5-402C-8BD5-168674FFDB8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3A7-0C67-4052-8405-C5B25607E99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D79-3E60-4980-8B59-6E8D3FE112D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BANQ</cp:lastModifiedBy>
  <dcterms:modified xsi:type="dcterms:W3CDTF">2013-04-17T20:22:37Z</dcterms:modified>
  <cp:revision>97</cp:revision>
  <dc:subject/>
  <dc:title>Identification des manifestations et des items</dc:title>
</cp:coreProperties>
</file>