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manifestations et des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CDDD5A8-E562-4C4F-98CA-16594EE29395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manifestations et des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50A2536-0EB3-4E6E-819C-ADEA097EBD5C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7977-0E31-490A-8BC5-FF266ABF2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4B42-CCD1-4363-ABF6-FAF53AF6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6157-3817-4859-AF0D-432B7B674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D57B-63F0-4591-9BC5-B95852B6A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1FDD-768F-4136-B8E8-2E33AA07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CD59-EF4F-4BE2-AA26-695D81A6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BA74-B5B0-4B57-AC95-D2407E98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0B90-A4EE-4BC2-9F0D-AC8F8092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B242-78B1-44E8-8314-96FFB6FA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4297-857D-4D41-BAD9-15E31964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BD62-BA5D-49C7-80FE-B6E69B8B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8BA3-2E28-49B4-AACE-89104392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EDE0-01D1-4B01-983E-3874E38EA3C4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539640" y="2205000"/>
            <a:ext cx="79218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Quiz</a:t>
            </a:r>
            <a:br>
              <a:rPr sz="4000"/>
            </a:br>
            <a:r>
              <a:rPr b="1" i="1" lang="fr-FR" sz="3600" spc="-1" strike="noStrike">
                <a:solidFill>
                  <a:srgbClr val="333399"/>
                </a:solidFill>
                <a:latin typeface="Arial"/>
              </a:rPr>
              <a:t>Identification des manifestations et des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F58F-8D99-445E-B441-0C32F63D7D57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620640"/>
            <a:ext cx="7848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e terme RDA pour le concept RCAA2 de « vedette » es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63480" y="2316240"/>
            <a:ext cx="779616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Cré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Variante de point d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Titre privilég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092F-3CCC-47EB-8AC1-ABA5894620B5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À quels termes RDA correspondent les termes RCAA2 ci-dessou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88920"/>
            <a:ext cx="339408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Auteur, composit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Vedette princip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Co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Renvoi 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780000" y="1887480"/>
            <a:ext cx="518472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Variante de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Titre privilégié et, si approprié, point d’accès autorisé pour le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Description du support 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95280" y="4684680"/>
            <a:ext cx="85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) Auteur, compositeur, etc. = c)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) Vedette principale            = b) Titre privilégié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) Collation                           = d) Description du suppor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4) Renvoi voir                       = a) Variante de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8CF4-EDA5-4432-9D81-37E5831727D8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e terme RCAA2 «source principale» a été remplacé par quel terme RDA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569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) Source principale (c.-à.-d. le terme n’a pas changé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 Source presc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) Source privilégié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) Sources privilégié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" dur="indefinite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6" dur="indefinite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0D9B-3289-43EB-9008-8247B72AD1A0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En général, vous cataloguez _____, même si une notice bibliographique contient aussi des éléments des autres entités OEM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a) L’œuv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b) L’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) La manife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d) L’i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5DDF-6AEF-405C-9DE5-BACFCC1013FA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Arial"/>
              </a:rPr>
              <a:t>Quels sont les moyens de reconnaître une notice bibliographique RDA?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06 a la valeur « c 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18 a la valeur « i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040 $e contient le code « rda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1" dur="indefinite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2" dur="indefinite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8082-4C0E-48A3-A8B0-4D8F7A8228A8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« Prenez ce que vous voyez et acceptez ce que vous trouvez » est le résumé de quel principe important?</a:t>
            </a: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principe FRBR des entités du groupe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principe international de catalogage de représentati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s lignes directrices de l’IFLA sur la transcription des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s instructions RDA sur l’exac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" dur="indefinite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2" dur="indefinite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C524-69A0-47B6-951D-2E1C6637D952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Faites correspondre le 2</a:t>
            </a:r>
            <a:r>
              <a:rPr b="1" lang="fr-CA" sz="3000" spc="-1" strike="noStrike" baseline="30000">
                <a:solidFill>
                  <a:srgbClr val="333399"/>
                </a:solidFill>
                <a:latin typeface="Arial"/>
              </a:rPr>
              <a:t>e</a:t>
            </a: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 indicateur de la zone 264 avec l’élément RDA qu’il doit désigner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99308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2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757080" y="4297320"/>
            <a:ext cx="777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1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2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3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4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F425-52B2-4F55-BF90-ED18573E3B10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Vrai ou faux?</a:t>
            </a:r>
            <a:br>
              <a:rPr sz="2800"/>
            </a:b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Vous pouvez enregistrer une date de copyright, en plus d’une date de publication, mais vous n’êtes pas obligés de le f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040" y="2924280"/>
            <a:ext cx="76532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) 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b) 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9" dur="indefinite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0" dur="indefinite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8:45:44Z</dcterms:created>
  <dc:creator>BANQ</dc:creator>
  <dc:description/>
  <dc:language>en-US</dc:language>
  <cp:lastModifiedBy>BANQ</cp:lastModifiedBy>
  <dcterms:modified xsi:type="dcterms:W3CDTF">2013-04-17T20:22:37Z</dcterms:modified>
  <cp:revision>97</cp:revision>
  <dc:subject/>
  <dc:title>Identification des manifestations et des items</dc:title>
</cp:coreProperties>
</file>