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BDB9170-6D22-427A-9279-003C27F5B71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76C18F3-0428-44E0-9846-CA32716C995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ADA278-A4A1-451B-9A5F-80069CC144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056170-46DE-4792-9655-6ACD7F6784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7DB299-26EE-4AFF-8BAA-48BB0EB53D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3A7A92-4DCF-42D2-A8D6-B9D623E43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286F3A-1AE9-4CD6-92E8-2DCDB32934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47781B-4EFD-4BDC-A04E-853C2C854A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B30A53-EA4C-4917-8DC0-3A0094E355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5B14A3-7963-48EB-80C8-85517C957C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38E377-0EC1-4B7C-B581-AC234F5EE1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2A93F9-41F4-4001-ACC8-0A098CE2F7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51F35A-D728-4D89-B6C3-EA38B70918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43EE96-45C6-4144-9EAE-3DBF60583A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BF5D75-CBF1-4051-810D-D0DA069357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85321E-B6F7-4A7D-B414-03F3CAC02F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9CC04A-B30F-4233-BD7F-FB9CAB3C19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BC1289-62C8-44DB-B3E1-2208EBD566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76D946-16D1-4C4A-98E9-7FA0767618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5657B3-DB88-4241-A107-07691D1292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397B98-0C16-4FC0-AC66-CFF6D6B9E2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2DD8CD-681C-486A-9DB3-F72E0F77C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4D0455-8CC8-4824-A2E2-3643329F8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4EFC85-BBE5-49B5-ABEC-272EFA2DF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93C5D2-F9AC-47D9-A8F3-D28AC8EA59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744D5B-DE9C-4CF8-BA24-2171478863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5C86B9-45E5-4F3C-BC7F-743498DE3D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99E39C9-D133-4794-8C02-6D40FE60F8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7"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8"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9"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Ces deux transcriptions sont aussi acceptables l’une que l’autr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A8283E9-4394-40F4-8973-6E332A6F4BB7}"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CB133A-C080-4932-9B43-9187C31A0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0453D8-FF88-4675-AA4F-41B9D0970E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15"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1E409D-BB79-453D-86CE-F4BDB994C8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1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6E795CDA-0743-4DA1-89CF-70879A7ADEDF}" type="slidenum">
              <a:t>1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17"/>
                                        </p:tgtEl>
                                        <p:attrNameLst>
                                          <p:attrName>style.visibility</p:attrName>
                                        </p:attrNameLst>
                                      </p:cBhvr>
                                      <p:to>
                                        <p:strVal val="visible"/>
                                      </p:to>
                                    </p:set>
                                    <p:anim calcmode="lin" valueType="num">
                                      <p:cBhvr additive="repl">
                                        <p:cTn id="14" dur="1000" fill="hold"/>
                                        <p:tgtEl>
                                          <p:spTgt spid="117"/>
                                        </p:tgtEl>
                                        <p:attrNameLst>
                                          <p:attrName>ppt_w</p:attrName>
                                        </p:attrNameLst>
                                      </p:cBhvr>
                                      <p:tavLst>
                                        <p:tav tm="0">
                                          <p:val>
                                            <p:fltVal val="0"/>
                                          </p:val>
                                        </p:tav>
                                        <p:tav tm="100000">
                                          <p:val>
                                            <p:strVal val="#ppt_w"/>
                                          </p:val>
                                        </p:tav>
                                      </p:tavLst>
                                    </p:anim>
                                    <p:anim calcmode="lin" valueType="num">
                                      <p:cBhvr additive="repl">
                                        <p:cTn id="15" dur="1000" fill="hold"/>
                                        <p:tgtEl>
                                          <p:spTgt spid="117"/>
                                        </p:tgtEl>
                                        <p:attrNameLst>
                                          <p:attrName>ppt_h</p:attrName>
                                        </p:attrNameLst>
                                      </p:cBhvr>
                                      <p:tavLst>
                                        <p:tav tm="0">
                                          <p:val>
                                            <p:fltVal val="0"/>
                                          </p:val>
                                        </p:tav>
                                        <p:tav tm="100000">
                                          <p:val>
                                            <p:strVal val="#ppt_h"/>
                                          </p:val>
                                        </p:tav>
                                      </p:tavLst>
                                    </p:anim>
                                    <p:anim calcmode="lin" valueType="num">
                                      <p:cBhvr additive="repl">
                                        <p:cTn id="1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7A46E9-1432-4F56-A1CB-F77F1F8284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DC439B-95E3-481D-892E-4D600006CD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24"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25"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26"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2A470EE-0F0F-460A-A021-858AC9EA22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A8E697-F678-406E-8507-8A1D698E13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D7D5C9-9926-4C87-81EF-E73A435A47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EDB839-E205-4E16-A21D-6F27F97BB3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C1FF37-AA53-41B7-89E5-30279D1B7F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6F96D6-E0A4-4250-B418-E36669A61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D98951-060F-4FD9-9CDC-AE0783595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38"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B44DBB-6CF5-4F75-B5F5-2E3548B93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3E4BF2-B0C0-4727-BE61-599BAE1100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AE111E0-4CE6-4642-8548-B023DFC4D9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46"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47"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48"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149"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50"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DDD551F5-B463-4413-A920-E4ED34FA945C}" type="slidenum">
              <a:t>2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gtEl>
                                        <p:attrNameLst>
                                          <p:attrName>style.visibility</p:attrName>
                                        </p:attrNameLst>
                                      </p:cBhvr>
                                      <p:to>
                                        <p:strVal val="visible"/>
                                      </p:to>
                                    </p:set>
                                    <p:animEffect filter="dissolve" transition="in">
                                      <p:cBhvr additive="repl">
                                        <p:cTn id="24" dur="500"/>
                                        <p:tgtEl>
                                          <p:spTgt spid="1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52"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3"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56309B0-F8CA-41FD-82EF-8358987CD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6F5616-17BA-4ABE-BF68-BDD817BEF6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5BBB2C-CD52-4833-A9A2-40B1C46D0A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DE28F4-445E-4845-B5AE-B8DF8C13B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0"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61"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C54F65A-1B20-45AA-98C2-36E87225A0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7558D1-501D-4481-A74E-B8E09A0CA2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8C0FEB-A4E9-4565-93C0-89E7044FF7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68"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22031A83-E8E0-4FEC-A0B3-C4057B3D52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A9B97D-2F25-45BA-96C6-DFA706CD35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8818B6-F763-46F3-9270-ACEB7567DE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03AB55-8556-49BD-8AA8-6B9E8C5FE9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42F224-AA85-458E-B83F-39D6FA81E9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A21AD1-BD45-49F7-B464-9EAF06E07C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70404F-8F0A-4925-917A-911E398A8E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577B5D-A2E9-4206-A599-272A638593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595C64-F0CC-4626-827F-FC30D1E7BE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a:t>
            </a:r>
            <a:r>
              <a:rPr b="0" lang="en-US" sz="2400" spc="-1" strike="noStrike">
                <a:solidFill>
                  <a:srgbClr val="000000"/>
                </a:solidFill>
                <a:latin typeface="Arial"/>
              </a:rPr>
              <a:t>et</a:t>
            </a:r>
            <a:r>
              <a:rPr b="0" lang="en-US" sz="2400" spc="-1" strike="noStrike">
                <a:solidFill>
                  <a:srgbClr val="008080"/>
                </a:solidFill>
                <a:latin typeface="Arial"/>
              </a:rPr>
              <a:t> 2.9.3 </a:t>
            </a:r>
            <a:r>
              <a:rPr b="0" lang="en-US" sz="2400" spc="-1" strike="noStrike">
                <a:solidFill>
                  <a:srgbClr val="000000"/>
                </a:solidFill>
                <a:latin typeface="Arial"/>
              </a:rPr>
              <a:t>et</a:t>
            </a:r>
            <a:r>
              <a:rPr b="0" lang="en-US"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EC727A-6D76-4409-8627-73B9BA8B09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86" name="PlaceHolder 2"/>
          <p:cNvSpPr>
            <a:spLocks noGrp="1"/>
          </p:cNvSpPr>
          <p:nvPr>
            <p:ph/>
          </p:nvPr>
        </p:nvSpPr>
        <p:spPr>
          <a:xfrm>
            <a:off x="654120" y="1600200"/>
            <a:ext cx="78739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Fournir</a:t>
            </a:r>
            <a:r>
              <a:rPr b="0" lang="en-US" sz="2400" spc="-1" strike="noStrike">
                <a:solidFill>
                  <a:srgbClr val="000000"/>
                </a:solidFill>
                <a:latin typeface="Arial"/>
              </a:rPr>
              <a:t> le lieu de publication ou le lieu de publication probable </a:t>
            </a:r>
            <a:r>
              <a:rPr b="0" lang="en-US" sz="2400" spc="-1" strike="noStrike">
                <a:solidFill>
                  <a:srgbClr val="008080"/>
                </a:solidFill>
                <a:latin typeface="Arial"/>
              </a:rPr>
              <a:t>autant que possible</a:t>
            </a:r>
            <a:r>
              <a:rPr b="0" lang="en-US"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8.2.6</a:t>
            </a:r>
            <a:r>
              <a:rPr b="0" lang="en-US" sz="2400" spc="-1" strike="noStrike">
                <a:solidFill>
                  <a:srgbClr val="000000"/>
                </a:solidFill>
                <a:latin typeface="Arial"/>
              </a:rPr>
              <a:t> indique aux catalogueurs de fournir si possible un lieu de publication au lieu d’enregistrer </a:t>
            </a:r>
            <a:br>
              <a:rPr sz="2400"/>
            </a:br>
            <a:r>
              <a:rPr b="0" lang="en-US" sz="2400" spc="-1" strike="noStrike">
                <a:solidFill>
                  <a:srgbClr val="000000"/>
                </a:solidFill>
                <a:latin typeface="Arial"/>
              </a:rPr>
              <a:t>« [</a:t>
            </a:r>
            <a:r>
              <a:rPr b="0" i="1" lang="en-US" sz="2400" spc="-1" strike="noStrike">
                <a:solidFill>
                  <a:srgbClr val="000000"/>
                </a:solidFill>
                <a:latin typeface="Arial"/>
              </a:rPr>
              <a:t>Lieu de publication non identifi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10417A-F11B-4AB5-9481-C30C148DDD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88"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89"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D7917857-C536-4C20-9596-5931692FF7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 le </a:t>
            </a:r>
            <a:r>
              <a:rPr b="0" lang="en-US" sz="2400" spc="-1" strike="noStrike">
                <a:solidFill>
                  <a:srgbClr val="008080"/>
                </a:solidFill>
                <a:latin typeface="Arial"/>
              </a:rPr>
              <a:t>premier lieu</a:t>
            </a:r>
            <a:r>
              <a:rPr b="0" lang="en-US" sz="2400" spc="-1" strike="noStrike">
                <a:solidFill>
                  <a:srgbClr val="000000"/>
                </a:solidFill>
                <a:latin typeface="Arial"/>
              </a:rPr>
              <a:t> de publication est </a:t>
            </a:r>
            <a:r>
              <a:rPr b="0" lang="en-US" sz="2400" spc="-1" strike="noStrike">
                <a:solidFill>
                  <a:srgbClr val="008080"/>
                </a:solidFill>
                <a:latin typeface="Arial"/>
              </a:rPr>
              <a:t>fondamental</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l.]</a:t>
            </a:r>
            <a:r>
              <a:rPr b="0" lang="en-US"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Ne pas corriger</a:t>
            </a:r>
            <a:r>
              <a:rPr b="0" lang="en-US"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19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9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A2BB775F-E222-40A4-8CD7-A1CB9E9B3F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C7E067-F344-47F1-9D41-29956DBBE4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9391FF-4AE2-4F35-BE22-DA20AC1AEA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nom d’un éditeur figure dans plus d’une langue ou d’une écriture, enregistrer la forme qui est dans la </a:t>
            </a:r>
            <a:r>
              <a:rPr b="0" lang="en-US"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1B43C2-0636-4FDC-BC5B-0658026BD5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71AF7A-122B-4F0F-B483-315158E0D2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3D9C69-0045-4F22-A893-354DBD6A2C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2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éditeur n’est identifié dans la ressource ou dans d’autres sources, enregistrer </a:t>
            </a:r>
            <a:br>
              <a:rPr sz="2400"/>
            </a:br>
            <a:r>
              <a:rPr b="0" lang="en-US"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 pas utiliser</a:t>
            </a:r>
            <a:r>
              <a:rPr b="0" lang="en-US" sz="2400" spc="-1" strike="noStrike">
                <a:solidFill>
                  <a:srgbClr val="000000"/>
                </a:solidFill>
                <a:latin typeface="Arial"/>
              </a:rPr>
              <a:t> « [s.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D76EC8-CDCC-4BF7-940A-76C7709883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05"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206"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207"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208"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436E73BA-C33F-48FF-8D5F-8BB21E9B60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581C45-80DA-482F-B12F-AF04BE6FF5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6951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y a aucune date de publication sur la ressource, </a:t>
            </a:r>
            <a:r>
              <a:rPr b="0" lang="en-US" sz="2400" spc="-1" strike="noStrike">
                <a:solidFill>
                  <a:srgbClr val="008080"/>
                </a:solidFill>
                <a:latin typeface="Arial"/>
              </a:rPr>
              <a:t>fournir</a:t>
            </a:r>
            <a:r>
              <a:rPr b="0" lang="en-US" sz="2400" spc="-1" strike="noStrike">
                <a:solidFill>
                  <a:srgbClr val="000000"/>
                </a:solidFill>
                <a:latin typeface="Arial"/>
              </a:rPr>
              <a:t> une date probable </a:t>
            </a:r>
            <a:r>
              <a:rPr b="0" lang="en-US"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a:t>
            </a:r>
            <a:r>
              <a:rPr b="0" lang="en-US" sz="2400" spc="-1" strike="noStrike">
                <a:solidFill>
                  <a:srgbClr val="008080"/>
                </a:solidFill>
                <a:latin typeface="Arial"/>
              </a:rPr>
              <a:t>LC-PCC PS 2.8.6.6</a:t>
            </a:r>
            <a:r>
              <a:rPr b="0" lang="en-US" sz="2400" spc="-1" strike="noStrike">
                <a:solidFill>
                  <a:srgbClr val="000000"/>
                </a:solidFill>
                <a:latin typeface="Arial"/>
              </a:rPr>
              <a:t> sur l’ajout d’une date de publication probable au lieu de donner </a:t>
            </a:r>
            <a:br>
              <a:rPr sz="2400"/>
            </a:br>
            <a:r>
              <a:rPr b="0" lang="en-US"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303041-9078-4EB1-BBB0-C17DFD071A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4CA8F92-D5BF-4DC3-B635-083AB4665C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1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DDC3794B-87ED-4A74-9BF1-895F7ED14F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220"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872E5464-DC98-42B7-B8F5-42CF9CE60A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2"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23"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7DB9A817-2A8B-4366-A265-FF07C268AC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5"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6" name="Rectangle 6"/>
          <p:cNvSpPr/>
          <p:nvPr/>
        </p:nvSpPr>
        <p:spPr>
          <a:xfrm>
            <a:off x="492120" y="3392640"/>
            <a:ext cx="8381880" cy="31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4F82BE2D-A9C4-4F37-967E-FC48523514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8"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882CB0-F540-4717-96FC-5A85CCBCEA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12FAA3-05A8-4DBF-9EFC-0A1DE11329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 name="PlaceHolder 2"/>
          <p:cNvSpPr>
            <a:spLocks noGrp="1"/>
          </p:cNvSpPr>
          <p:nvPr>
            <p:ph type="sldNum" idx="2"/>
          </p:nvPr>
        </p:nvSpPr>
        <p:spPr/>
        <p:txBody>
          <a:bodyPr/>
          <a:p>
            <a:fld id="{545C27A0-4F89-4D09-8880-B26F52A83C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0127EEA5-E8BA-4A59-B9F2-3595BF03C3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35"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0593128-768F-4347-ADC2-70CC4284FB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4208C8-5248-4788-A558-CF1D52F043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CADD94-AB86-432D-BA77-7FFA142C8D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41"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24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D30F78C-731B-4424-ADCF-6B8360A8C9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DEFAE4-5887-4701-8FB9-1D3F87BF01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A4B4D0-15F7-4F95-9922-847CB30C4D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85346D-B09C-4ECF-ACD0-E3D476ABFB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50A5B7-3CC7-4165-BBF7-2DB1F3D49A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E2DA0C-D6DA-4834-BBA0-8D664258D8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252" name="PlaceHolder 2"/>
          <p:cNvSpPr>
            <a:spLocks noGrp="1"/>
          </p:cNvSpPr>
          <p:nvPr>
            <p:ph/>
          </p:nvPr>
        </p:nvSpPr>
        <p:spPr>
          <a:xfrm>
            <a:off x="654120" y="1599840"/>
            <a:ext cx="8229600" cy="456084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5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5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C676CC5-0A3F-49DD-AC92-743B8FB1A4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Guide/07</a:t>
            </a:r>
            <a:r>
              <a:rPr b="0" lang="en-US" sz="2400" spc="-1" strike="noStrike">
                <a:solidFill>
                  <a:srgbClr val="000000"/>
                </a:solidFill>
                <a:latin typeface="Arial"/>
              </a:rPr>
              <a:t> MARC : </a:t>
            </a:r>
            <a:r>
              <a:rPr b="0" lang="en-US" sz="2400" spc="-1" strike="noStrike">
                <a:solidFill>
                  <a:srgbClr val="008080"/>
                </a:solidFill>
                <a:latin typeface="Arial"/>
              </a:rPr>
              <a:t>Niveau bibliographiqu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9DF7F6-41F3-40AC-8958-4BF0963F40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2E1C02-B6FA-47DC-BD0E-B9035D5684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0"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8A60566-E176-4E0A-943F-0FA3E962D6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996A91-35BD-46A1-84E3-651FE145C2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DA3968-B9A4-4456-94C7-16828362F1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ABA2AE-8A05-4EF3-B45A-594F93249F8E}"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9001F1-3EE2-4A71-8B17-46C9642A33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80"/>
                </a:solidFill>
                <a:latin typeface="Arial"/>
              </a:rPr>
              <a:t>Votre</a:t>
            </a:r>
            <a:r>
              <a:rPr b="0" lang="en-US" sz="2800" spc="-1" strike="noStrike">
                <a:solidFill>
                  <a:srgbClr val="000000"/>
                </a:solidFill>
                <a:latin typeface="Arial"/>
              </a:rPr>
              <a:t> choi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F01A50-3C06-448D-901C-099895598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37Z</dcterms:modified>
  <cp:revision>404</cp:revision>
  <dc:subject/>
  <dc:title>Diapositive 1</dc:title>
</cp:coreProperties>
</file>