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69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73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</p:sldIdLst>
  <p:sldSz cx="9144000" cy="6858000"/>
  <p:notesSz cx="70056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56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96684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  <a:def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05EA2D3C-DA88-41B2-A01B-69C832E911FD}" type="datetime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6-07-30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-360" y="875952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966840" y="875952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  <a:def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0AB57BD9-E246-4ED8-A6A7-0E951919A4E4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1600" cy="345888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232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B0CBE097-BD01-4199-861E-CA3CAD9DCD27}" type="slidenum"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1600" cy="345888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232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1600" cy="34588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232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1600" cy="345888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232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D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D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5763A12A-3CBF-4175-AC88-2277E8D18785}" type="slidenum"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BAFC7512-7889-4708-92CB-41BE35493CA8}" type="slidenum"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F6C8EDAF-4BDD-481B-BE4B-37A8DE389237}" type="slidenum"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C994F961-09E3-4422-9A28-4E073786876C}" type="slidenum"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DC83128B-A640-4B81-8DFE-DCFB94B46C43}" type="slidenum"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1BE9FAF5-479D-48E8-8FAD-0A0DBCDCBA46}" type="slidenum"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667B7AC8-C9A9-47F3-9DF4-30E8DE8B2BE8}" type="slidenum"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F814A9D2-77D2-4A20-983B-97309D659C2D}" type="slidenum"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1C3E22C6-80FF-409C-A6FC-E880AD3198AD}" type="slidenum"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C21C5D9B-1193-4549-A1CE-214BBDA75EEA}" type="slidenum"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459773BB-07FF-479B-91EF-7FD9A37AEBFE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F76D362A-003B-4FF6-AE5B-961D824BCF40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BB796FD7-36D1-4379-94B9-FB05B3FD9C4A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D452C966-0F51-4B86-B89F-1FDE2401FFB5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E485E6A4-6F55-4E24-9CC9-EB20FC9A7E48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284B6F94-8699-40D9-8992-084F8A3F304C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0B844E4A-88C0-4C9D-813B-C8726BD4167B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4381FB48-7E15-43D5-879D-5ECD74545722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A3EB8103-CEAF-4A78-8873-74032C235BDB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F1AA5E82-D578-4643-98A2-D29C3E10A3BE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F886C89B-FC9C-43DB-A526-519647226CB9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A1FC79EB-ACA4-479A-933B-39924C4A3815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D4CCCD93-D773-4C24-93CC-6BD776282200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23E5802F-629F-45FA-B3DF-78407EC960C4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1600" cy="345888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232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E2FD25C1-7E63-4EA0-B08A-9F70629D4CAD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DD40867D-AF36-400B-92DA-44CBA974AC4B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A31A4CE7-FC95-4D92-9D96-D9D13A02AB35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773965AE-AE9F-43C1-9A8C-C09A93DEC78F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C3D442A3-F3F8-46E9-BE4D-04CA33CBBEEE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D88B5592-AAD5-4E14-8105-F5DCA759EB15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16426174-C217-4FDC-AB05-EEC112004B58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0047CF83-0B9D-415B-95C6-37C3CA4D8B15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8A8FAE23-D377-49A8-B850-BB960ABFAFCA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D40A4BAD-4F71-4D89-AE12-8E135646F396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1600" cy="345888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232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4B48CC97-7CC0-4B86-8AAA-E2899E58D0D6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FCBBB542-8FE5-44C1-BF46-4E1D4395A6FB}" type="slidenum"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028E623A-2A0D-4F37-8698-26277DF13879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6226A7E8-6993-449F-848A-4BB6F4C570DC}" type="slidenum"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8E8407-FAC2-4449-A287-2381A55A1FF5}" type="slidenum">
              <a:rPr b="1" lang="en-US" sz="12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5A107BD5-5F76-4D4B-BB64-75C2276DD3FE}" type="slidenum"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4640792C-9619-4CF9-A0AC-9811F289995B}" type="slidenum"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545900A5-122C-4F43-94CD-8920A6F90A82}" type="slidenum"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1600" cy="345888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232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68AFEF4D-8F47-4CFC-9D24-147E4832B424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9702F1F9-DB1F-42FD-B7E6-7DBCDA11C20C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C18754DD-D83E-44BB-8FD3-DD720663EACF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7AD750A3-8456-42E0-A24A-CE9FB7A654EF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BACDA-3148-4A4F-9FE6-0BBF33D21B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71E7C-5A19-40A8-9B6A-A99AC66DCC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B4458-32C6-4385-B08C-A98D802883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BCF2E-B2AF-4B71-AB61-CAB2FAE667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54ACC-7851-4250-9D73-D5FD1C4F92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6ED7A-5802-4DDA-8D89-7F6DE81574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E2A37-F6A0-472A-9832-B5FF42CC6C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E5821-946F-4431-B6B3-65785C79FB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41200"/>
            <a:ext cx="82296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8B51A-2AC9-4FAE-B417-E9FDF473DC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0184A-363E-40BB-AF70-4FCF120A1E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B1ABE-33BA-40BA-BED1-DEA7491361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6CC82-4411-40CE-89F6-5EC41EDA2D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7" descr="bandeauux ppt6.jpg"/>
          <p:cNvPicPr/>
          <p:nvPr/>
        </p:nvPicPr>
        <p:blipFill>
          <a:blip r:embed="rId2"/>
          <a:stretch/>
        </p:blipFill>
        <p:spPr>
          <a:xfrm>
            <a:off x="0" y="2412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601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601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007BBE21-8348-4D2F-B675-42FDD6E8A1D7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ww.rdatoolkit.org/translation/french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hyperlink" Target="http://www.rdatoolkit.org/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hyperlink" Target="http://www.rdatoolkit.org/translation" TargetMode="External"/><Relationship Id="rId2" Type="http://schemas.openxmlformats.org/officeDocument/2006/relationships/hyperlink" Target="http://spectrum.library.concordia.ca/7638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age 7" descr="Image BAnQ.jpg"/>
          <p:cNvPicPr/>
          <p:nvPr/>
        </p:nvPicPr>
        <p:blipFill>
          <a:blip r:embed="rId1"/>
          <a:srcRect l="0" t="6063" r="0" b="0"/>
          <a:stretch/>
        </p:blipFill>
        <p:spPr>
          <a:xfrm>
            <a:off x="0" y="0"/>
            <a:ext cx="9150480" cy="47275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9"/>
          <p:cNvSpPr/>
          <p:nvPr/>
        </p:nvSpPr>
        <p:spPr>
          <a:xfrm>
            <a:off x="657360" y="5464080"/>
            <a:ext cx="602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ZoneTexte 33"/>
          <p:cNvSpPr/>
          <p:nvPr/>
        </p:nvSpPr>
        <p:spPr>
          <a:xfrm>
            <a:off x="685800" y="4800600"/>
            <a:ext cx="8486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Étapes préparatoires avant l’implantation RDA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28"/>
          <p:cNvSpPr/>
          <p:nvPr/>
        </p:nvSpPr>
        <p:spPr>
          <a:xfrm>
            <a:off x="677880" y="5799240"/>
            <a:ext cx="6027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Danielle Poirier et Pat Riva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Direction du traitement documentaire des collections patrimoniale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Centre de conservatio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37" descr="BANi2c"/>
          <p:cNvPicPr/>
          <p:nvPr/>
        </p:nvPicPr>
        <p:blipFill>
          <a:blip r:embed="rId2"/>
          <a:stretch/>
        </p:blipFill>
        <p:spPr>
          <a:xfrm>
            <a:off x="7086600" y="5883120"/>
            <a:ext cx="1925640" cy="822600"/>
          </a:xfrm>
          <a:prstGeom prst="rect">
            <a:avLst/>
          </a:prstGeom>
          <a:ln w="0">
            <a:noFill/>
          </a:ln>
        </p:spPr>
      </p:pic>
      <p:pic>
        <p:nvPicPr>
          <p:cNvPr id="53" name="Image 8" descr="bandeauux ppt.jpg"/>
          <p:cNvPicPr/>
          <p:nvPr/>
        </p:nvPicPr>
        <p:blipFill>
          <a:blip r:embed="rId3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EB872D27-96CA-44FD-B3BE-2B71568BE8C2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ncipes utilisé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repose sur l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incipes internationales de catalog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IFLA 2009) qui actualisent les Principes de Paris (de 1961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s'aligne sur les modèles conceptuels de l'IFLA FRBR et FR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CC57D8B7-D2A2-45C4-AC4F-3C5B785378C0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54120" y="20304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ens uti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0000"/>
                </a:solidFill>
                <a:latin typeface="Arial"/>
              </a:rPr>
              <a:t>Données liées à la B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000" spc="-1" strike="noStrike">
                <a:solidFill>
                  <a:srgbClr val="ff0000"/>
                </a:solidFill>
                <a:latin typeface="Arial"/>
              </a:rPr>
              <a:t>http://data.bnf.f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0000"/>
                </a:solidFill>
                <a:latin typeface="Arial"/>
              </a:rPr>
              <a:t>OCLC Work Records</a:t>
            </a:r>
            <a:br>
              <a:rPr sz="2000"/>
            </a:br>
            <a:r>
              <a:rPr b="0" i="1" lang="fr-CA" sz="1800" spc="-1" strike="noStrike">
                <a:solidFill>
                  <a:srgbClr val="000000"/>
                </a:solidFill>
                <a:latin typeface="Arial"/>
              </a:rPr>
              <a:t>http://www.oclc.org/research/activities/workrec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0000"/>
                </a:solidFill>
                <a:latin typeface="Arial"/>
              </a:rPr>
              <a:t>Classify</a:t>
            </a:r>
            <a:br>
              <a:rPr sz="2000"/>
            </a:br>
            <a:r>
              <a:rPr b="0" i="1" lang="fr-CA" sz="1800" spc="-1" strike="noStrike">
                <a:solidFill>
                  <a:srgbClr val="000000"/>
                </a:solidFill>
                <a:latin typeface="Arial"/>
              </a:rPr>
              <a:t>http://classify.oclc.org/classify2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5CD3493F-1509-48E1-A9A9-00F62CA0769D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1371600" y="4273560"/>
            <a:ext cx="6400800" cy="13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erci de votre at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t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6"/>
          <p:cNvSpPr/>
          <p:nvPr/>
        </p:nvSpPr>
        <p:spPr>
          <a:xfrm>
            <a:off x="690480" y="1882800"/>
            <a:ext cx="3919680" cy="45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Région de Montréal : 514 873-1100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ans frais, d’ailleurs au Québec : 1 800 363-9028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GRANDE BIBLIOTHÈQUE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475, boulevard De Maisonneuve Est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ontréal (Québec)  H2L 5C4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ENTRE DE CONSERVATION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2275, rue Holt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ontréal (Québec)  H2G 3H1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ENTRES D’ARCHIVES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Abitibi-Témiscamingue et Nord-du-Québec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27, rue du Terminus Ouest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Rouyn-Noranda (Québec)  J9X 2P3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as-Saint-Laurent et 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Gaspésie–Îles-de-la-Madeleine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337, rue Moreault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Rimouski (Québec)  G5L 1P4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Aft>
                <a:spcPts val="14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000000"/>
                </a:solidFill>
                <a:latin typeface="Arial"/>
              </a:rPr>
              <a:t>Point de service de Gaspé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80, boulevard de Gaspé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Gaspé (Québec)  G4X 1A9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ôte-Nord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700, boulevard Laure, bureau 190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pt-Îles (Québec)  G4R 1Y1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Rectangle 8"/>
          <p:cNvSpPr/>
          <p:nvPr/>
        </p:nvSpPr>
        <p:spPr>
          <a:xfrm>
            <a:off x="5262480" y="2336760"/>
            <a:ext cx="359892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Estrie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225, rue Frontenac, bureau 401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herbrooke (Québec)  J1H 1K1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uricie et Centre-du-Québec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225, rue des Forges, bureau 208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rois-Rivières (Québec)  G9A 2G7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ontréa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535, avenue Viger Est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ontréal (Québec)  H2L 2P3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Outaouais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855, boulevard de la Gappe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Gatineau (Québec)  J8T 8H9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Québec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villon Louis-Jacques-Casault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Campus de l’Université Laval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1055, avenue du Séminaire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Québec (Québec)  G1V 4N1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aguenay–Lac-Saint-Jean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930, rue Jacques-Cartier Est, bureau C-103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aguenay (Québec)  G7H 7K9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4" name="Image 9" descr="bandeauux ppt.jpg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59D8E7A4-5383-443D-BB44-B6BCDBB00D99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uvelle terminologi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CAA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det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dette princip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re unifor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re uniforme collect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voi vo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voi voir aus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17560" y="1600200"/>
            <a:ext cx="446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é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 d'accès autoris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 d'accès pour l'œuv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re privilégi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re collectif conventi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nte de point d'accè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 d'accès pour une ressource en re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97F92239-B357-435B-8D57-9699FB545117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DA et RCAA2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érences important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41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hase sur les principes et tâches des utilisateu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ure basée sur les entités et relati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ndre ce qu'on voi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 pas abréger si pas abrégé sur la sour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GGD remplacé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vorise les listes de termes contrôl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70C58C38-B5BD-44E7-A7C4-2D9E02E7C57F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DA et RCAA2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érences importantes (2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hase sur les relations entre ressources et entité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ilité de plus de points d’accès (sans règle de tro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ation de l'œuvre représentée par la ressour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éments de données indépendants, pas organisés en zones d'informations ISB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e de contenu et non d'affichage, l'affichage ISBD reléguée à une ann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351AEE05-AE13-4190-870D-74CF5D52FE68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e évolu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s la plupart des instructions ne sont pas vraiment différent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ulement exprimées dans un nouveau vocabulaire et réordonné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aucoup de connaissances transférabl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e nouvelle façon de voir l'information bibliograph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-533520" algn="ctr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ef aperçu de FRBR et FRA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9E1044BE-6A07-4B6C-8A76-4623641F553A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Importance de FRBR/FRAD pour comprendre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RD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es concepts et la terminologie FRBR et FRAD sont intégrés à la structure de RDA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e texte de RDA est organisé selo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les attributs des 11 entités bibliograph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les relations par groupes d'entités</a:t>
            </a:r>
            <a:br>
              <a:rPr sz="2000"/>
            </a:b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es tâches des utilisateurs sont omniprésentes dans le texte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Favorise l'application du jugement du catalogu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C7E04396-8768-41CE-9F8F-7A6E7578AC0C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Modèles de l'IFL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FRBR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 Functional Requirements for Bibliographic Records (199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n français: </a:t>
            </a: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Spécifications fonctionnelles des notices bibliographique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, publié par la Bibliothèque nationale de France en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FRAD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 Functional Requirements for Authority Data (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n français: </a:t>
            </a: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Fonctionnalités requises des données d’autorité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, traduit par la BnF en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E7B171D8-477D-4F03-BA0B-627655E7DDAF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Méthodologie FRBR et FRA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Modèles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entité-relat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(E-R)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éfinition des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entité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(catégorie d'objets)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iste de leurs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attribut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(éléments de données)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Identification des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relation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(liens) entre les entités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rrélation avec les quatre types d’opérations effectuées par les utilisateurs (les tâche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83A673C8-DFC4-4EDD-8ABD-FE7BA51BB322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Tâches qu’accomplissent les utilisateurs (FRBR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Trouver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les ressources qui correspondent aux critères de recherche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Identifier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une ressource qui correspond à celle recherchée par l’utilisateur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Sélectionner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choisir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une ressource qui soit en adéquation avec ses besoins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Obtenir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avoir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accès à la ressource déc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82B323BD-0214-4C16-AF24-2C1D5CAB33CA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ssage à RDA : étapes préparatoi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ésentation des principales étapes nécessaires au passage à la norme RDA, soit, les étapes de préparation du personnel au paramétrage de votre SIG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3F3BB277-475D-41BD-9DBF-A7E472A8B32A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Tâches qu’accomplissent les utilisateurs (FRAD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Trouver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les entités qui correspondent aux critères de recher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Identifier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une entité (confirmer qu'elle correspond à celle recherché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Contextualiser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clarifier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 Situer une personne, une collectivité, une œuvre, etc. dans son contex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Justifier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comprendr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pourquoi un nom ou un titre en particulier, ou une forme du nom ou du titre, a été choisi comme le nom ou titre préfér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DB4935C2-284F-4121-BCAA-67030310F4EB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Groupes d'entités FRB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Groupe 1 (œuvre, expression, manifestation, item) : productions artistiques ou intellectue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Groupe 2 (personne, famille, collectivité) : responsables des entités du group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Groupe 3 (concept, objet, événement, lieux) : sujets des œuvres (avec les groupes 1 et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3793EDE7-A8A3-4B6C-B386-ED7E114F0D39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Entités du Groupe 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Sont le cœur de la notice bibliograph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2 entités abstraites reflètent le cont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œuv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2 entités concrètes reflètent la présentation matéri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manifes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i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1273CC11-2DCD-4C41-953A-B2823DB5C50C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Ite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exemplair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isolé d’une manife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Objet concret, généralement matériel, présent dans les collections des bibliothè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eut comprendre plusieurs parties (volumes d'un ouvra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Attribut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 identifiant (cote, code à barres), prove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2B8FA711-F7B2-4A9A-8F19-BD556FFF0EF0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Manifest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matérialisat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de l’expression d’une œuv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'ensemble des exemplaires ayant les mêmes caractéristiques, aussi bien la présentation matérielle que le cont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ourrait être une édition commerciale, ou un objet unique comme un manuscrit d’au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Attribut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 beaucoup! Titre propre, mentions de responsabilité, d'édition, date de publication, nombre de pages, ISBN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55F0B640-11BD-4FBE-BAB3-D6DD3B81CC87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Expres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réalisat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intellectuelle ou artistique d’une œuv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a forme intellectuelle ou artistique spécifique que revêt une œuvre lorsqu’elle est réalis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es mots spécifiques qui forment un texte, les notes spécifiques d'une œuvre musicale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Attribut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 langue, forme d'expression (textuel, sonore, imag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1EE64A20-11D6-4AAC-8933-7674D17D9B9A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Œuv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Une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créat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intellectuelle ou artistique détermi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bstraction du contenu commun de ses ex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éside dans une identité de contenu au sein des diverses ex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Ne correspond à aucun objet matériel isol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Attribut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 forme (poésie, roman), date et contexte de création origi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85D31C7F-1C83-44FA-83FA-483F6A4D42D3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Qu'est-ce qu'un “livre”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J'ai perdu mon </a:t>
            </a:r>
            <a:r>
              <a:rPr b="0" i="1" lang="fr-CA" sz="2000" spc="-1" strike="noStrike">
                <a:solidFill>
                  <a:srgbClr val="000000"/>
                </a:solidFill>
                <a:latin typeface="Arial"/>
              </a:rPr>
              <a:t>livre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Il faut commander ce </a:t>
            </a:r>
            <a:r>
              <a:rPr b="0" i="1" lang="fr-CA" sz="2000" spc="-1" strike="noStrike">
                <a:solidFill>
                  <a:srgbClr val="000000"/>
                </a:solidFill>
                <a:latin typeface="Arial"/>
              </a:rPr>
              <a:t>livre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J'aimerais lire ce </a:t>
            </a:r>
            <a:r>
              <a:rPr b="0" i="1" lang="fr-CA" sz="2000" spc="-1" strike="noStrike">
                <a:solidFill>
                  <a:srgbClr val="000000"/>
                </a:solidFill>
                <a:latin typeface="Arial"/>
              </a:rPr>
              <a:t>livre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en frança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Ce film s'inspire de mon </a:t>
            </a:r>
            <a:r>
              <a:rPr b="0" i="1" lang="fr-CA" sz="2000" spc="-1" strike="noStrike">
                <a:solidFill>
                  <a:srgbClr val="000000"/>
                </a:solidFill>
                <a:latin typeface="Arial"/>
              </a:rPr>
              <a:t>livre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préfér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4452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ifes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Œuv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D9058AC1-0D92-4637-9DAA-6395F635698E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Relations principales du Groupe 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OEUV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trouve sa réalisation d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se concrétise d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MANIFE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est représentée p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I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344ABBA7-FAB0-4DE6-B552-3A63ED3B7EC0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Relations principales du Groupe 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ERS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FAMI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LLECTIV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responsable(s) p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ntités du groupe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œuv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manife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i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CE3F916E-856D-4F7F-A28F-BC5F98A4F110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an de la form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 à RD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f aperçu de FRBR et FRA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uction française de RD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endrier d’impla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7555FBE8-7318-4E7E-A25D-511362A75E27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Entités du Groupe 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Ont la responsabilité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u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contenu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intellectuel ou artistique d'une œuvre ou d'une ex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e la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product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matérielle et de la distribution d'une manife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e la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possess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d'un i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1F62D446-43AE-4AFF-AB39-54EC7EA67BBA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Relations principales du Groupe 3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OBJ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ÉVÉN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I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+ entités des groupes 1 et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sont les sujets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'entité du groupe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ŒUV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6A3C72FA-3415-42AB-BBE3-247FA3F9500B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Relations dans le catalogu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réent une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l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rend possible les tâches </a:t>
            </a:r>
            <a:r>
              <a:rPr b="0" lang="fr-CA" sz="2000" spc="-1" strike="noStrike" u="sng">
                <a:solidFill>
                  <a:srgbClr val="000000"/>
                </a:solidFill>
                <a:uFillTx/>
                <a:latin typeface="Arial"/>
              </a:rPr>
              <a:t>Trouver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0" lang="fr-CA" sz="2000" spc="-1" strike="noStrike" u="sng">
                <a:solidFill>
                  <a:srgbClr val="000000"/>
                </a:solidFill>
                <a:uFillTx/>
                <a:latin typeface="Arial"/>
              </a:rPr>
              <a:t>Identif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ermettent la navi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5E6A278F-C3DD-4624-A5DF-9769125988EC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Relations bibliographiqu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ntre les entités du Group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Œuvres (p. ex. suppléments, adaptations, ensemble/part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xpressions (p. ex. révisions, traduc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Manifestations (p. ex. reproductions, formats alternati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A169515D-3420-4E2D-9268-D3F0C9CCBE4D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Modèle FRA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NTITÉS BIBLIOGRAPH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sont connues p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NOMS et / ou IDENTIFI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avec lesquels sont formés 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OINTS d'ACCÈS CONTRÔL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D1473AF2-DC54-4AB0-B27E-17FB48011289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Entités FRAD dans RD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s’occupe des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donnée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d'autorité, pas des no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Séparation entre le Nom (ou Identifiant) et le Point d'accès contrôlé basé sur le n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es formes préférées et les variantes de forme du nom sont des Points d'accès contrôl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-533520" algn="ctr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duction française de RDA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8205E496-527D-45AE-827E-760B99554DFD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Traduction de la norme en frança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urquoi une traduction en franç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ntente avec l’A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artenai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STED, BAC, BAnQ, B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BA808CF4-95B5-4EDA-B801-750EC476A756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Méthodologie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2688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radu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2688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é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2688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electure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i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6" descr=""/>
          <p:cNvPicPr/>
          <p:nvPr/>
        </p:nvPicPr>
        <p:blipFill>
          <a:blip r:embed="rId1"/>
          <a:stretch/>
        </p:blipFill>
        <p:spPr>
          <a:xfrm>
            <a:off x="3112920" y="2392200"/>
            <a:ext cx="54802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C8921C2B-3291-484D-A4C7-085134B374FD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État d’avance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ra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é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DA en frança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glossaire : dès mainten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pie imprimée RDA : janvier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ise en ligne, RDA Toolkit : février ou avril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9A932EEE-79C7-4D0B-B0B2-D4B0CF53E48A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an de la form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éparation locale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émonstration du RDA Toolkit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hangements au MARC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7944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notices bibliograph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7944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notices autor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E5358598-2F05-432D-B7C2-9DE1636E2FF2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Glossai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76440" y="1662120"/>
            <a:ext cx="82072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cc3300"/>
                </a:solidFill>
                <a:uFillTx/>
                <a:latin typeface="Arial"/>
                <a:hlinkClick r:id="rId1"/>
              </a:rPr>
              <a:t>http://www.rdatoolkit.org/translation/fre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1192320" y="2198520"/>
            <a:ext cx="6183360" cy="39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-533520" algn="ctr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endrier d’implantation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69C706D6-39A9-4525-9A5B-538AC9D2D78D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nisseurs de noti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C : transition terminée le 31 mars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Q : début à la fin de janvier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 Québécois de Traitement Documentaire : en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A11CA6B9-A95A-4C50-9872-259B34C4DDEF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cessus conti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e R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es à jour de la nor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duction des mises à j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cations de notices RCAA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volution des SIG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-533520" algn="ctr"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éparation locale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F93E4CDB-D193-4488-94A5-4622D4F82B94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ment se préparer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 impliquer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able du SIG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nel des services techniqu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itement document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quis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nel à la réfé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7F64170B-7058-4D27-8E41-37068344AD52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ment se prépar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de préparation, principales éta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miliarisation avec RDA, documentation dispon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métrage du SIG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de la norme, choix des options R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e à jour des procédures lo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B82370EE-B30E-4957-8231-CD4AC78E7D43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miliarisation avec la nouvelle nor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bonnement au RDA Tool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ecture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Visionnement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a document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offe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6" descr=""/>
          <p:cNvPicPr/>
          <p:nvPr/>
        </p:nvPicPr>
        <p:blipFill>
          <a:blip r:embed="rId1"/>
          <a:stretch/>
        </p:blipFill>
        <p:spPr>
          <a:xfrm>
            <a:off x="3581280" y="2262240"/>
            <a:ext cx="4343400" cy="39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2931F953-3A46-4F92-B227-96F679A91F97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Form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n français, en angl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n ligne ou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ormation en pers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udget alloué aux form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ormateurs ou tout le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63C7643A-6251-4F86-8CA1-5CBD8E82C9AE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ramétrage du SIGB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ments au format MARC 2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jout et modifications de zones MAR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6" descr=""/>
          <p:cNvPicPr/>
          <p:nvPr/>
        </p:nvPicPr>
        <p:blipFill>
          <a:blip r:embed="rId1"/>
          <a:stretch/>
        </p:blipFill>
        <p:spPr>
          <a:xfrm>
            <a:off x="3035160" y="2901960"/>
            <a:ext cx="422604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44FD333B-CF93-44C5-9AA9-35316CE0A245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an de la form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métrage de votre SIG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2160" indent="-4572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ones MARC 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2160" indent="-4572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rdereaux de trav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2160" indent="-4572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x de recher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2160" indent="-4572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serelles d’importation et d’exportation de no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2160" indent="-4572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fichage des donn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nement hybrid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tions offer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611FA6F0-2F08-4507-AA46-E13628C5F3EB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Application de la nor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Identification des changements possibles de vos procédures de trav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écisions sur les choix d’options et altern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olitiques locales actue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types de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niveau de catalog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0D536586-9CAE-4891-9084-361A036C1FC3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cuments intern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de mémoire pour le vocabulaire RDA et FR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de mémoire pour les nouvelles zones MARC 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aux de correspondance RDA et zones MARC 2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-533520" algn="ctr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Arial"/>
              </a:rPr>
              <a:t>RDA Toolkit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E3ED0057-50D8-43C1-95E9-C8465C571060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RDA imprimé ou en lig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DA imprimé ou en lig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nombre de cop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nombre d’accè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DA Tool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ccès : reconnaissance IP ou personnalis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ssai avant l’abonn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D5600863-6C02-4D7B-B665-96CD9BDDA0AA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Démonstration du RDA Toolki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  <a:hlinkClick r:id="rId1"/>
              </a:rPr>
              <a:t>http://www.rdatoolkit.or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6" descr=""/>
          <p:cNvPicPr/>
          <p:nvPr/>
        </p:nvPicPr>
        <p:blipFill>
          <a:blip r:embed="rId2"/>
          <a:stretch/>
        </p:blipFill>
        <p:spPr>
          <a:xfrm>
            <a:off x="1038240" y="2460600"/>
            <a:ext cx="702936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-533520" algn="ctr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ngement au MARC 21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0CACFD27-2145-4F26-BBA3-D8F840D69FC7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DA en MARC 2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Scénarios d'implantation de RDA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our l'immédiat, RDA en MARC 21 avec des notices bibliographiques et d'autorités distinctes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ffichage avec ponctuation ISBD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Éventuellement, un nouveau modèle d'encodage de no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Bibliographic Framework Transition Initi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http://www.loc.gov/marc/transition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56CF78ED-CAB5-4CD1-99FC-F8BD6C46CA43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D039A87E-FB92-4049-8375-742A916568C7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C/RD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Modifications 9 (2008) à 15 (septembre 2012) comprennent des changements liés à R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Issues du MARC/RDA Working Grou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ésumé : http://www.loc.gov/marc/RDAinMARC-10-12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MARC 21 en français : http://www.marc21.ca/040010-235-f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D00D6C47-ED17-44D1-90B0-50ED9E766229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connaître une notice RD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Bibliograph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Guide/18 = </a:t>
            </a:r>
            <a:r>
              <a:rPr b="1" lang="fr-CA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(ISBD) si la ponctuation ISBD est appliquée entre les sous-z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Avec 040 $e </a:t>
            </a:r>
            <a:r>
              <a:rPr b="1" lang="fr-CA" sz="2000" spc="-1" strike="noStrike">
                <a:solidFill>
                  <a:srgbClr val="000000"/>
                </a:solidFill>
                <a:latin typeface="Arial"/>
              </a:rPr>
              <a:t>rda</a:t>
            </a:r>
            <a:br>
              <a:rPr sz="2000"/>
            </a:br>
            <a:r>
              <a:rPr b="1" lang="fr-C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utor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008/10 = z (autres règ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Avec 040 $e </a:t>
            </a:r>
            <a:r>
              <a:rPr b="1" lang="fr-CA" sz="2000" spc="-1" strike="noStrike">
                <a:solidFill>
                  <a:srgbClr val="000000"/>
                </a:solidFill>
                <a:latin typeface="Arial"/>
              </a:rPr>
              <a:t>rda</a:t>
            </a:r>
            <a:br>
              <a:rPr sz="2000"/>
            </a:br>
            <a:r>
              <a:rPr b="1" lang="fr-C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répé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05B2A8D4-4BE3-4782-AD5E-36B004D48253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dage qui disparai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5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itr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$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[IGGD]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/ $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ntion de responsabi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IGGD (ou GMD) des RCAA2 n'existe pas en RDA!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placé par 3 nouvelles zones (336, 337, 338) dans les notices bibliograph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-53352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tion à RD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D01B6A82-E9C9-4F53-BCF0-B531A0C2B86C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36 Type de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ément fondamental en RD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de/06 (existant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3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nouvea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erme de RDA 6.9.1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loc.gov/standards/valuelist/rdacontent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99C0768C-7DCA-4349-9B39-CFB0CC646505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37 Type de méd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ligatoire (LC, BAC, BAnQ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07/00 (existant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3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nouvea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erme de RDA 3.2.1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loc.gov/standards/valuelist/rdamedia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311B76B9-2874-4CE0-9DDF-4FAF18C89ED2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C5BE185B-C3C4-4855-995F-17C4F3AD7E55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38 Type de support matéri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ément fondamental en RD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07/01 (existant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s quelques nouveaux codes spécialisés (types de microfilms, supports informatiques, documents iconographiques, films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3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nouvea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rme de RDA 3.3.1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loc.gov/standards/valuelist/rdacarrier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91D2F053-71EE-420A-B9A2-27290DAA63AD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iv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336 ## $a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text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337 ## $a sans médiation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338 ## $a volume $2 rdacarrier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ivre en brai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336 ## $a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texte tactil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337 ## $a sans médiation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338 ## $a volume 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2F9AD77D-D96D-46F2-BF7C-77792B9820DB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C7AA4AAB-0B5F-4FCA-A29C-2A6FC8F26CFD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ocument électronique en lig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336 ## $a texte 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337 ## $a informatique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338 ## $a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ressource en lign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$2 rdacarrier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ocument électronique sur cédé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336 ## $a texte 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337 ## $a informatique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338 ## $a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disque informatiqu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C41A0AAF-A502-4700-B0CF-0A959277E951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ublication, distribution, etc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6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s utiliser en RDA! Remplacé par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26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épé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cateur 2 précise la fonction de la mentio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= Production (document non publié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= Pub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= Diffusion ou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= Fabrication ou manufacture (impres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= Date de copy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63038104-3687-4B0D-A14C-C6565BC0F3FF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 matériel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3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existe avec des nouvelles zones pour des types de ressources spécialis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34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aractéristiques sono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34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aractéristiques de projection d'images en mouve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34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aractéristiques vidé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34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aractéristiques de fichier numériqu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34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Support matériel) nouvelles sous-z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DF1A2407-DD82-4ADE-A99C-D49E099C2C45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us grand degré de préci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028 (Numéro d'éditeur)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q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(Qualificati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028 02 </a:t>
            </a:r>
            <a:r>
              <a:rPr b="1" lang="fr-CA" sz="20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438 954-2 </a:t>
            </a:r>
            <a:r>
              <a:rPr b="1" lang="fr-CA" sz="2000" spc="-1" strike="noStrike">
                <a:solidFill>
                  <a:srgbClr val="000000"/>
                </a:solidFill>
                <a:latin typeface="Arial"/>
              </a:rPr>
              <a:t>$b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Philips Classics </a:t>
            </a:r>
            <a:r>
              <a:rPr b="1" lang="fr-CA" sz="2000" spc="-1" strike="noStrike">
                <a:solidFill>
                  <a:srgbClr val="0000ff"/>
                </a:solidFill>
                <a:latin typeface="Arial"/>
              </a:rPr>
              <a:t>$q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(disc 1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502 (Note de thè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502 ## </a:t>
            </a:r>
            <a:r>
              <a:rPr b="1" lang="fr-CA" sz="2000" spc="-1" strike="noStrike">
                <a:solidFill>
                  <a:srgbClr val="0000ff"/>
                </a:solidFill>
                <a:latin typeface="Arial"/>
              </a:rPr>
              <a:t>$b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Ph.D </a:t>
            </a:r>
            <a:r>
              <a:rPr b="1" lang="fr-CA" sz="2000" spc="-1" strike="noStrike">
                <a:solidFill>
                  <a:srgbClr val="0000ff"/>
                </a:solidFill>
                <a:latin typeface="Arial"/>
              </a:rPr>
              <a:t>$c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Université de Montréal </a:t>
            </a:r>
            <a:r>
              <a:rPr b="1" lang="fr-CA" sz="2000" spc="-1" strike="noStrike">
                <a:solidFill>
                  <a:srgbClr val="0000ff"/>
                </a:solidFill>
                <a:latin typeface="Arial"/>
              </a:rPr>
              <a:t>$d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199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033 et 518 (Date et lieu d'un événe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490 et 8XX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x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400" spc="-1" strike="noStrike">
                <a:solidFill>
                  <a:srgbClr val="0000ff"/>
                </a:solidFill>
                <a:latin typeface="Arial"/>
              </a:rPr>
              <a:t>répétitif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, ISSN de collection et sous-collection dans la même zone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jout de diverses valeurs dans les 007 et 008 pour des supports spécialis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C56826ED-939A-4E77-9E1C-20DC465D5BA6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uvelles zones (Autorités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nom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614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46 (Dates codé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368 (Autres attributs associé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70 (Lieu associ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71 (Adres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72 (Champ d'activit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73 (Groupe associ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374 (Profession/Occup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375 (Sexe de la person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376 (Renseignements sur la famil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378 (Forme développée du n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799320" y="1600200"/>
            <a:ext cx="208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Person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amil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ollectivit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BBF6C9FB-7BBF-4C83-9BB2-0E6078DD9587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uvelles zones (Autorités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ttributs des œuvres et d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77 (Langue associé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80 (Genre de l'œuv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81 (Autres caractéristiques d'une œuvre ou expres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82 (Médium d'exécu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83 (Numéro d'identification de l'œuvre musica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84 (Tonalité)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* mus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552DA15D-1749-479B-BE39-BC112C3D5777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urquoi changer les RCAA2 ou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urquoi une nouvelle norme 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s des RCAA2 (en origine pour un catalogue sur fich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GG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ègle de tro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réviations, lati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uveaux supports à intégr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 de vue anglo-améric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7B744250-3E7A-467C-8CA5-EB2DD6C17181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dicateurs de rel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ôles avec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 1XX, 7XX (existant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s entre œuvres, etc. avec (nouveau)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$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ns les zones 7XX ou 76X-78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s entre personnes, familles, collectivités avec (nouveau)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$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ns les zones 5XX de la notice d'autorité (précédé pa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6742FD61-0670-4079-B988-B9BE7492B15A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s d'indicateurs de rel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ôles des personnes, collectivités, etc. associés à la ressourc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700 1#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Saint-Germain, Michel, $d 1951- </a:t>
            </a:r>
            <a:r>
              <a:rPr b="1" lang="fr-CA" sz="2400" spc="-1" strike="noStrike">
                <a:solidFill>
                  <a:srgbClr val="ff0000"/>
                </a:solidFill>
                <a:latin typeface="Arial"/>
              </a:rPr>
              <a:t>$e traduc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700 1#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Saint-Germain, Michel, $d 1951- </a:t>
            </a:r>
            <a:r>
              <a:rPr b="1" lang="fr-CA" sz="2400" spc="-1" strike="noStrike">
                <a:solidFill>
                  <a:srgbClr val="ff0000"/>
                </a:solidFill>
                <a:latin typeface="Arial"/>
              </a:rPr>
              <a:t>$4 t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annexe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AD07E699-11FC-4940-A642-69E46DBA5F10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s d'indicateurs de rel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elations entres œuvres, expression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700 1# </a:t>
            </a:r>
            <a:r>
              <a:rPr b="1" lang="fr-CA" sz="2400" spc="-1" strike="noStrike">
                <a:solidFill>
                  <a:srgbClr val="ff0000"/>
                </a:solidFill>
                <a:latin typeface="Arial"/>
              </a:rPr>
              <a:t>$i</a:t>
            </a:r>
            <a:r>
              <a:rPr b="0" lang="fr-CA" sz="2400" spc="-1" strike="noStrike">
                <a:solidFill>
                  <a:srgbClr val="ff0000"/>
                </a:solidFill>
                <a:latin typeface="Arial"/>
              </a:rPr>
              <a:t> Suite de: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Carroll, Lewis,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d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1832-1898.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t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Alice's adventures in Wonder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700 1# </a:t>
            </a:r>
            <a:r>
              <a:rPr b="1" lang="fr-CA" sz="2400" spc="-1" strike="noStrike">
                <a:solidFill>
                  <a:srgbClr val="ff0000"/>
                </a:solidFill>
                <a:latin typeface="Arial"/>
              </a:rPr>
              <a:t>$i</a:t>
            </a:r>
            <a:r>
              <a:rPr b="0" lang="fr-CA" sz="2400" spc="-1" strike="noStrike">
                <a:solidFill>
                  <a:srgbClr val="ff0000"/>
                </a:solidFill>
                <a:latin typeface="Arial"/>
              </a:rPr>
              <a:t> Traduction de: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Penny, Louise,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d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1958-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t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Still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775 08 </a:t>
            </a:r>
            <a:r>
              <a:rPr b="1" lang="fr-CA" sz="2400" spc="-1" strike="noStrike">
                <a:solidFill>
                  <a:srgbClr val="ff0000"/>
                </a:solidFill>
                <a:latin typeface="Arial"/>
              </a:rPr>
              <a:t>$i</a:t>
            </a:r>
            <a:r>
              <a:rPr b="0" lang="fr-CA" sz="2400" spc="-1" strike="noStrike">
                <a:solidFill>
                  <a:srgbClr val="ff0000"/>
                </a:solidFill>
                <a:latin typeface="Arial"/>
              </a:rPr>
              <a:t> Réimpression de: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Penny, Louise, 1958-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t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En plein cœur.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d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Montréal : Flammarion Québec,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annex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76AA1CB4-97E5-46DF-A9B6-2E27DF2D6984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s d'indicateurs de relat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Autorité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elations entre personnes, familles, collectivi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110 2#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I.M. Pei &amp;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500 1# </a:t>
            </a:r>
            <a:r>
              <a:rPr b="1" lang="fr-CA" sz="2400" spc="-1" strike="noStrike">
                <a:solidFill>
                  <a:srgbClr val="ff0000"/>
                </a:solidFill>
                <a:latin typeface="Arial"/>
              </a:rPr>
              <a:t>$w</a:t>
            </a:r>
            <a:r>
              <a:rPr b="0" lang="fr-CA" sz="2400" spc="-1" strike="noStrike">
                <a:solidFill>
                  <a:srgbClr val="ff0000"/>
                </a:solidFill>
                <a:latin typeface="Arial"/>
              </a:rPr>
              <a:t> r </a:t>
            </a:r>
            <a:r>
              <a:rPr b="1" lang="fr-CA" sz="2400" spc="-1" strike="noStrike">
                <a:solidFill>
                  <a:srgbClr val="ff0000"/>
                </a:solidFill>
                <a:latin typeface="Arial"/>
              </a:rPr>
              <a:t>$i</a:t>
            </a:r>
            <a:r>
              <a:rPr b="0" lang="fr-CA" sz="2400" spc="-1" strike="noStrike">
                <a:solidFill>
                  <a:srgbClr val="ff0000"/>
                </a:solidFill>
                <a:latin typeface="Arial"/>
              </a:rPr>
              <a:t> Fondateur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Pei, I. M.,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d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1917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510 1#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w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b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Pei Cobb Freed &amp;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110 2#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Anthony Coleman T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500 1# </a:t>
            </a:r>
            <a:r>
              <a:rPr b="1" lang="fr-CA" sz="2400" spc="-1" strike="noStrike">
                <a:solidFill>
                  <a:srgbClr val="ff0000"/>
                </a:solidFill>
                <a:latin typeface="Arial"/>
              </a:rPr>
              <a:t>$w</a:t>
            </a:r>
            <a:r>
              <a:rPr b="0" lang="fr-CA" sz="2400" spc="-1" strike="noStrike">
                <a:solidFill>
                  <a:srgbClr val="ff0000"/>
                </a:solidFill>
                <a:latin typeface="Arial"/>
              </a:rPr>
              <a:t> r </a:t>
            </a:r>
            <a:r>
              <a:rPr b="1" lang="fr-CA" sz="2400" spc="-1" strike="noStrike">
                <a:solidFill>
                  <a:srgbClr val="ff0000"/>
                </a:solidFill>
                <a:latin typeface="Arial"/>
              </a:rPr>
              <a:t>$i</a:t>
            </a:r>
            <a:r>
              <a:rPr b="0" lang="fr-CA" sz="2400" spc="-1" strike="noStrike">
                <a:solidFill>
                  <a:srgbClr val="ff0000"/>
                </a:solidFill>
                <a:latin typeface="Arial"/>
              </a:rPr>
              <a:t> Membre du groupe: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Coleman, Anthony,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d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1955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annexe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EB734272-8E17-4BEA-B4FC-6FE4CD4660D3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tres modifications récent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08/23 (Support matériel du docu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jout de valeurs pour documents électro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en lig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support tangible (cédéroms, disquet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s précis que s (électronique) encore per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7 (Pays de l'agence de produ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X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Institution à laquelle s'applique la z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08427010-8868-40CD-A7A2-E654B37F23B0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41 Code de langu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041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nouvelles sous-zones, modif #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24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000" spc="-1" strike="noStrike">
                <a:solidFill>
                  <a:srgbClr val="0000ff"/>
                </a:solidFill>
                <a:latin typeface="Arial"/>
              </a:rPr>
              <a:t>http://www.marc21.ca/040010-1010-f.html#mrcb0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h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Code de langue de la langue origina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ff"/>
                </a:solidFill>
                <a:latin typeface="Arial"/>
              </a:rPr>
              <a:t>$k</a:t>
            </a:r>
            <a:r>
              <a:rPr b="0" lang="fr-CA" sz="2400" spc="-1" strike="noStrike">
                <a:solidFill>
                  <a:srgbClr val="0000ff"/>
                </a:solidFill>
                <a:latin typeface="Arial"/>
              </a:rPr>
              <a:t> Code de langue de traductions intermédi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xe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041 1#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fre </a:t>
            </a:r>
            <a:r>
              <a:rPr b="1" lang="fr-CA" sz="2400" spc="-1" strike="noStrike">
                <a:solidFill>
                  <a:srgbClr val="0000ff"/>
                </a:solidFill>
                <a:latin typeface="Arial"/>
              </a:rPr>
              <a:t>$k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eng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h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sw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e texte est une traduction française d'un texte en anglais publié à l'origine en suédo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0A21A568-7018-4F04-B842-7E3D445B451F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41 Nouvelles sous-zones musiqu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de de langue des livr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$n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Code de langue du livret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orig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de de langue du matériel d'accompagnement autre que des livr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$m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Code de langue du matériel d'accompagnement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original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autre que des livr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1B30A892-531C-43DD-8E16-F31D2813B638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41 Exemple de livret tradui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041 1#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d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eng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h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rus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eng </a:t>
            </a:r>
            <a:r>
              <a:rPr b="1" lang="fr-CA" sz="2400" spc="-1" strike="noStrike">
                <a:solidFill>
                  <a:srgbClr val="0000ff"/>
                </a:solidFill>
                <a:latin typeface="Arial"/>
              </a:rPr>
              <a:t>$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rus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g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eng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g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fre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g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Un enregistrement sonore d'une œuvre chantée en anglais, traduit à partir de l'original en russe; traduction à l'anglais du livret original en russe; les notes de programme en anglais avec des traductions en français et en alle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D5559E26-101F-48E7-809C-3B311E5ED041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41 Exemple matériel d’accompagnement musiqu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041 1#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d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fre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h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ita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eng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ita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g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eng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g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fre </a:t>
            </a:r>
            <a:r>
              <a:rPr b="1" lang="fr-CA" sz="2400" spc="-1" strike="noStrike">
                <a:solidFill>
                  <a:srgbClr val="0000ff"/>
                </a:solidFill>
                <a:latin typeface="Arial"/>
              </a:rPr>
              <a:t>$m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nregistrement sonore d'un opéra italien chanté en français, livret en anglais et italien, notes de programme en anglais et français, mais les notes de programme ont été écrites en allemand à l'ori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1D220897-05FB-4A07-8CB0-6E0E2C436C52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41 Pour les vidéos sous-titré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ff"/>
                </a:solidFill>
                <a:latin typeface="Arial"/>
              </a:rPr>
              <a:t>$j</a:t>
            </a:r>
            <a:r>
              <a:rPr b="0" lang="fr-CA" sz="2400" spc="-1" strike="noStrike">
                <a:solidFill>
                  <a:srgbClr val="0000ff"/>
                </a:solidFill>
                <a:latin typeface="Arial"/>
              </a:rPr>
              <a:t> Code de langue de sous-titres ou de libellé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xe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041 1# $a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eng </a:t>
            </a:r>
            <a:r>
              <a:rPr b="1" lang="fr-CA" sz="2400" spc="-1" strike="noStrike">
                <a:solidFill>
                  <a:srgbClr val="0000ff"/>
                </a:solidFill>
                <a:latin typeface="Arial"/>
              </a:rPr>
              <a:t>$j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Un enregistrement vidéo en anglais comprenant des sous-titres en alle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1656FBA7-CCD2-46D3-947B-7517B3137068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énéfices de RD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dre uniforme, flexible et extensible pour la description de ressources de tous genr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vorise le jugement du catalogueu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çu pour un environnement numériqu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internationa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met de tirer profit des nouvelles technologies et des nouveaux catalog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DF6D6946-241C-40F5-AD23-AC10360D8FA2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88 Source de la description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s notes étaient précédemment dans des notes 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 information administrative concernant la notice, comme la source de la description ou le dernier numéro consulté 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58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##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itre de la couver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58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##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scription d’après: no 3 (20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-533520" algn="ctr"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amétrage de votre SIGB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F0F9510E-24AE-4D65-91D5-BF57B2D1A5B2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jout et modifications de zones MARC 2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842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6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543240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A6095B3E-3647-42EA-AC47-96EB9769D6B4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jout et modifications de zones MARC 2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jouts de nouvelles zones, par exemple, 264, 336 à 3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jouts de sous-zones, par exemple, la 700 $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jouts de codes valides, exemple, 040 $e r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jouts de valeurs dans des zones fix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1A100540-3223-43B9-813C-A81E9CC82B28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difications des bordereaux de travai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Guide/18 = i (pas 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040 $e rda par défa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336/337/338 selon le type de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nlever les 245 $h IGG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264 ind.</a:t>
            </a: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=1 (Publication) par défaut pour des documents publi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3FFA4ACE-1B2E-4545-99D6-DD8BFB3EAEA0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difications des index de recherch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842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6" descr=""/>
          <p:cNvPicPr/>
          <p:nvPr/>
        </p:nvPicPr>
        <p:blipFill>
          <a:blip r:embed="rId1"/>
          <a:stretch/>
        </p:blipFill>
        <p:spPr>
          <a:xfrm>
            <a:off x="1371600" y="2286000"/>
            <a:ext cx="5487840" cy="33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3AF84EDB-1385-452F-811F-085541E57B59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difications des index de recherch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xer les 336/337/338 – choix possi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jouter 264 $a et 264 $b aux index lieu d’édition et éditeur (s’il y a lie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cateurs de re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41 ne pas indexer les sous-zones de langue origi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x du fichier d’autorités lo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444B8A36-2C64-4206-A0F1-5BCE5423A8C8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sserelles d’importation et d’export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erelles d’importation : ajout des nouvelles zones et sous z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erelles d’exportation : ajout des nouvelles zones et sous z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’assurer que des données ne sont pas perd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045457C8-3676-4B96-9A80-34AB233DB2E3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ffichage des donné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ffichage à l’OPA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notices (afficher la 264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facet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ffichage FR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-533520" algn="ctr"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vironnement hybride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D95F4616-FFBE-4B61-A1F4-25EC8B2C96E3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i développe RDA 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JSC = Joint Steering Committee for the Development of RDA (6 membres de 4 pays)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ustralie = Australian Committee on Cataloguing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anada = Comité canadien de catalogage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Grande Bretagne = British Library et CILIP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États-Unis = Library of Congress et ALA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llemagne = Deutsche Nationalbibliothek (depuis 20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AAD2946E-62B4-4CD1-9D25-2B7720915626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Bases de données hybri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Notices RCAA2 et notices RDA vont cohabiter dans la même base de donn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mme les notices RCAA1 avec RCAA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suit le principe de continu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haque base de données collective définira des polit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Arial"/>
              </a:rPr>
              <a:t>exemple, OCLC WorldC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Arial"/>
              </a:rPr>
              <a:t>1 seule notice par ressource par lang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Arial"/>
              </a:rPr>
              <a:t>transformer RCAA2 en RDA, jamais l'inver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C2AD45A8-2F0C-4BF8-8B91-2DE67B5A4DEA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Notices hybri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4560" indent="-2145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résultat d'ajouts d'éléments RDA à une notice bibliographique RCAA2 existan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description n'est pas modifiée (transcription dans le 245, etc.) et reste selon les RCAA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de/18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RCAA2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s, avec des points d'accès formulés selon RD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, avec des éléments techniques RDA (exemple, 336/337/338 ajoutés en lo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805F057D-2CF4-4467-A095-75C28A85C8B3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Notices d'autorité hybri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 d'accès formulé selon les RCAA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ce d'autorité bonifiée avec les nouvelles zones 046, 37x ou 38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s jamais, un point d'accès partiellement RDA et partiellement RCAA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2CCD9C98-5B8F-4D46-B945-3F84BCCBCB1B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Notices dérivés ou mises à jo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éliorer l'accès à la ressour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iger les erreurs de contenu, ne pas changer d'un style à un autre, d'un code à l'aut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jouter de l'information, pas en enlever (sauf si erroné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r de RCAA2 à RDA seulement avec la ressource en main pour en faire une nouvelle 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-533520" algn="ctr"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mations offert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D1D00D61-205A-4007-94A3-7CAE175B51E7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m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tion offertes en collaboration avec l’A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1219320" y="3178080"/>
          <a:ext cx="6324480" cy="1882800"/>
        </p:xfrm>
        <a:graphic>
          <a:graphicData uri="http://schemas.openxmlformats.org/drawingml/2006/table">
            <a:tbl>
              <a:tblPr/>
              <a:tblGrid>
                <a:gridCol w="1581120"/>
                <a:gridCol w="1581120"/>
                <a:gridCol w="1581120"/>
                <a:gridCol w="1581120"/>
              </a:tblGrid>
              <a:tr h="34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bdf5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bdf5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réal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bdf5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ébec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bdf53"/>
                    </a:solidFill>
                  </a:tcPr>
                </a:tc>
              </a:tr>
              <a:tr h="768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journée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9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ésentation de la norme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9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 janvier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mars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9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 janvier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9e9"/>
                    </a:solidFill>
                  </a:tcPr>
                </a:tc>
              </a:tr>
              <a:tr h="768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journées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3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ilisation de la norme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3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et 15 février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3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et 19 février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3d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828CFEF7-6CEF-4BFA-950E-68476CC88EC5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m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r des utilisateurs des règles de catalogage RCAA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ssions pour faciliter le passage à la nouvelle norme R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catalogage plus spécialisé, par exemple, par support ne sera pas couv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us les formateurs sont de BAnQ et font partie de l’équipe de traduction de la norme R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84534B9F-FE64-4E9B-B8D9-B5B2EF8DB999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iens uti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Glossaire RDA en françai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fr-CA" sz="1800" spc="-1" strike="noStrike" u="sng">
                <a:solidFill>
                  <a:srgbClr val="cc3300"/>
                </a:solidFill>
                <a:uFillTx/>
                <a:latin typeface="Arial"/>
                <a:hlinkClick r:id="rId1"/>
              </a:rPr>
              <a:t>http://www.rdatoolkit.org/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0000"/>
                </a:solidFill>
                <a:latin typeface="Arial"/>
              </a:rPr>
              <a:t>Article: 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Paradis, Daniel (2011) </a:t>
            </a:r>
            <a:r>
              <a:rPr b="0" i="1" lang="fr-CA" sz="2000" spc="-1" strike="noStrike">
                <a:solidFill>
                  <a:srgbClr val="000000"/>
                </a:solidFill>
                <a:latin typeface="Arial"/>
              </a:rPr>
              <a:t>RDA ou le catalogage repensé pour l’ère numérique.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Documentation et bibliothèques, 57 (1). pp. 33-43. ISSN 0315-2340 </a:t>
            </a:r>
            <a:r>
              <a:rPr b="0" lang="fr-CA" sz="1800" spc="-1" strike="noStrike" u="sng">
                <a:solidFill>
                  <a:srgbClr val="cc3300"/>
                </a:solidFill>
                <a:uFillTx/>
                <a:latin typeface="Arial"/>
                <a:hlinkClick r:id="rId2"/>
              </a:rPr>
              <a:t>http://spectrum.library.concordia.ca/7638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0000"/>
                </a:solidFill>
                <a:latin typeface="Arial"/>
              </a:rPr>
              <a:t>Sur le site de la BnF</a:t>
            </a:r>
            <a:br>
              <a:rPr sz="2000"/>
            </a:b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http://www.bnf.fr/fr/professionnels/rda/s.rda_objectif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0000"/>
                </a:solidFill>
                <a:latin typeface="Arial"/>
              </a:rPr>
              <a:t>Présentation Congrès des milieux documentaires 2010</a:t>
            </a:r>
            <a:br>
              <a:rPr sz="2000"/>
            </a:b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http://spectrum.library.concordia.ca/7673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0000"/>
                </a:solidFill>
                <a:latin typeface="Arial"/>
              </a:rPr>
              <a:t>Ateliers pour l’ASTED, avril 2011</a:t>
            </a:r>
            <a:br>
              <a:rPr sz="2000"/>
            </a:b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http://www.rda-jsc.org/docs/Riva-Asted-RDA-29-avril-2011.pdf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0000"/>
                </a:solidFill>
                <a:latin typeface="Arial"/>
              </a:rPr>
              <a:t>Version française de la brochure sur FRBR écrite par Barbara Tillett. </a:t>
            </a: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http://www.loc.gov/catdir/cpso/FRBRFrench.pd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CFD0A520-A54C-4093-BCF2-521FA94B7E99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54120" y="25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iens uti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0000"/>
                </a:solidFill>
                <a:latin typeface="Arial"/>
              </a:rPr>
              <a:t>BnF FRBR et plus</a:t>
            </a:r>
            <a:br>
              <a:rPr sz="2000"/>
            </a:b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http://www.bnf.fr/fr/professionnels/modelisation_ontologies/a.modele_FRBR.ht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0000"/>
                </a:solidFill>
                <a:latin typeface="Arial"/>
              </a:rPr>
              <a:t>Principes internationaux de catalogage, texte officiel en français (2009)</a:t>
            </a:r>
            <a:br>
              <a:rPr sz="2000"/>
            </a:b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http://www.ifla.org/files/assets/cataloguing/icp/icp_2009-fr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0000"/>
                </a:solidFill>
                <a:latin typeface="Arial"/>
              </a:rPr>
              <a:t>Principes internationaux de catalogage, présentation Congrès des milieux documentaires 2010</a:t>
            </a:r>
            <a:br>
              <a:rPr sz="2000"/>
            </a:b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http://www.rda-jsc.org/docs/2-CREPUQ-ICP2010-fre-Riva.pdf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0000"/>
                </a:solidFill>
                <a:latin typeface="Arial"/>
              </a:rPr>
              <a:t>Sites essentiels:</a:t>
            </a:r>
            <a:br>
              <a:rPr sz="2000"/>
            </a:br>
            <a:r>
              <a:rPr b="1" i="1" lang="fr-CA" sz="2000" spc="-1" strike="noStrike">
                <a:solidFill>
                  <a:srgbClr val="000000"/>
                </a:solidFill>
                <a:latin typeface="Arial"/>
              </a:rPr>
              <a:t>JSC :</a:t>
            </a:r>
            <a:r>
              <a:rPr b="1" i="1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http://www.rda-jsc.org/</a:t>
            </a:r>
            <a:br>
              <a:rPr sz="1800"/>
            </a:br>
            <a:r>
              <a:rPr b="1" i="1" lang="fr-CA" sz="2000" spc="-1" strike="noStrike">
                <a:solidFill>
                  <a:srgbClr val="000000"/>
                </a:solidFill>
                <a:latin typeface="Arial"/>
              </a:rPr>
              <a:t>RDA Toolkit :</a:t>
            </a:r>
            <a:r>
              <a:rPr b="1" i="1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http://www.rdatoolkit.org/</a:t>
            </a:r>
            <a:br>
              <a:rPr sz="1800"/>
            </a:br>
            <a:r>
              <a:rPr b="1" i="1" lang="fr-CA" sz="2000" spc="-1" strike="noStrike">
                <a:solidFill>
                  <a:srgbClr val="000000"/>
                </a:solidFill>
                <a:latin typeface="Arial"/>
              </a:rPr>
              <a:t>MARC 21 changements RDA 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http://www.loc.gov/marc/RDAinMARC-10-12.html</a:t>
            </a:r>
            <a:br>
              <a:rPr sz="1800"/>
            </a:br>
            <a:r>
              <a:rPr b="1" i="1" lang="fr-CA" sz="2000" spc="-1" strike="noStrike">
                <a:solidFill>
                  <a:srgbClr val="000000"/>
                </a:solidFill>
                <a:latin typeface="Arial"/>
              </a:rPr>
              <a:t>LC, ressources RDA :</a:t>
            </a:r>
            <a:r>
              <a:rPr b="1" i="1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http://www.loc.gov/aba/rda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5C77015C-357C-44C8-B75F-474484D06AB0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54120" y="25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iens uti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0000"/>
                </a:solidFill>
                <a:latin typeface="Arial"/>
              </a:rPr>
              <a:t>Portail de BAnQ, Milieux documentaires</a:t>
            </a:r>
            <a:br>
              <a:rPr sz="2000"/>
            </a:br>
            <a:r>
              <a:rPr b="0" i="1" lang="fr-CA" sz="1800" spc="-1" strike="noStrike">
                <a:solidFill>
                  <a:srgbClr val="000000"/>
                </a:solidFill>
                <a:latin typeface="Arial"/>
              </a:rPr>
              <a:t>http://www.banq.qc.ca/services/services_professionnels/milieux_doc/ressources/traitement_classification/rda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0000"/>
                </a:solidFill>
                <a:latin typeface="Arial"/>
              </a:rPr>
              <a:t>SQTD, RDA</a:t>
            </a:r>
            <a:br>
              <a:rPr sz="2000"/>
            </a:br>
            <a:r>
              <a:rPr b="0" i="1" lang="fr-CA" sz="1800" spc="-1" strike="noStrike">
                <a:solidFill>
                  <a:srgbClr val="000000"/>
                </a:solidFill>
                <a:latin typeface="Arial"/>
              </a:rPr>
              <a:t>http://sqtd.banq.qc.ca/faq/faq-rda.d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0000"/>
                </a:solidFill>
                <a:latin typeface="Arial"/>
              </a:rPr>
              <a:t>Sites avec matériel de formation en anglais</a:t>
            </a:r>
            <a:br>
              <a:rPr sz="2000"/>
            </a:b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http://www.loc.gov/catworkshop/RDA training materials/LC RDA Training/LC RDA course tabl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http://www.loc.gov/catworkshop/RDA training materials/ind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http://www.ala.org/alcts/confevents/upcoming/webinar/c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2T01:42:34Z</dcterms:created>
  <dc:creator>Louise Lecavalier</dc:creator>
  <dc:description/>
  <dc:language>en-US</dc:language>
  <cp:lastModifiedBy>Pat Riva</cp:lastModifiedBy>
  <cp:lastPrinted>2012-10-21T23:42:40Z</cp:lastPrinted>
  <dcterms:modified xsi:type="dcterms:W3CDTF">2012-12-10T17:53:30Z</dcterms:modified>
  <cp:revision>343</cp:revision>
  <dc:subject/>
  <dc:title>Diapositive 1</dc:title>
</cp:coreProperties>
</file>