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9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6F785B0-B06F-4A13-A8F5-EE96AB27B19C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E7DFA98-2D97-48CC-B506-69F4081392C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431471C-8BE6-4C9D-8151-D519A01EF61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E992A61-E040-41CA-B1E2-D4D5611AD09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A049EBC-DBB8-4EE5-862E-26A8677824B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2875C60-C4E3-4A5E-8920-7AA529C4D682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905B747-0015-4274-885D-143C05C846FA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7B2888F-85FE-4FB7-B20A-32545503DE4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577E154-1CA4-4A55-83D0-05DB23801B67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57D9A590-F902-4140-8E7C-229BC2DAC1F9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C7C762F4-CF29-4540-891D-CF4CBF04E4C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3577E5-11E2-4445-8287-3AF827070FFE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28FF8DE-0EC5-4329-B3E5-D11BB0B8E8E5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F424E40F-97F6-4E8A-9B26-8996AE3887F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5F9710A-9C50-4723-850E-B761DAEE875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1BB1DAA-5746-477C-BFFB-5CD167E6251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7A5AF86-AD01-4D27-9581-8E81E13C807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5B6B5C3-C10F-4B24-B0BE-EB269615F2D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DCC5B17-7826-4DD4-8BCB-B751DA64ED5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929C159-2D19-44F9-9027-FFCEB91AE92A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3918CA92-B2A5-4601-BD47-F0AB3ED8654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C659793-4A5C-435F-8DD7-A22F27AD359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605743F-BC9D-4516-ABBC-FB3CCDF7462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6624F88-68C7-4665-B755-F710976F080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1D991C33-C82F-4319-98C6-E2D14B652CD5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B8E9225-D4D4-4FA0-ACFF-17CE82B5FDF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EAE5FE3-890E-4B81-AA57-43DA3752C4C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42141E1-3C48-4203-A012-7BB8D9388AA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0A375EFE-8D61-4E99-8407-87DDD8EB1E2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EC8ED92-FDA8-465E-90A1-95CB5068E10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9D94E9D-6CA2-4EB2-9CF6-748B62CD511D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14C2763-3B14-419A-B2EB-76C4E54A930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0C838A8-F056-4607-A187-96E0C7FB3CD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DD5A637-CAD5-49FA-A76E-516E6716804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D4D40CF-EAC3-41B9-BB13-482638C3EAC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3D96E0D-BEC5-4145-B834-5020DD6AB4F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BC1BF823-A89D-4018-AB02-78C0D0DB88DC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DAD8EED-1CBF-4564-AAAC-E7B7B467601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2FE5280-BC17-4341-A4F2-D43CF4C14BF6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CB8CA7A-787A-4AE7-927D-E9ACB45989C7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DFABC60D-EDAE-4E45-AB82-3EF6BEA8622B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9D924-A3D4-4778-AF4A-F4EA26586DF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A110A03F-41F3-493E-B068-94A727F677B0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9BD78180-08C9-4C77-973C-23D496F5228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86DE8ACE-F5FE-4344-85F2-F47686BBF14D}" type="slidenum"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232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77C7D575-368B-4062-A8FB-6F1184DBF3F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439C2715-46D5-43E5-9FE3-3995084B790E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6117A4E3-CFE9-4E5B-A316-CE68A3064391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3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fld id="{E79384AC-9D20-4A68-8D92-8FD252611B76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A4F3-FC17-41B5-8C00-E85BBCA15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4893-29CA-4FCD-A6B3-7CA0628CD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5DE1-F8C4-4117-80A3-09B5B74C8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5B40-1B39-4C11-9B7D-453D7BB0D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A541-56B8-4E95-8B49-95DE277BF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0EB-919F-4ACF-8ED9-3CCFCD23B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C27E-2ACA-423B-B7B1-72F5E79E6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5DB7-973E-4C3B-B330-E34FCCFF4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4120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31BD-6F10-4F83-AAEA-903F6D766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7724-08CB-4389-9E5D-97987E85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887C-E235-42B2-AD95-5956DC27D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6871-5FAC-452D-833B-A9B51E9A3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bandeauux ppt6.jpg"/>
          <p:cNvPicPr/>
          <p:nvPr/>
        </p:nvPicPr>
        <p:blipFill>
          <a:blip r:embed="rId2"/>
          <a:stretch/>
        </p:blipFill>
        <p:spPr>
          <a:xfrm>
            <a:off x="0" y="2412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60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7C4B477-F2EB-40FD-8BCD-BC27B5C5D38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/french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rdatoolkit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rdatoolkit.org/translation" TargetMode="External"/><Relationship Id="rId2" Type="http://schemas.openxmlformats.org/officeDocument/2006/relationships/hyperlink" Target="http://spectrum.library.concordia.ca/7638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7" descr="Image BAnQ.jpg"/>
          <p:cNvPicPr/>
          <p:nvPr/>
        </p:nvPicPr>
        <p:blipFill>
          <a:blip r:embed="rId1"/>
          <a:srcRect l="0" t="6063" r="0" b="0"/>
          <a:stretch/>
        </p:blipFill>
        <p:spPr>
          <a:xfrm>
            <a:off x="0" y="0"/>
            <a:ext cx="9150480" cy="4727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657360" y="5464080"/>
            <a:ext cx="60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ZoneTexte 33"/>
          <p:cNvSpPr/>
          <p:nvPr/>
        </p:nvSpPr>
        <p:spPr>
          <a:xfrm>
            <a:off x="685800" y="4800600"/>
            <a:ext cx="84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Étapes préparatoires avant l’implantation R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677880" y="5799240"/>
            <a:ext cx="602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nielle Poirier et Pat Riv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ion du traitement documentaire des collections patrimoni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entre de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7" descr="BANi2c"/>
          <p:cNvPicPr/>
          <p:nvPr/>
        </p:nvPicPr>
        <p:blipFill>
          <a:blip r:embed="rId2"/>
          <a:stretch/>
        </p:blipFill>
        <p:spPr>
          <a:xfrm>
            <a:off x="7086600" y="5883120"/>
            <a:ext cx="192564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bandeauux ppt.jp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A553D91-4B48-49B1-9475-241DF4B9154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utili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repose sur 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es internationales de catalog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FLA 2009) qui actualisent les Principes de Paris (de 196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s'aligne sur les modèles conceptuels de l'IFLA FRBR et F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A3352CA-6119-4590-8311-FC20EDBEA02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Données liées à la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0000"/>
                </a:solidFill>
                <a:latin typeface="Arial"/>
              </a:rPr>
              <a:t>http://data.bnf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OCLC Work Record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oclc.org/research/activities/workre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Classify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classify.oclc.org/classify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4506655-333C-4384-82E4-251DF9ACB7C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273560"/>
            <a:ext cx="640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690480" y="1882800"/>
            <a:ext cx="3919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égion de Montréal : 514 873-110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ns frais, d’ailleurs au Québec : 1 800 363-902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RANDE BIBLIOTHÈQU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75, boulevard De Maisonneuve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5C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 DE CONSERVATIO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75, rue Ho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G 3H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NTRES D’ARCHIV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bitibi-Témiscamingue et Nord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7, rue du Terminus Ou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ouyn-Noranda (Québec)  J9X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-Saint-Laurent et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spésie–Îles-de-la-Madelein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37, rue More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mouski (Québec)  G5L 1P4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Point de service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0, boulevard de Gaspé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spé (Québec)  G4X 1A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ôte-Nord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00, boulevard Laure, bureau 190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pt-Îles (Québec)  G4R 1Y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5262480" y="2336760"/>
            <a:ext cx="35989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stri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Frontenac, bureau 40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herbrooke (Québec)  J1H 1K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uricie et Centre-du-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25, rue des Forges, bureau 208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is-Rivières (Québec)  G9A 2G7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ontré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35, avenue Viger Es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réal (Québec)  H2L 2P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utaouai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55, boulevard de la Gapp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ineau (Québec)  J8T 8H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villon Louis-Jacques-Casaul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ampus de l’Université Laval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055, avenue du Séminair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Québec (Québec)  G1V 4N1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guenay–Lac-Saint-Jean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930, rue Jacques-Cartier Est, bureau C-103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aguenay (Québec)  G7H 7K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Image 9" descr="bandeauux ppt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F5C451E-E016-4C4C-BA98-E1F84760D36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 terminolo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uniform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voi voir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7560" y="1600200"/>
            <a:ext cx="44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l'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ivilég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collectif conven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e de point d'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pour une ressource en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F63362-3005-42C7-94EF-F54AF2CFEC3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principes et tâches des utilisate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basée sur les entités et rel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ce qu'on vo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abréger si pas abrégé sur la 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D remplac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s listes de terme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E8F9047-AE27-47AD-87E4-D9D94B12737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t RCAA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érences importantes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e sur les relations entre ressources et entité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 plus de points d’accès (sans règle de tr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de l'œuvre représentée par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s de données indépendants, pas organisés en zones d'informations ISB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de contenu et non d'affichage, l'affichage ISBD reléguée à une ann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496AED1-0324-454D-9DA5-C6B1006902D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 év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la plupart des instructions ne sont pas vraiment différen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ment exprimées dans un nouveau vocabulaire et réordonn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connaissances transfér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nouvelle façon de voir l'information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91A9F3B-266A-4A11-9BBE-7F61D57B786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de FRBR/FRAD pour comprendre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concepts et la terminologie FRBR et FRAD sont intégrés à la structure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de RDA est organisé sel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attributs des 11 entité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s relations par groupes d'entités</a:t>
            </a:r>
            <a:br>
              <a:rPr sz="2000"/>
            </a:b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âches des utilisateurs sont omniprésentes dans le text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vorise l'application du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6333724-D2C7-4A02-9D94-560518BE3E2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s de l'IF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B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Bibliographic Record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pécifications fonctionnelles des notices bibliographiqu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publié par la Bibliothèque nationale de France e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FRA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unctional Requirements for Authority Dat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 français: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Fonctionnalités requises des données d’autorit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traduit par la BnF e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0670BF-55A6-417B-8EA1-D867346997C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FRBR et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èl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-rel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E-R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tité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catégorie d'objet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ste de leur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éléments de donnée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liens) entre les entité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rrélation avec les quatre types d’opérations effectuées par les utilisateurs (les tâc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84E774-13DE-4C55-98F0-37676DD58A4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ressources qui correspondent aux critères de recherch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correspond à celle recherchée par l’utilisateu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Sélectionn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hois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ressource qui soit en adéquation avec ses besoin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Obten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avoi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ccès à la ressource d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39F986-7C02-4D00-A56C-DB0FD6C7070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age à RDA : étapes préparato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s principales étapes nécessaires au passage à la norme RDA, soit, les étapes de préparation du personnel au paramétrage de votre SI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08B0F49-B855-492C-9079-20C640E4083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âches qu’accomplissent les utilisateurs (FR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entités qui correspondent aux critèr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une entité (confirmer qu'elle correspond à celle recherch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xtualis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lar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Situer une personne, une collectivité, une œuvre, etc. dans son contex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Justifi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mprend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quoi un nom ou un titre en particulier, ou une forme du nom ou du titre, a été choisi comme le nom ou titre préfé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7BBFB6A-25D4-4E89-860C-A512ED5A240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roupes d'entités FRB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1 (œuvre, expression, manifestation, item) : productions artistiques ou intelle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2 (personne, famille, collectivité) : responsables d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oupe 3 (concept, objet, événement, lieux) : sujets des œuvres (avec les groupes 1 e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4164AD7-5CF2-4768-B0B1-211D251EA05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ont le cœur de la notice 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abstraites reflètent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entités concrètes reflètent la présenta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1421377-CF01-42DB-AE9B-A93388F305C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xemplair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solé d’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 concret, généralement matériel, présent dans les collections des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ut comprendre plusieurs parties (volumes d'un ouv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identifiant (cote, code à barres), prov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E5376ED-CDCE-4FD5-85E8-23CF4934075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atéri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e l’expression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semble des exemplaires ayant les mêmes caractéristiques, aussi bien la présentation matérielle que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rait être une édition commerciale, ou un objet unique comme un manuscrit d’au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beaucoup! Titre propre, mentions de responsabilité, d'édition, date de publication, nombre de pages, ISB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031F09D-1E6C-41EC-A52C-89E991211D6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réalis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’une 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forme intellectuelle ou artistique spécifique que revêt une œuvre lorsqu’elle est ré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mots spécifiques qui forment un texte, les notes spécifiques d'une œuvre musica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langue, forme d'expression (textuel, sonore,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105B91F-EF5C-4008-8B43-BF7C4A8A79E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Œuv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ré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le ou artistique détermi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straction du contenu commun de 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ide dans une identité de contenu au sein des diverses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e correspond à aucun objet matériel iso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ttribut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forme (poésie, roman), date et contexte de création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8837DF8-D5A5-4C66-AAEE-63E832FCD30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'est-ce qu'un “livre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 perdu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l faut commander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J'aimerais lire ce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n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e film s'inspire de mon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ivr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réfé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44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C3493B-65EB-494A-9D0C-2C0925777A2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E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trouve sa réalisation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e concrétis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st représenté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E658CDF-64FA-475F-B343-D01BD56A66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responsable(s) 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8526EAA-5A67-4458-9898-4B753AB5886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f aperçu de FRBR et FR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ction française de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rier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DB6F7B-DCF7-4E0F-8AE7-AA2199AC2F1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du Group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nt la responsabil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ntellectuel ou artistique d'une œuvre ou d'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atérielle et de la distribution d'une manif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ossess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u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3DB01E4-5ED4-4D79-8233-82B0C89913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lations principales du Groupe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É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+ entités des groupes 1 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les sujet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'entité du group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C3DE05E-2D8F-4ADD-9726-A1265A36DD2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dans le catalo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réent u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end possible les tâches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Trouver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ermettent l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05AEDE3-427B-4C38-A254-71465076AEF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lations bibliograph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re les entités du Grou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Œuvres (p. ex. suppléments, adaptations, ensemble/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pressions (p. ex. révisions, trad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ifestations (p. ex. reproductions, formats alternati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1853B9D-FEFB-4CBB-B992-CF577120EB6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dèle FR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TITÉ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sont connues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MS et / ou IDENTIF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avec lesquels sont formés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52494CA-44A4-477A-B89D-DCE5576F5E6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tités FRAD dan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’occupe d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'autorité, pas des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éparation entre le Nom (ou Identifiant) et le Point d'accès contrôlé basé sur le 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formes préférées et les variantes de forme du nom sont des Points d'accès contrô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uction française de RD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5B9DC5F-430D-48ED-906F-7F3D76A5E62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aduction de la norme en franç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quoi une traduction 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ente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TED, BAC, BAnQ, 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FDD6DED-1081-4209-83A1-FA32BF41CF8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thodolog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2688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lectur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112920" y="2392200"/>
            <a:ext cx="548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B10C1CB-9ED3-4654-B192-B5BA343DA33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État d’avanc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en franç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ssaire : dès maint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pie imprimée RDA : janvier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ligne, RDA Toolkit : février ou avri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3445B9D-2A03-4B5C-A80E-B1ABD8154DE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paration local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monstration du RDA Toolkit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ngements au MARC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bibli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7944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auto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E998A1-BB2B-4A87-BD35-74D58540CC4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loss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6440" y="166212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/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92320" y="2198520"/>
            <a:ext cx="61833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ndrier d’implan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34B1CB9-3B29-4AAD-B27C-7307081EB47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nisseurs de no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 : transition terminée le 31 mars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Q : début à la fin de janvi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Québécois de Traitement Documentaire : 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F8D8076-2CC9-49E2-AEB3-3EAAA2F3145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us conti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s à jour de la n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uction des mises à j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de notic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des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éparation loc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41B7754-608B-4AE3-9E76-A633D17CEC2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impliqu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l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des services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à la réf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C4A6548-9F6B-4F3A-B1A6-8D7AECB1D87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 se prép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préparation, principal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isation avec RDA, documentatio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u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 la norme, choix des options R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à jour des procédur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776B922-D2A3-40B4-9157-87ABA77451A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iarisation avec la nouvelle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bonnement au 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sionnem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ff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3581280" y="2262240"/>
            <a:ext cx="4343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7EC31F6-EC3A-4324-8220-3B776E4BFB2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m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çais, en ang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igne 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en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dget alloué aux 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eurs ou tout l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F200B6-D173-4843-90E9-E893A052C51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étrage du SIG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ments au format MARC 2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et modifications de zones M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035160" y="2901960"/>
            <a:ext cx="42260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62E8255-8B0C-4E12-A223-342EB436A82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de la 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étrage de votre SI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es MARC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eaux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de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relles d’importation et d’exportation de no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4572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chag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nement hybr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AE7428D-E9A4-45CE-81D6-B9D782532E5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plication de la n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dentification des changements possibles de vos procédures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cisions sur les choix d’options et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litiques locales act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es 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iveau de catalo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7FE042-6AF2-4426-8A44-7965018A2EF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s inter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 vocabulaire RDA et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 mémoire pour les nouvelles zones MARC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de correspondance RDA et zones MARC 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RDA Toolk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7AC0CD-BD4B-42C1-9B66-854BE529549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DA imprimé ou en lig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imprimé ou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e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bre d’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DA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: reconnaissance IP ou personn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i avant l’ab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F4A6F3-A3A2-4F26-B894-0524780D59D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monstration du RDA Tool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1038240" y="2460600"/>
            <a:ext cx="7029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ment au MARC 2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75CC9EE-EA36-4F4A-8EF0-B13728F234B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DA en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cénarios d'implantation de RD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'immédiat, RDA en MARC 21 avec des notices bibliographiques et d'autorités distinctes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avec ponctuation ISBD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ventuellement, un nouveau modèle d'encodage de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Bibliographic Framework Transition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ttp://www.loc.gov/marc/transi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2C827BB-9AEE-4327-A0AD-4173801E77C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4ECD0B0-A328-44E3-8827-19A10DBFC90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/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difications 9 (2008) à 15 (septembre 2012) comprennent des changements liés à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sues du MARC/RDA Working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umé : http://www.loc.gov/marc/RDAinMARC-10-1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21 en français : http://www.marc21.ca/040010-235-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0A09D8C-F12E-43C2-83D4-528D9715752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naître une notic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ibli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ISBD) si la ponctuation ISBD est appliquée entre 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t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08/10 = z (autres 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Avec 040 $e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rda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1B158A-FE33-480B-9F86-D3EA1EC70B4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age qui dispar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[IGGD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tion de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IGGD (ou GMD) des RCAA2 n'existe pas en RDA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é par 3 nouvelles zones (336, 337, 338) dans les notices bibli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à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3CFB091-D9AC-4E68-9776-B35F8F538F1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 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06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6.9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ont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241824A-BB75-4C94-8C7C-63414D963A0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7 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oire (LC, BAC, BAnQ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0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e de RDA 3.2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med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CFD1D2D-1889-48AE-9F1F-0B5EA8642D0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859E28A-D9D4-42B3-B779-F9B85B16F2D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8 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en R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7/01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quelques nouveaux codes spécialisés (types de microfilms, supports informatiques, documents iconographiques, film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uv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e de RDA 3.3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oc.gov/standards/valuelist/rdacarri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06FC699-9DF0-4EA2-85D6-8EF2AB33D68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en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texte tacti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973171C-555A-40B5-961A-1CBDD583D30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DE02861-EED4-4E97-902C-C8E305275FA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essource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ocument électronique sur cédé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7 ## $a informatique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8 ## $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isque informat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1FAC8E0-0D84-4D38-9C0D-46C07F406A2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ation, distribu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 utiliser en RDA! Remplacé p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Production (document non publ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Diffusion ou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Fabrication ou manufacture (i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A268CCC-FF8E-44CB-9E4A-7EF28BCD9CD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existe avec des nouvelles zones pour des types de ressources spécia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son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projection d'images en mouv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vidé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aractéristiques de fichier numér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upport matériel) nouvelles sous-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424914-F05D-472F-AC29-C98AEB4F5EC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grand degré de pr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28 (Numéro d'éditeur)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q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Qualifica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028 0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438 954-2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ilips Classics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q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disc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2 (Note de thè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02 ##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b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Ph.D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c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Université de Montréal </a:t>
            </a:r>
            <a:r>
              <a:rPr b="1" lang="fr-CA" sz="2000" spc="-1" strike="noStrike">
                <a:solidFill>
                  <a:srgbClr val="0000ff"/>
                </a:solidFill>
                <a:latin typeface="Arial"/>
              </a:rPr>
              <a:t>$d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33 et 518 (Date et lieu d'un évén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90 et 8XX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x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répét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, ISSN de collection et sous-collection dans la même zon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 de diverses valeurs dans les 007 et 008 pour des support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C7214B7-7CE8-4CD0-BF28-7729A0CE469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no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61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6 (Dates codé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68 (Autres attributs associ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 (Lieu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1 (Adre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2 (Champ d'activ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3 (Groupe associ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4 (Profession/Occup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5 (Sexe de la perso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76 (Renseignements sur la fam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378 (Forme développée du n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799320" y="1600200"/>
            <a:ext cx="20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m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lle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7B1719-AB68-49DE-A5E7-7246FFC99A0B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zones (Autorités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s des œuvres et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7 (Langue associ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0 (Genre de l'œuv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1 (Autres caractéristiques d'une œuvre ou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2 (Médium d'exé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3 (Numéro d'identification de l'œuvre musi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4 (Tonalité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*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B12698D-4928-41EF-9040-BA4828C1A9DE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changer les RCAA2 o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rquoi une nouvelle norme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s des RCAA2 (en origine pour un catalogue sur fi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éviations, lat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supports à intégr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e vue anglo-améri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BA800B-42B5-4B1F-B88F-515E6D2EB14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s av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1XX, 7XX (exista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œuvres, etc.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7XX ou 76X-7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 avec (nouveau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zones 5XX de la notice d'autorité (précédé p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5E23C64-6D08-44E1-80ED-4812AADCF3D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ôles des personnes, collectivités, etc. associés à la ressour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e tradu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aint-Germain, Michel, $d 1951-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4 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FF7CF57-C24C-48F9-891F-28BD91273C8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s œuvres, expre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Suite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arroll, Lewis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832-1898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lice's adventures in Won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Traduct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til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775 08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éimpression d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nny, Louise, 1958-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 plein cœur.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Montréal : Flammarion Québec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A421A5-C134-4DDD-924D-D43DE1061EF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d'indicateurs de re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utorité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elations entre personnes, familles, colle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.M. Pei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Fonda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, I. M.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1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10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ei Cobb Freed &amp;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2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Anthony Coleman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500 1#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w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r </a:t>
            </a:r>
            <a:r>
              <a:rPr b="1" lang="fr-CA" sz="2400" spc="-1" strike="noStrike">
                <a:solidFill>
                  <a:srgbClr val="ff0000"/>
                </a:solidFill>
                <a:latin typeface="Arial"/>
              </a:rPr>
              <a:t>$i</a:t>
            </a:r>
            <a:r>
              <a:rPr b="0" lang="fr-CA" sz="2400" spc="-1" strike="noStrike">
                <a:solidFill>
                  <a:srgbClr val="ff0000"/>
                </a:solidFill>
                <a:latin typeface="Arial"/>
              </a:rPr>
              <a:t> Membre du group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leman, Anthony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195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annexe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0E4914-7C9B-4826-968D-5CDBA000B363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modifications réce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8/23 (Support matériel du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 de valeurs pour documents électro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pport tangible (cédéroms, disquet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précis que s (électronique) encore p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 (Pays de l'agence de pro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stitution à laquelle s'applique la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527F227-3C06-4E53-B55B-A283AFA7913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Code de lan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velles sous-zones, modif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ff"/>
                </a:solidFill>
                <a:latin typeface="Arial"/>
              </a:rPr>
              <a:t>http://www.marc21.ca/040010-1010-f.html#mrcb0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Code de langue de la langue origi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traductions interméd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k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texte est une traduction française d'un texte en anglais publié à l'origine en sué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6F4771C-A6F0-46BD-86D7-AED3DB55B2E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Nouvelles sous-zones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livr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 de langue du matériel d'accompagnement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de langue du matériel d'accompagnemen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rigi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utre que des liv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82A771-C47B-4DC4-B7F6-1221A5DF091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de livret trad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us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sonore d'une œuvre chantée en anglais, traduit à partir de l'original en russe; traduction à l'anglais du livret original en russe; les notes de programme en anglais avec des traductions en français et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6AAEEE-565F-45F4-8DD1-FB2819A9CE78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Exemple matériel d’accompagnement mu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1 1#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h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it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g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ment sonore d'un opéra italien chanté en français, livret en anglais et italien, notes de programme en anglais et français, mais les notes de programme ont été écrites en allemand à l'ori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DE5147-E3C2-47CD-AE0D-F1D6E0456D3D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41 Pour les vidéos sous-ti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ff"/>
                </a:solidFill>
                <a:latin typeface="Arial"/>
              </a:rPr>
              <a:t> Code de langue de sous-titres ou de libell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041 1# 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ng </a:t>
            </a:r>
            <a:r>
              <a:rPr b="1" lang="fr-CA" sz="2400" spc="-1" strike="noStrike">
                <a:solidFill>
                  <a:srgbClr val="0000ff"/>
                </a:solidFill>
                <a:latin typeface="Arial"/>
              </a:rPr>
              <a:t>$j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enregistrement vidéo en anglais comprenant des sous-titres en all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07D519C-AC15-48C5-B2A3-25FE50E7448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énéfices de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re uniforme, flexible et extensible pour la description de ressources de tous gen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e jugement du catalogue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çu pour un environnement numér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internation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de tirer profit des nouvelles technologies et des nouveaux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A04B65B-A2AB-4EFC-AE2D-B9A80EB384A7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8 Source de la descri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 notes étaient précédemment dans des notes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information administrative concernant la notice, comme la source de la description ou le dernier numéro consulté 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tre de la couve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#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ption d’après: no 3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étrage de votre SI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57FB745-300F-4C1D-8A31-D9B5F657F5D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324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AD4B1A-4244-43A1-84BD-C8F1E85B1EE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et modifications de zones MARC 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nouvelles zones, par exemple, 264, 336 à 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sous-zones, par exemple, la 700 $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codes valides, exemple, 040 $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jouts de valeurs dans des zones fi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D21C34-DB56-4D48-94B9-E3319BBA8AE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bordereaux de trav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uide/18 = i (pa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$e rda par déf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36/337/338 selon le typ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lever les 245 $h IG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64 ind.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=1 (Publication) par défaut pour des documents publ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EDF70E-C660-4622-B326-CE9C9E60C95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487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854A2E4-F6FC-4F83-B4DE-A2DE34362C50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tions des index de recher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 les 336/337/338 – choix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264 $a et 264 $b aux index lieu d’édition et éditeur (s’il y a li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urs de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1 ne pas indexer les sous-zones de langue ori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du fichier d’autorité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F99AA3-57D4-4A83-81B9-651584B4FC74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relles d’importation et d’expor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im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relles d’exportation : ajout des nouvelles zones et sous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assurer que des données ne sont pas per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7C251D8-B5B0-4781-AF43-7100FA962E4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chage des 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à l’OP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ices (afficher la 2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face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ffichage 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nement hybr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B5F855C-4782-41F8-A0F3-CFC5AAA6D0A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 développe RDA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SC = Joint Steering Committee for the Development of RDA (6 membres de 4 pay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stralie = Australian Committee on Cataloguing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nada = Comité canadien de catalogag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rande Bretagne = British Library et CILIP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ts-Unis = Library of Congress et ALA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llemagne = Deutsche Nationalbibliothek (depuis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BC62E52-690D-4E58-8925-FB8CF7AE9635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ases de donné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ices RCAA2 et notices RDA vont cohabiter dans la même bas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les notices RCAA1 avec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suit le principe de continu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haque base de données collective définira des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emple, OCLC World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 seule notice par ressource par la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transformer RCAA2 en RDA, jamais l'in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D776978-60D2-4BC9-944F-EC8D33A4DF3C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ultat d'ajouts d'éléments RDA à une notice bibliographique RCAA2 exista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cription n'est pas modifiée (transcription dans le 245, etc.) et reste selon les RCA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/1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CAA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, avec des points d'accès formulés selon RD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, avec des éléments techniques RDA (exemple, 336/337/338 ajoutés en lo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1218F1-3C1C-48DA-B137-5D210FCB217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otices d'autorité hybr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d'accès formulé selon les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d'autorité bonifiée avec les nouvelles zones 046, 37x ou 3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jamais, un point d'accès partiellement RDA et partiellement RCA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2C71967-8C8E-4117-9605-959F340FF122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Notices dérivés ou mises à j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er l'accès à la res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ger les erreurs de contenu, ne pas changer d'un style à un autre, d'un code à l'au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de l'information, pas en enlever (sauf si erroné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de RCAA2 à RDA seulement avec la ressource en main pour en faire une nouvell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-533520" algn="ctr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s offer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A7B242E-04DA-416E-B249-05DB4B66498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fertes en collaboration avec l’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19320" y="3178080"/>
          <a:ext cx="6324480" cy="188280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réal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ébec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ourné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ar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janv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journé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de la norm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et 15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et 19 février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85943B-D053-4777-B7E5-4C3DD632A1A1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es utilisateurs des règles de catalogage 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pour faciliter le passage à la nouvelle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talogage plus spécialisé, par exemple, par support ne sera pas cou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s les formateurs sont de BAnQ et font partie de l’équipe de traduction de la norme 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4F8FE33-C1D9-4DB5-BE02-AD958C4896E9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4120" y="241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lossaire RDA en franç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rdatoolkit.org/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rticle: 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aradis, Daniel (2011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RDA ou le catalogage repensé pour l’ère numérique.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Documentation et bibliothèques, 57 (1). pp. 33-43. ISSN 0315-2340 </a:t>
            </a:r>
            <a:r>
              <a:rPr b="0" lang="fr-CA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spectrum.library.concordia.ca/763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ur le site de la BnF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rda/s.rda_objectif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spectrum.library.concordia.ca/76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Ateliers pour l’ASTED, avril 2011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Riva-Asted-RDA-29-avril-2011.pdf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Version française de la brochure sur FRBR écrite par Barbara Tillett.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dir/cpso/FRBRFrench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38FDFC7-AE00-4EE0-9F2E-94764245DDA6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BnF FRBR et plu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bnf.fr/fr/professionnels/modelisation_ontologies/a.modele_FRBR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texte officiel en français (2009)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ifla.org/files/assets/cataloguing/icp/icp_2009-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rincipes internationaux de catalogage, présentation Congrès des milieux documentaires 2010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docs/2-CREPUQ-ICP2010-fre-Riva.pdf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essentiels:</a:t>
            </a:r>
            <a:br>
              <a:rPr sz="20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JSC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-jsc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RDA Toolkit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rdatoolkit.org/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MARC 21 changements RDA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marc/RDAinMARC-10-12.html</a:t>
            </a:r>
            <a:br>
              <a:rPr sz="1800"/>
            </a:b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LC, ressources RDA :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aba/r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DFC9D9A-EBD9-4BEB-AB3A-BAF4B124D7AF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412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ens ut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Portail de BAnQ, Milieux documentaires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www.banq.qc.ca/services/services_professionnels/milieux_doc/ressources/traitement_classification/r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QTD, RDA</a:t>
            </a:r>
            <a:br>
              <a:rPr sz="2000"/>
            </a:b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http://sqtd.banq.qc.ca/faq/faq-rda.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Arial"/>
              </a:rPr>
              <a:t>Sites avec matériel de formation en anglais</a:t>
            </a:r>
            <a:br>
              <a:rPr sz="2000"/>
            </a:b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LC RDA Training/LC RDA course tab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loc.gov/catworkshop/RDA training material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ttp://www.ala.org/alcts/confevents/upcoming/webinar/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1:42:34Z</dcterms:created>
  <dc:creator>Louise Lecavalier</dc:creator>
  <dc:description/>
  <dc:language>en-US</dc:language>
  <cp:lastModifiedBy>Pat Riva</cp:lastModifiedBy>
  <cp:lastPrinted>2012-10-21T23:42:40Z</cp:lastPrinted>
  <dcterms:modified xsi:type="dcterms:W3CDTF">2012-12-10T17:53:30Z</dcterms:modified>
  <cp:revision>343</cp:revision>
  <dc:subject/>
  <dc:title>Diapositive 1</dc:title>
</cp:coreProperties>
</file>