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9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7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96684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BFFCB33D-B525-4510-861B-51D1B72B9790}" type="datetime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-07-30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75952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66840" y="875952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311D6B11-D1A4-499B-8496-46DF93EEAF1B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888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232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17A1522C-DAE9-4AE4-8B02-0DA0651A818F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888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232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88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232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888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232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2874DB93-B104-4C00-B92C-77D4C7A8C707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5CB451EF-BC85-4654-8179-720C871AEA3E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418154D1-3AC7-4313-A9CC-DF443B9C28F6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7E5863F8-2B87-4B61-BA6C-DDBF419DC2F7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3393F75F-C85A-4AF4-838C-13AC7CCEBAC5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9987D61C-C2E7-48C5-B167-428747894257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AD2C0CEA-7929-49F9-9D1F-046057889876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0C641011-2AFE-4EA1-9419-116838E6ACF4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FA85E4E6-F4BC-43AA-BF80-387AB1A29815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51EC28F8-3FC0-491E-A2A1-BD03DD40533E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4EF62F7F-AABF-401D-AE26-CE9DCEC877B4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676A53B8-A16B-4283-B44A-0FCF28B48BA9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4A97658C-97DF-40D6-8ADA-F570129EE998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1A828F2C-8D7B-4D3C-949B-A6EC7A819CA5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E35FCFE2-95B4-4B28-A267-D66D5DAB4A6C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A2B775F1-2A63-48C4-A6A1-B7D556188DD3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AF97AF33-5941-4682-BFCB-57C38FBBA91A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9CAFED39-AA14-4D1B-8659-10E2E3E9CD3A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5380C3ED-8E3A-4680-82A6-C564C4C5E38A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9B1F4F49-18D3-4E82-8C52-393A0E0E7AC0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ED4E12E3-B14C-4465-9CBE-8465C371DF0C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F8150213-76C7-41F4-BA46-13EAF8F2229F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25D50E30-3AE0-43EF-8B5E-3D1D13A2836E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D09E4F46-A373-4DFE-9E85-FBB5E47A960B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888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232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B4081583-2765-40DA-8E73-0928DEB606BB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0BE6FAFF-0165-4122-B81A-3E111B8A7E93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8C59EF70-F8D3-4912-BFE7-545C2F267095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29EF69A6-800E-4098-B715-BA473F512ACF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7DDC72F7-F0EB-433E-B421-DF7AB464F88A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0D6E351C-3978-457D-8E42-CB801B29EC48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E71C646F-F291-4D24-95DC-69300D163015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F078478A-EB16-45E0-9D33-2970B41DB8C3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EF105714-B728-4730-A115-7115493F0F44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48652E39-E6B4-4C64-AA24-CB133093DA66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88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232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3D11C335-BED8-4F11-95C8-58B5874A041D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CF4F31C6-9B68-4E6F-AB49-74F3A0D98801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6D76536B-ECC8-4A8C-A380-84C8C6D461CF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2687C51B-FF54-4F24-8381-ED05B7F1AE35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DA72BE-174B-4522-8CFC-0BE16284FA44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68D6B030-029F-4CCD-8E7D-22FBEAB8B337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210B4C8C-9729-4D3D-94E6-EACD42E6B241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8D80A9B2-1157-4BA4-9BEE-7AC1C6127E93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88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232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96BCEBE2-A412-414E-914F-9B86F9CE7CF5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DAF4E015-C8FE-4647-A463-6D67956B42C4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E7509084-91E2-431A-ABE2-B827F4F018AC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3C8292CD-773D-4DF0-9AE4-B813FAEAE191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FED12-899A-4545-BB67-06E7E0D667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32C91-E9B8-4470-9F23-644B30A840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A5B3E-E770-488A-9558-761AC1837E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4229D-6D74-4175-AB83-C95C8CD21D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B7307-9071-4D92-B2B5-56893C4197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3398A-898D-4DF1-986A-E2FC2ED872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21E79-E967-4829-BB29-E80DF89D10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409F2-28B0-4163-9F09-9C5E1C8F96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4120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5E525-770B-44CC-91D0-3053699555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986F3-B377-4287-83AE-C2E86AE84E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BA597-CB6E-4144-B6AB-46AA3B65AE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438BF-0113-4B4D-B39E-D5E8FE451F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7" descr="bandeauux ppt6.jpg"/>
          <p:cNvPicPr/>
          <p:nvPr/>
        </p:nvPicPr>
        <p:blipFill>
          <a:blip r:embed="rId2"/>
          <a:stretch/>
        </p:blipFill>
        <p:spPr>
          <a:xfrm>
            <a:off x="0" y="2412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601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A516AD0-881C-4752-9A97-FBF0FE733795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rdatoolkit.org/translation/french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rdatoolkit.org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hyperlink" Target="http://www.rdatoolkit.org/translation" TargetMode="External"/><Relationship Id="rId2" Type="http://schemas.openxmlformats.org/officeDocument/2006/relationships/hyperlink" Target="http://spectrum.library.concordia.ca/7638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 7" descr="Image BAnQ.jpg"/>
          <p:cNvPicPr/>
          <p:nvPr/>
        </p:nvPicPr>
        <p:blipFill>
          <a:blip r:embed="rId1"/>
          <a:srcRect l="0" t="6063" r="0" b="0"/>
          <a:stretch/>
        </p:blipFill>
        <p:spPr>
          <a:xfrm>
            <a:off x="0" y="0"/>
            <a:ext cx="9150480" cy="47275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9"/>
          <p:cNvSpPr/>
          <p:nvPr/>
        </p:nvSpPr>
        <p:spPr>
          <a:xfrm>
            <a:off x="657360" y="5464080"/>
            <a:ext cx="602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ZoneTexte 33"/>
          <p:cNvSpPr/>
          <p:nvPr/>
        </p:nvSpPr>
        <p:spPr>
          <a:xfrm>
            <a:off x="685800" y="4800600"/>
            <a:ext cx="8486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Étapes préparatoires avant l’implantation RD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8"/>
          <p:cNvSpPr/>
          <p:nvPr/>
        </p:nvSpPr>
        <p:spPr>
          <a:xfrm>
            <a:off x="677880" y="5799240"/>
            <a:ext cx="6027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Danielle Poirier et Pat Riv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Direction du traitement documentaire des collections patrimonial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Centre de conserva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7" descr="BANi2c"/>
          <p:cNvPicPr/>
          <p:nvPr/>
        </p:nvPicPr>
        <p:blipFill>
          <a:blip r:embed="rId2"/>
          <a:stretch/>
        </p:blipFill>
        <p:spPr>
          <a:xfrm>
            <a:off x="7086600" y="5883120"/>
            <a:ext cx="1925640" cy="822600"/>
          </a:xfrm>
          <a:prstGeom prst="rect">
            <a:avLst/>
          </a:prstGeom>
          <a:ln w="0">
            <a:noFill/>
          </a:ln>
        </p:spPr>
      </p:pic>
      <p:pic>
        <p:nvPicPr>
          <p:cNvPr id="53" name="Image 8" descr="bandeauux ppt.jpg"/>
          <p:cNvPicPr/>
          <p:nvPr/>
        </p:nvPicPr>
        <p:blipFill>
          <a:blip r:embed="rId3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AF152AD-1056-4715-8FC1-2DA50B890DB7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ncipes utilis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repose sur l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cipes internationales de catalog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FLA 2009) qui actualisent les Principes de Paris (de 1961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s'aligne sur les modèles conceptuels de l'IFLA FRBR et FR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32E1525-7E1F-47AE-8CD4-28F1A552B7B8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54120" y="20304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ns uti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Données liées à la B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ff0000"/>
                </a:solidFill>
                <a:latin typeface="Arial"/>
              </a:rPr>
              <a:t>http://data.bnf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OCLC Work Records</a:t>
            </a:r>
            <a:br>
              <a:rPr sz="2000"/>
            </a:br>
            <a:r>
              <a:rPr b="0" i="1" lang="fr-CA" sz="1800" spc="-1" strike="noStrike">
                <a:solidFill>
                  <a:srgbClr val="000000"/>
                </a:solidFill>
                <a:latin typeface="Arial"/>
              </a:rPr>
              <a:t>http://www.oclc.org/research/activities/workrec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Classify</a:t>
            </a:r>
            <a:br>
              <a:rPr sz="2000"/>
            </a:br>
            <a:r>
              <a:rPr b="0" i="1" lang="fr-CA" sz="1800" spc="-1" strike="noStrike">
                <a:solidFill>
                  <a:srgbClr val="000000"/>
                </a:solidFill>
                <a:latin typeface="Arial"/>
              </a:rPr>
              <a:t>http://classify.oclc.org/classify2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F2CD412-00EF-4A37-A78A-53C56568798A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371600" y="4273560"/>
            <a:ext cx="6400800" cy="13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erci de votre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690480" y="1882800"/>
            <a:ext cx="3919680" cy="45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Région de Montréal : 514 873-1100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ns frais, d’ailleurs au Québec : 1 800 363-9028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RANDE BIBLIOTHÈQUE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475, boulevard De Maisonneuve Est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5C4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 DE CONSERVATION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75, rue Holt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G 3H1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S D’ARCHIVES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bitibi-Témiscamingue et Nord-du-Québec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7, rue du Terminus Ouest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uyn-Noranda (Québec)  J9X 2P3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as-Saint-Laurent et 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aspésie–Îles-de-la-Madeleine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337, rue Moreault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imouski (Québec)  G5L 1P4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Aft>
                <a:spcPts val="1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000000"/>
                </a:solidFill>
                <a:latin typeface="Arial"/>
              </a:rPr>
              <a:t>Point de service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0, boulevard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spé (Québec)  G4X 1A9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ôte-Nord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700, boulevard Laure, bureau 190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pt-Îles (Québec)  G4R 1Y1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8"/>
          <p:cNvSpPr/>
          <p:nvPr/>
        </p:nvSpPr>
        <p:spPr>
          <a:xfrm>
            <a:off x="5262480" y="2336760"/>
            <a:ext cx="359892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strie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Frontenac, bureau 401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herbrooke (Québec)  J1H 1K1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uricie et Centre-du-Québec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des Forges, bureau 208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ois-Rivières (Québec)  G9A 2G7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ontréa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535, avenue Viger Est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2P3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Outaouais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55, boulevard de la Gappe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tineau (Québec)  J8T 8H9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Québec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villon Louis-Jacques-Casault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ampus de l’Université Laval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1055, avenue du Séminaire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Québec (Québec)  G1V 4N1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guenay–Lac-Saint-Jean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930, rue Jacques-Cartier Est, bureau C-103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aguenay (Québec)  G7H 7K9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Image 9" descr="bandeauux ppt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2FBEC3F-4688-4572-B39D-D53F25035496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uvelle terminolog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d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dette princip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unifo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uniforme collec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voi v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voi voir au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17560" y="1600200"/>
            <a:ext cx="446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d'accès 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d'accès pour l'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collectif conventi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nte de point d'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d'accès pour une ressource en 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99F1DDF-205D-4BEE-98B4-BA439E386CDC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DA et RCAA2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érences importan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41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e sur les principes et tâches des utilisateu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 basée sur les entités et rel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dre ce qu'on voi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 pas abréger si pas abrégé sur la 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GD remplacé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vorise les listes de termes contrô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27854F1-9F2A-4099-A591-CE2CA8D5A42D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DA et RCAA2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érences importantes (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e sur les relations entre ressources et entité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ilité de plus de points d’accès (sans règle de tro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de l'œuvre représentée par la ressour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s de données indépendants, pas organisés en zones d'informations ISB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e de contenu et non d'affichage, l'affichage ISBD reléguée à une ann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62C82B5-6057-48B8-A80D-04E62F0B5AEB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e évolu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 la plupart des instructions ne sont pas vraiment différent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lement exprimées dans un nouveau vocabulaire et réordonné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ucoup de connaissances transférabl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 nouvelle façon de voir l'information bibliograph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ef aperçu de FRBR et FR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3F2759B-5B20-4621-823D-1F7D29DD3981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Importance de FRBR/FRAD pour comprendre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concepts et la terminologie FRBR et FRAD sont intégrés à la structure de RDA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 texte de RDA est organisé sel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les attributs des 11 entités bibliograph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les relations par groupes d'entités</a:t>
            </a:r>
            <a:br>
              <a:rPr sz="2000"/>
            </a:b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tâches des utilisateurs sont omniprésentes dans le texte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vorise l'application du jugement du catalogu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963B72D-9A24-45C8-8B35-F4ACF6F728AF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Modèles de l'IFL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FRB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Functional Requirements for Bibliographic Records (19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 français: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Spécifications fonctionnelles des notices bibliographiqu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, publié par la Bibliothèque nationale de France en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FRA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Functional Requirements for Authority Data (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 français: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Fonctionnalités requises des données d’autorité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, traduit par la BnF en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F024919-9357-4465-9EF2-EBB001F1D31B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Méthodologie FRBR et FR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odèles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entité-rel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E-R)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éfinition des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entité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catégorie d'objets)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iste de leurs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attribut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éléments de données)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dentification des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relation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liens) entre les entités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rrélation avec les quatre types d’opérations effectuées par les utilisateurs (les tâch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41BA95B-A7DB-4DDA-B4A0-F92BBB9FC22C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âches qu’accomplissent les utilisateurs (FRBR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Trouv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les ressources qui correspondent aux critères de recherche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Identifi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une ressource qui correspond à celle recherchée par l’utilisateur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Sélectionn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hoisi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une ressource qui soit en adéquation avec ses besoins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Obteni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avoi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accès à la ressource déc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BEF7227-0775-4219-A057-8213532DD752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sage à RDA : étapes préparatoi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ésentation des principales étapes nécessaires au passage à la norme RDA, soit, les étapes de préparation du personnel au paramétrage de votre SIG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E560AC2-3FBE-4903-AF0C-1D5E2284B281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âches qu’accomplissent les utilisateurs (FRAD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Trouv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les entités qui correspondent aux critères de recher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Identifi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une entité (confirmer qu'elle correspond à celle recherché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ontextualis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larifi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Situer une personne, une collectivité, une œuvre, etc. dans son contex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Justifi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omprendr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quoi un nom ou un titre en particulier, ou une forme du nom ou du titre, a été choisi comme le nom ou titre préfé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2E56F3A-EB24-49A1-9C89-BD3C508F6920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Groupes d'entités FRB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Groupe 1 (œuvre, expression, manifestation, item) : productions artistiques ou intellectu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Groupe 2 (personne, famille, collectivité) : responsables des entités du group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Groupe 3 (concept, objet, événement, lieux) : sujets des œuvres (avec les groupes 1 et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8C776C1-9007-4FEE-B728-48C0B48AC052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ntités du Groupe 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ont le cœur de la notice bibliograph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2 entités abstraites reflètent le cont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œuv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2 entités concrètes reflètent la présentation matéri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manife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BE4B508-05E3-4BE0-ACCA-5CEC7ACCB48D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t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exemplair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isolé d’une manif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bjet concret, généralement matériel, présent dans les collections des bibliothè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eut comprendre plusieurs parties (volumes d'un ouvr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Attribut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identifiant (cote, code à barres), prov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4F59E24-C023-48B1-97DA-2D2F1048A82F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Manifes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matérialis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e l’expression d’une 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'ensemble des exemplaires ayant les mêmes caractéristiques, aussi bien la présentation matérielle que le cont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urrait être une édition commerciale, ou un objet unique comme un manuscrit d’au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Attribut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beaucoup! Titre propre, mentions de responsabilité, d'édition, date de publication, nombre de pages, ISBN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EAFA29A-9FC1-4EAF-BEED-0C2B2F534DBB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réalis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intellectuelle ou artistique d’une 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a forme intellectuelle ou artistique spécifique que revêt une œuvre lorsqu’elle est réalis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mots spécifiques qui forment un texte, les notes spécifiques d'une œuvre musical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Attribut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langue, forme d'expression (textuel, sonore, im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FE33378-4977-403C-961D-81DF7E36EF0B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Œuv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e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ré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intellectuelle ou artistique détermi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bstraction du contenu commun de ses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éside dans une identité de contenu au sein des diverses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e correspond à aucun objet matériel isol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Attribut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forme (poésie, roman), date et contexte de création origi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30C7634-F6B5-4C79-9FBD-27607F51537B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Qu'est-ce qu'un “livre”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J'ai perdu mon </a:t>
            </a:r>
            <a:r>
              <a:rPr b="0" i="1" lang="fr-CA" sz="2000" spc="-1" strike="noStrike">
                <a:solidFill>
                  <a:srgbClr val="000000"/>
                </a:solidFill>
                <a:latin typeface="Arial"/>
              </a:rPr>
              <a:t>livre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Il faut commander ce </a:t>
            </a:r>
            <a:r>
              <a:rPr b="0" i="1" lang="fr-CA" sz="2000" spc="-1" strike="noStrike">
                <a:solidFill>
                  <a:srgbClr val="000000"/>
                </a:solidFill>
                <a:latin typeface="Arial"/>
              </a:rPr>
              <a:t>livre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J'aimerais lire ce </a:t>
            </a:r>
            <a:r>
              <a:rPr b="0" i="1" lang="fr-CA" sz="2000" spc="-1" strike="noStrike">
                <a:solidFill>
                  <a:srgbClr val="000000"/>
                </a:solidFill>
                <a:latin typeface="Arial"/>
              </a:rPr>
              <a:t>livre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en franç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Ce film s'inspire de mon </a:t>
            </a:r>
            <a:r>
              <a:rPr b="0" i="1" lang="fr-CA" sz="2000" spc="-1" strike="noStrike">
                <a:solidFill>
                  <a:srgbClr val="000000"/>
                </a:solidFill>
                <a:latin typeface="Arial"/>
              </a:rPr>
              <a:t>livre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préfér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44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ife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Œuv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34323C0-A1B6-40A6-8425-ED6F7DB85BC6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lations principales du Groupe 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E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trouve sa réalisation d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se concrétise d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NIF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est représentée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F3F291B-351C-4CC1-9F2F-C200878DB675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lations principales du Groupe 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ERS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M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LLECTIV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responsable(s) p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tités du groupe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œuv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nif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43A4918-EE12-4B52-A1ED-0933F9299C53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de la 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à RD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f aperçu de FRBR et FRA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uction française de RD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endrier d’impla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86A6130-7674-497A-BF21-E41FCD6B6C34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ntités du Groupe 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nt la responsabilit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u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ontenu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intellectuel ou artistique d'une œuvre ou d'une 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e la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produc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matérielle et de la distribution d'une manif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e la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possess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'un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5638E11-21ED-411D-9C48-9A16B7512A87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lations principales du Groupe 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B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VÉ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I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+ entités des groupes 1 e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sont les sujets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'entité du groupe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62D3AA8-8265-4638-A415-4999CB457D2C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Relations dans le catalog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réent un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rend possible les tâches </a:t>
            </a:r>
            <a:r>
              <a:rPr b="0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Trouver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ermettent la 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F491C5C-1215-414B-9C19-3C3773170C2D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Relations bibliograph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tre les entités du Group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Œuvres (p. ex. suppléments, adaptations, ensemble/part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xpressions (p. ex. révisions, traduc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nifestations (p. ex. reproductions, formats alternati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BA88E1F-74E4-4805-B309-B27EE036BA67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Modèle FR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TITÉS BIBLIOGRAPH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sont connues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MS et / ou IDENTIFI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avec lesquels sont formés 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INTS d'ACCÈS CONTRÔ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3AE6ADE-6B99-4310-8774-F4E1ABCC8901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ntités FRAD dans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s’occupe des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donné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'autorité, pas des no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éparation entre le Nom (ou Identifiant) et le Point d'accès contrôlé basé sur le n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formes préférées et les variantes de forme du nom sont des Points d'accès contrô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uction française de RDA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8859F19-DF87-4FF9-A8EC-9535B8992E69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Traduction de la norme en frança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quoi une traduction en franç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tente avec l’A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tenai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STED, BAC, BAnQ, B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7CE9BB0-4916-4C8B-AC3F-42BD3157EB67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Méthodologi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268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rad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268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é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268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lecture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i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"/>
          <p:cNvPicPr/>
          <p:nvPr/>
        </p:nvPicPr>
        <p:blipFill>
          <a:blip r:embed="rId1"/>
          <a:stretch/>
        </p:blipFill>
        <p:spPr>
          <a:xfrm>
            <a:off x="3112920" y="2392200"/>
            <a:ext cx="54802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859BFCF-88F5-4D49-A9B0-A1D5E5D35E77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État d’avance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DA en franç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lossaire : dès mainten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pie imprimée RDA : janvier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ise en ligne, RDA Toolkit : février ou avril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DD9E3FE-C853-4326-9848-9A093FE9D662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de la 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éparation locale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émonstration du RDA Toolkit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hangements au MARC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7944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notices bibliograph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7944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notices autor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7CB9836-A055-4486-BFE2-CB16263918D7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Glossa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76440" y="1662120"/>
            <a:ext cx="82072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www.rdatoolkit.org/translation/fre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192320" y="2198520"/>
            <a:ext cx="618336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endrier d’implanta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2BBA6C4-F3BA-4260-B05D-80F86D7C1CE4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nisseurs de not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C : transition terminée le 31 mars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Q : début à la fin de janvier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Québécois de Traitement Documentaire : e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73DAB6B-5F7B-464E-9E3A-D315AC984DA4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ssus conti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e 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es à jour de la nor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uction des mises à j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cations de notices 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volution des SI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éparation local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8EBBE05-C7F4-4969-8A4F-557C548FD6DB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se préparer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 implique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able du SI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nel des services techniq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tement documen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qui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nel à la réfé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FB28FA8-A4FD-464F-8A35-B79674568B4D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se prépar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de préparation, principales ét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iarisation avec RDA, documentation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étrage du SI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de la norme, choix des options R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e à jour des procédures lo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7D406B6-5052-4BC3-A8A1-F1AC9149C620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miliarisation avec la nouvelle nor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bonnement au RDA Tool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ctur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sionnement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a docum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ffe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"/>
          <p:cNvPicPr/>
          <p:nvPr/>
        </p:nvPicPr>
        <p:blipFill>
          <a:blip r:embed="rId1"/>
          <a:stretch/>
        </p:blipFill>
        <p:spPr>
          <a:xfrm>
            <a:off x="3581280" y="2262240"/>
            <a:ext cx="434340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649C7CD-D403-4E98-A91B-0F52FD420A0E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Form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 français, en angl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 ligne ou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rmation en pers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udget alloué aux for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rmateurs ou tout le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6786C51-9609-47D3-AC8A-3B2607D48C1E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métrage du SIGB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ments au format MARC 2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 et modifications de zones MAR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1"/>
          <a:stretch/>
        </p:blipFill>
        <p:spPr>
          <a:xfrm>
            <a:off x="3035160" y="2901960"/>
            <a:ext cx="422604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774D582-E38D-4E52-B233-305E51C35C68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de la 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étrage de votre SI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2160" indent="-4572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ones MARC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2160" indent="-4572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dereaux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2160" indent="-4572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 de recher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2160" indent="-4572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erelles d’importation et d’exportation de no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2160" indent="-4572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fichage des donn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nement hybri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s offe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22A5950-CD83-417E-8566-A33E9D6BEDC0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pplication de la nor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dentification des changements possibles de vos procédures de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écisions sur les choix d’options et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litiques locales actu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types de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niveau de catalog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557981C-7140-4CDE-9D26-D06A30534710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cuments intern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de mémoire pour le vocabulaire RDA et FR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de mémoire pour les nouvelles zones MARC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aux de correspondance RDA et zones MARC 2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RDA Toolki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3916033-374C-4F9E-9723-D4A8AE7B55CC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RDA imprimé ou en lig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DA imprimé ou en li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ombre de cop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ombre d’accè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DA Tool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ccès : reconnaissance IP ou personnalis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ssai avant l’abonn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DE8F8F2-B18C-449C-A827-B0D43C0B7FFC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émonstration du RDA Toolk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www.rdatoolkit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6" descr=""/>
          <p:cNvPicPr/>
          <p:nvPr/>
        </p:nvPicPr>
        <p:blipFill>
          <a:blip r:embed="rId2"/>
          <a:stretch/>
        </p:blipFill>
        <p:spPr>
          <a:xfrm>
            <a:off x="1038240" y="2460600"/>
            <a:ext cx="702936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ment au MARC 21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B81C161-B1AF-415F-AF99-5458FB885080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DA en MARC 2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cénarios d'implantation de RDA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ur l'immédiat, RDA en MARC 21 avec des notices bibliographiques et d'autorités distinctes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ffichage avec ponctuation ISBD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ventuellement, un nouveau modèle d'encodage de no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Bibliographic Framework Transition 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http://www.loc.gov/marc/transition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5530B99-E61E-4BAC-AD2D-DDBA6AADD0AB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B47E766-C7BA-466E-84EC-E34DFEA2ED64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C/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odifications 9 (2008) à 15 (septembre 2012) comprennent des changements liés à 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ssues du MARC/RDA Working Gro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ésumé : http://www.loc.gov/marc/RDAinMARC-10-12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RC 21 en français : http://www.marc21.ca/040010-235-f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F934450-C98A-45C3-8457-564F173F42D9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onnaître une notice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ibliograph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Guide/18 = 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(ISBD) si la ponctuation ISBD est appliquée entre les sous-z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vec 040 $e 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rda</a:t>
            </a:r>
            <a:br>
              <a:rPr sz="2000"/>
            </a:b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to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008/10 = z (autres règ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vec 040 $e 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rda</a:t>
            </a:r>
            <a:br>
              <a:rPr sz="2000"/>
            </a:b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épé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AE8AB11-B3DD-48B5-A023-595AA4409FD9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dage qui dispara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5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tr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$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[IGGD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/ $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ntion de responsa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IGGD (ou GMD) des RCAA2 n'existe pas en RDA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placé par 3 nouvelles zones (336, 337, 338) dans les notices bibliograph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à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03789D2-75A3-433F-BB26-407A5305775E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36 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en RD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/06 (existan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ouve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rme de RDA 6.9.1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loc.gov/standards/valuelist/rdacontent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E441A09-088A-4BC9-BE33-9E32C8406AD6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37 Type de méd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igatoire (LC, BAC, BAnQ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7/00 (existan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ouve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rme de RDA 3.2.1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loc.gov/standards/valuelist/rdamedia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2E01A1B-4393-41B4-A405-A5FA46D0DB2A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6288AA9-0D11-479B-9F03-736BDFA257D2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38 Type de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en RD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7/01 (existan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 quelques nouveaux codes spécialisés (types de microfilms, supports informatiques, documents iconographiques, film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ouve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rme de RDA 3.3.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loc.gov/standards/valuelist/rdacarrier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5675B6F-D8AC-4A58-AD3E-74E0115BB666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iv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6 ## $a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text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7 ## $a sans médiation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8 ## $a volume $2 rdacarrier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ivre en bra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6 ## $a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texte tactil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7 ## $a sans médiation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8 ## $a volume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17FF2B5-7BE2-4523-89DD-A429CCFAAED3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56F9FD1-6311-43F6-9906-6CD08FC08FFE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ocument électronique en lig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6 ## $a texte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7 ## $a informatique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8 ## $a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ressource en lign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$2 rdacarrier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ocument électronique sur cédé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6 ## $a texte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7 ## $a informatique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8 ## $a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disque informatiqu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1FCB533-E0B5-457D-99CE-D0A730A6C7FA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blication, distribu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6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s utiliser en RDA! Remplacé par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6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épé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ur 2 précise la fonction de la ment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= Production (document non publi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=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= Diffusion ou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= Fabrication ou manufacture (impr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= Date de copy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C94F131-3810-49AA-AC53-350E44BB610F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3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existe avec des nouvelles zones pour des types de ressources spécialis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4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aractéristiques sono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4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aractéristiques de projection d'images en mouv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4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aractéristiques vidé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4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aractéristiques de fichier numériq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4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upport matériel) nouvelles sous-z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A88DA55-32D4-4552-BD17-2C7043CBA8B5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 grand degré de préci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028 (Numéro d'éditeur)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q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Qualificati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028 02 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438 954-2 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Philips Classics </a:t>
            </a:r>
            <a:r>
              <a:rPr b="1" lang="fr-CA" sz="2000" spc="-1" strike="noStrike">
                <a:solidFill>
                  <a:srgbClr val="0000ff"/>
                </a:solidFill>
                <a:latin typeface="Arial"/>
              </a:rPr>
              <a:t>$q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(disc 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502 (Note de thè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502 ## </a:t>
            </a:r>
            <a:r>
              <a:rPr b="1" lang="fr-CA" sz="2000" spc="-1" strike="noStrike">
                <a:solidFill>
                  <a:srgbClr val="0000ff"/>
                </a:solidFill>
                <a:latin typeface="Arial"/>
              </a:rPr>
              <a:t>$b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Ph.D </a:t>
            </a:r>
            <a:r>
              <a:rPr b="1" lang="fr-CA" sz="2000" spc="-1" strike="noStrike">
                <a:solidFill>
                  <a:srgbClr val="0000ff"/>
                </a:solidFill>
                <a:latin typeface="Arial"/>
              </a:rPr>
              <a:t>$c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Université de Montréal </a:t>
            </a:r>
            <a:r>
              <a:rPr b="1" lang="fr-CA" sz="2000" spc="-1" strike="noStrike">
                <a:solidFill>
                  <a:srgbClr val="0000ff"/>
                </a:solidFill>
                <a:latin typeface="Arial"/>
              </a:rPr>
              <a:t>$d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033 et 518 (Date et lieu d'un évén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490 et 8XX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x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0000ff"/>
                </a:solidFill>
                <a:latin typeface="Arial"/>
              </a:rPr>
              <a:t>répétitif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, ISSN de collection et sous-collection dans la même zone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jout de diverses valeurs dans les 007 et 008 pour des supports spécialis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D2E04B1-4EE3-46C2-84A7-F8BAFFC791F2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uvelles zones (Autorités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nom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614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46 (Dates codé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68 (Autres attributs associé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70 (Lieu associ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71 (Adres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72 (Champ d'activit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73 (Groupe associ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374 (Profession/Occup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375 (Sexe de la person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76 (Renseignements sur la famil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378 (Forme développée du n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799320" y="1600200"/>
            <a:ext cx="208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Person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amil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llectivi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0476C01-5F64-4724-B035-91E41BAE2FFB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uvelles zones (Autorités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ttributs des œuvres et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77 (Langue associé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80 (Genre de l'œuv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81 (Autres caractéristiques d'une œuvre ou expr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82 (Médium d'exécu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83 (Numéro d'identification de l'œuvre music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84 (Tonalité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* mus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F44D330-1D62-4EAB-B3F6-791CF84F03C4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urquoi changer les RCAA2 ou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urquoi une nouvelle norme 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s des RCAA2 (en origine pour un catalogue sur fich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GG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ègle de tr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réviations, lat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uveaux supports à intégr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de vue anglo-améric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15396C8-5881-4A19-B24B-58CB12ED8A8A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cateurs de rel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ôles ave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1XX, 7XX (existan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 entre œuvres, etc. avec (nouveau)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s les zones 7XX ou 76X-78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 entre personnes, familles, collectivités avec (nouveau)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s les zones 5XX de la notice d'autorité (précédé pa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3A8A8A4-14D9-431C-83C3-2F21A2AB429D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d'indicateurs de rel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ôles des personnes, collectivités, etc. associés à la ressourc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700 1#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aint-Germain, Michel, $d 1951-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e traduc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700 1#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aint-Germain, Michel, $d 1951-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4 t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annexe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F58CC47-1823-475C-8FA0-0A31C7901322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d'indicateurs de rel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elations entres œuvres, expression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700 1#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i</a:t>
            </a:r>
            <a:r>
              <a:rPr b="0" lang="fr-CA" sz="2400" spc="-1" strike="noStrike">
                <a:solidFill>
                  <a:srgbClr val="ff0000"/>
                </a:solidFill>
                <a:latin typeface="Arial"/>
              </a:rPr>
              <a:t> Suite de: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Carroll, Lewis,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1832-1898.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Alice's adventures in Wond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700 1#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i</a:t>
            </a:r>
            <a:r>
              <a:rPr b="0" lang="fr-CA" sz="2400" spc="-1" strike="noStrike">
                <a:solidFill>
                  <a:srgbClr val="ff0000"/>
                </a:solidFill>
                <a:latin typeface="Arial"/>
              </a:rPr>
              <a:t> Traduction de: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enny, Louise,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1958-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till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775 08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i</a:t>
            </a:r>
            <a:r>
              <a:rPr b="0" lang="fr-CA" sz="2400" spc="-1" strike="noStrike">
                <a:solidFill>
                  <a:srgbClr val="ff0000"/>
                </a:solidFill>
                <a:latin typeface="Arial"/>
              </a:rPr>
              <a:t> Réimpression de: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enny, Louise, 1958-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 plein cœur.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Montréal : Flammarion Québec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annex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2133E47-5348-45B9-9736-ED8B7D31FBDD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d'indicateurs de rel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Autorité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elations entre personnes, familles, collectiv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10 2#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I.M. Pei &amp;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500 1#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w</a:t>
            </a:r>
            <a:r>
              <a:rPr b="0" lang="fr-CA" sz="2400" spc="-1" strike="noStrike">
                <a:solidFill>
                  <a:srgbClr val="ff0000"/>
                </a:solidFill>
                <a:latin typeface="Arial"/>
              </a:rPr>
              <a:t> r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i</a:t>
            </a:r>
            <a:r>
              <a:rPr b="0" lang="fr-CA" sz="2400" spc="-1" strike="noStrike">
                <a:solidFill>
                  <a:srgbClr val="ff0000"/>
                </a:solidFill>
                <a:latin typeface="Arial"/>
              </a:rPr>
              <a:t> Fondateu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ei, I. M.,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1917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510 1#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w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ei Cobb Freed &amp;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10 2#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Anthony Coleman T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500 1#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w</a:t>
            </a:r>
            <a:r>
              <a:rPr b="0" lang="fr-CA" sz="2400" spc="-1" strike="noStrike">
                <a:solidFill>
                  <a:srgbClr val="ff0000"/>
                </a:solidFill>
                <a:latin typeface="Arial"/>
              </a:rPr>
              <a:t> r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i</a:t>
            </a:r>
            <a:r>
              <a:rPr b="0" lang="fr-CA" sz="2400" spc="-1" strike="noStrike">
                <a:solidFill>
                  <a:srgbClr val="ff0000"/>
                </a:solidFill>
                <a:latin typeface="Arial"/>
              </a:rPr>
              <a:t> Membre du groupe: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Coleman, Anthony,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1955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annexe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113BCC6-5A6C-485E-BF8A-C0FAC0946A97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res modifications récen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8/23 (Support matériel du docu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 de valeurs pour documents électro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en lig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upport tangible (cédéroms, disquet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 précis que s (électronique) encore per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7 (Pays de l'agence de produ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X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nstitution à laquelle s'applique la z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A8D9828-3668-4965-BCF5-0326E4F26E7A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41 Code de lang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041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uvelles sous-zones, modif #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24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0000ff"/>
                </a:solidFill>
                <a:latin typeface="Arial"/>
              </a:rPr>
              <a:t>http://www.marc21.ca/040010-1010-f.html#mrcb0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h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Code de langue de la langue origin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ff"/>
                </a:solidFill>
                <a:latin typeface="Arial"/>
              </a:rPr>
              <a:t>$k</a:t>
            </a:r>
            <a:r>
              <a:rPr b="0" lang="fr-CA" sz="2400" spc="-1" strike="noStrike">
                <a:solidFill>
                  <a:srgbClr val="0000ff"/>
                </a:solidFill>
                <a:latin typeface="Arial"/>
              </a:rPr>
              <a:t> Code de langue de traductions intermédi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xe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041 1#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fre </a:t>
            </a:r>
            <a:r>
              <a:rPr b="1" lang="fr-CA" sz="2400" spc="-1" strike="noStrike">
                <a:solidFill>
                  <a:srgbClr val="0000ff"/>
                </a:solidFill>
                <a:latin typeface="Arial"/>
              </a:rPr>
              <a:t>$k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g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h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 texte est une traduction française d'un texte en anglais publié à l'origine en suédo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ADE432D-988F-456B-910D-3A28CFE9BB09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41 Nouvelles sous-zones musiq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de de langue des livr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Code de langue du livre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orig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de de langue du matériel d'accompagnement autre que des livr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Code de langue du matériel d'accompagnemen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original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autre que des livr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F66D728-44EC-407A-97A5-12122A838AF5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41 Exemple de livret tradu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041 1#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g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h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us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g </a:t>
            </a:r>
            <a:r>
              <a:rPr b="1" lang="fr-CA" sz="2400" spc="-1" strike="noStrike">
                <a:solidFill>
                  <a:srgbClr val="0000ff"/>
                </a:solidFill>
                <a:latin typeface="Arial"/>
              </a:rPr>
              <a:t>$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us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g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g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g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fre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g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enregistrement sonore d'une œuvre chantée en anglais, traduit à partir de l'original en russe; traduction à l'anglais du livret original en russe; les notes de programme en anglais avec des traductions en français et en all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9EAB135-B83E-4C15-A667-AE0EC72468B5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41 Exemple matériel d’accompagnement musiq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041 1#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fre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h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ita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g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ita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g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g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g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fre </a:t>
            </a:r>
            <a:r>
              <a:rPr b="1" lang="fr-CA" sz="2400" spc="-1" strike="noStrike">
                <a:solidFill>
                  <a:srgbClr val="0000ff"/>
                </a:solidFill>
                <a:latin typeface="Arial"/>
              </a:rPr>
              <a:t>$m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ment sonore d'un opéra italien chanté en français, livret en anglais et italien, notes de programme en anglais et français, mais les notes de programme ont été écrites en allemand à l'ori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9DC74F7-F2C2-42E7-B035-FECDB3E3E36A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41 Pour les vidéos sous-titr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ff"/>
                </a:solidFill>
                <a:latin typeface="Arial"/>
              </a:rPr>
              <a:t>$j</a:t>
            </a:r>
            <a:r>
              <a:rPr b="0" lang="fr-CA" sz="2400" spc="-1" strike="noStrike">
                <a:solidFill>
                  <a:srgbClr val="0000ff"/>
                </a:solidFill>
                <a:latin typeface="Arial"/>
              </a:rPr>
              <a:t> Code de langue de sous-titres ou de libell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xe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041 1# 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g </a:t>
            </a:r>
            <a:r>
              <a:rPr b="1" lang="fr-CA" sz="2400" spc="-1" strike="noStrike">
                <a:solidFill>
                  <a:srgbClr val="0000ff"/>
                </a:solidFill>
                <a:latin typeface="Arial"/>
              </a:rPr>
              <a:t>$j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enregistrement vidéo en anglais comprenant des sous-titres en all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C9C5CB4-67BC-4891-95F2-50D13A67F53D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énéfices de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re uniforme, flexible et extensible pour la description de ressources de tous gen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vorise le jugement du catalogueu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çu pour un environnement numériqu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internationa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et de tirer profit des nouvelles technologies et des nouveaux catalog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2C5D34B-A279-424B-BBC3-5A55046C0F8A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88 Source de la descrip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s notes étaient précédemment dans des notes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 information administrative concernant la notice, comme la source de la description ou le dernier numéro consulté 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58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##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tre de la couver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58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##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cription d’après: no 3 (20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métrage de votre SIGB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2AC1B73-C3A6-4C35-A207-CC687720741D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 et modifications de zones MARC 2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6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324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C9CBE44-556B-4AB4-8196-62163E79C5B2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 et modifications de zones MARC 2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jouts de nouvelles zones, par exemple, 264, 336 à 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jouts de sous-zones, par exemple, la 700 $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jouts de codes valides, exemple, 040 $e 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jouts de valeurs dans des zones fix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685C3CB-9948-4E06-B139-C8F07FC616C6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difications des bordereaux de travai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Guide/18 = i (pas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040 $e rda par défa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6/337/338 selon le type d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lever les 245 $h IGG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264 ind.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=1 (Publication) par défaut pour des documents publi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65F80C9-80D1-431F-A068-F4EE6E21B09D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difications des index de recherch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6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548784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FEA0242-0F6E-4E99-BB2E-126C86613D9E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difications des index de recherch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er les 336/337/338 – choix poss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264 $a et 264 $b aux index lieu d’édition et éditeur (s’il y a lie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urs de 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41 ne pas indexer les sous-zones de langue origi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 du fichier d’autorités lo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315F9CA-1A48-403F-BF5B-BB7DE2C52793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serelles d’importation et d’expor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erelles d’importation : ajout des nouvelles zones et sous 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erelles d’exportation : ajout des nouvelles zones et sous 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assurer que des données ne sont pas perd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82A1F80-A367-4DCB-AD46-CEA0AB044F84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fichage des donné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ffichage à l’OPA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notices (afficher la 264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facet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ffichage FR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ronnement hybrid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D81D563-70E0-41AC-AEF4-2D6C8CD9F28E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i développe RDA 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JSC = Joint Steering Committee for the Development of RDA (6 membres de 4 pays)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stralie = Australian Committee on Cataloguing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nada = Comité canadien de catalogage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Grande Bretagne = British Library et CILIP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tats-Unis = Library of Congress et ALA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llemagne = Deutsche Nationalbibliothek (depuis 20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FAB07EB-1A30-40D7-A9B6-752E8CEA5127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Bases de donné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tices RCAA2 et notices RDA vont cohabiter dans la même base de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mme les notices RCAA1 avec 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suit le principe de continu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haque base de données collective définira des poli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exemple, OCLC WorldC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1 seule notice par ressource par lang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transformer RCAA2 en RDA, jamais l'inve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16C64AA-1982-4F5B-BEDF-990D4A6FA5C3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Notic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résultat d'ajouts d'éléments RDA à une notice bibliographique RCAA2 existan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escription n'est pas modifiée (transcription dans le 245, etc.) et reste selon les RCAA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/18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CAA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, avec des points d'accès formulés selon RD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, avec des éléments techniques RDA (exemple, 336/337/338 ajoutés en lo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26C6CD6-A0B6-4B17-8552-F0DDC628354C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Notices d'autorité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d'accès formulé selon les 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d'autorité bonifiée avec les nouvelles zones 046, 37x ou 38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 jamais, un point d'accès partiellement RDA et partiellement RCAA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73180FE-6443-4F2E-9DE9-2C404F9FFC04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Notices dérivés ou mises à jo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éliorer l'accès à la ressour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iger les erreurs de contenu, ne pas changer d'un style à un autre, d'un code à l'aut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de l'information, pas en enlever (sauf si erroné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r de RCAA2 à RDA seulement avec la ressource en main pour en faire une nouvelle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tions offer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F6675E4-2DCE-41F3-8A18-B0D2C5CBE75D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 offertes en collaboration avec l’A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219320" y="3178080"/>
          <a:ext cx="6324480" cy="1882800"/>
        </p:xfrm>
        <a:graphic>
          <a:graphicData uri="http://schemas.openxmlformats.org/drawingml/2006/table">
            <a:tbl>
              <a:tblPr/>
              <a:tblGrid>
                <a:gridCol w="1581120"/>
                <a:gridCol w="1581120"/>
                <a:gridCol w="1581120"/>
                <a:gridCol w="1581120"/>
              </a:tblGrid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réal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ébec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df53"/>
                    </a:solidFill>
                  </a:tcPr>
                </a:tc>
              </a:tr>
              <a:tr h="76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journé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ésentation de la norm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janvier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mar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janvier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</a:tr>
              <a:tr h="76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journée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sation de la norm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et 15 février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et 19 février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0DC659D-89A0-42A3-9FFE-347069FA28E8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des utilisateurs des règles de catalogage 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s pour faciliter le passage à la nouvelle norme 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catalogage plus spécialisé, par exemple, par support ne sera pas couv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us les formateurs sont de BAnQ et font partie de l’équipe de traduction de la norme 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50C5A52-C778-4A27-A653-E8E578CD2430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iens uti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Glossaire RDA en françai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fr-CA" sz="18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www.rdatoolkit.org/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Article: 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Paradis, Daniel (2011) </a:t>
            </a:r>
            <a:r>
              <a:rPr b="0" i="1" lang="fr-CA" sz="2000" spc="-1" strike="noStrike">
                <a:solidFill>
                  <a:srgbClr val="000000"/>
                </a:solidFill>
                <a:latin typeface="Arial"/>
              </a:rPr>
              <a:t>RDA ou le catalogage repensé pour l’ère numérique.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Documentation et bibliothèques, 57 (1). pp. 33-43. ISSN 0315-2340 </a:t>
            </a:r>
            <a:r>
              <a:rPr b="0" lang="fr-CA" sz="18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http://spectrum.library.concordia.ca/7638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Sur le site de la BnF</a:t>
            </a:r>
            <a:br>
              <a:rPr sz="2000"/>
            </a:b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bnf.fr/fr/professionnels/rda/s.rda_objectif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Présentation Congrès des milieux documentaires 2010</a:t>
            </a:r>
            <a:br>
              <a:rPr sz="2000"/>
            </a:b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spectrum.library.concordia.ca/7673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Ateliers pour l’ASTED, avril 2011</a:t>
            </a:r>
            <a:br>
              <a:rPr sz="2000"/>
            </a:b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rda-jsc.org/docs/Riva-Asted-RDA-29-avril-2011.pdf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Version française de la brochure sur FRBR écrite par Barbara Tillett.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loc.gov/catdir/cpso/FRBRFrench.pd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737E4C6-F66C-42D5-B3F4-B14F03961104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54120" y="25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iens uti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BnF FRBR et plus</a:t>
            </a:r>
            <a:br>
              <a:rPr sz="2000"/>
            </a:b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bnf.fr/fr/professionnels/modelisation_ontologies/a.modele_FRBR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Principes internationaux de catalogage, texte officiel en français (2009)</a:t>
            </a:r>
            <a:br>
              <a:rPr sz="2000"/>
            </a:b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ifla.org/files/assets/cataloguing/icp/icp_2009-fr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Principes internationaux de catalogage, présentation Congrès des milieux documentaires 2010</a:t>
            </a:r>
            <a:br>
              <a:rPr sz="2000"/>
            </a:b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rda-jsc.org/docs/2-CREPUQ-ICP2010-fre-Riva.pdf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Sites essentiels:</a:t>
            </a:r>
            <a:br>
              <a:rPr sz="2000"/>
            </a:b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JSC :</a:t>
            </a:r>
            <a:r>
              <a:rPr b="1" i="1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rda-jsc.org/</a:t>
            </a:r>
            <a:br>
              <a:rPr sz="1800"/>
            </a:b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RDA Toolkit :</a:t>
            </a:r>
            <a:r>
              <a:rPr b="1" i="1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rdatoolkit.org/</a:t>
            </a:r>
            <a:br>
              <a:rPr sz="1800"/>
            </a:b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MARC 21 changements RDA 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loc.gov/marc/RDAinMARC-10-12.html</a:t>
            </a:r>
            <a:br>
              <a:rPr sz="1800"/>
            </a:b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LC, ressources RDA :</a:t>
            </a:r>
            <a:r>
              <a:rPr b="1" i="1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loc.gov/aba/rd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1D6425F-059B-49F9-9ECA-6D7B04FA937A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54120" y="25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iens uti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Portail de BAnQ, Milieux documentaires</a:t>
            </a:r>
            <a:br>
              <a:rPr sz="2000"/>
            </a:br>
            <a:r>
              <a:rPr b="0" i="1" lang="fr-CA" sz="1800" spc="-1" strike="noStrike">
                <a:solidFill>
                  <a:srgbClr val="000000"/>
                </a:solidFill>
                <a:latin typeface="Arial"/>
              </a:rPr>
              <a:t>http://www.banq.qc.ca/services/services_professionnels/milieux_doc/ressources/traitement_classification/rd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SQTD, RDA</a:t>
            </a:r>
            <a:br>
              <a:rPr sz="2000"/>
            </a:br>
            <a:r>
              <a:rPr b="0" i="1" lang="fr-CA" sz="1800" spc="-1" strike="noStrike">
                <a:solidFill>
                  <a:srgbClr val="000000"/>
                </a:solidFill>
                <a:latin typeface="Arial"/>
              </a:rPr>
              <a:t>http://sqtd.banq.qc.ca/faq/faq-rda.d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Sites avec matériel de formation en anglais</a:t>
            </a:r>
            <a:br>
              <a:rPr sz="2000"/>
            </a:b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loc.gov/catworkshop/RDA training materials/LC RDA Training/LC RDA course tabl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loc.gov/catworkshop/RDA training materials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ala.org/alcts/confevents/upcoming/webinar/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2T01:42:34Z</dcterms:created>
  <dc:creator>Louise Lecavalier</dc:creator>
  <dc:description/>
  <dc:language>en-US</dc:language>
  <cp:lastModifiedBy>Pat Riva</cp:lastModifiedBy>
  <cp:lastPrinted>2012-10-21T23:42:40Z</cp:lastPrinted>
  <dcterms:modified xsi:type="dcterms:W3CDTF">2012-12-10T17:53:30Z</dcterms:modified>
  <cp:revision>343</cp:revision>
  <dc:subject/>
  <dc:title>Diapositive 1</dc:title>
</cp:coreProperties>
</file>