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9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7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6684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C5D731F-F823-46A1-A150-593BD7AE8F1F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6684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5DBF9670-439E-4204-95F5-C141CCEAC1C3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982EB2FF-A8AB-47EF-B19C-2E85D651B3DC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28B0BC8-F28D-4651-AE31-2F274F53B6CE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9122AD9-8D3F-4BE3-9CE2-806A01675E9F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C5CDC90C-B95E-4FD4-B0E0-1B27E87A0CED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0B3AEE21-6EE4-461C-848E-8C0C05BD19E5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390F2C66-416A-44CE-827C-BA84ECFD62C9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A94040AF-9216-4AFA-AEA9-AEF8D6121A8D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896BCB44-FBF0-4FEC-9B9E-480CC6AC2E02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73915AA-F544-471E-8C4E-5D266ECE6D99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6D37442B-CDAF-43D1-8C93-7095DE196044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6DF2540B-7DBE-4CA5-91E5-03F9DB9C00EE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6B8638F1-56B8-4AA7-AB82-971C35F0460A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38889B90-973A-4AB2-921C-1BE16892E9E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33FE34FC-29D0-4804-953F-ADDE22DEA3DB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35C174E8-F3E8-463B-808F-661044DF9A37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1C1B7317-E8DF-430D-8F48-E326DD579F09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062DB52-305E-40C6-A18C-0752D0A26A43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9D95F61-FC6C-495C-86BF-37648CE83666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0894E06-4A68-4331-A3FC-0BDDBFCB577A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A9E9AE2-9ED9-43EA-A6FC-B56F26E27BF3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93CBA864-D479-480E-956B-4CB9807BE6F1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18476C5E-9073-4FBD-87E5-7F341C7B387B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DC93E6D-4D34-4AC6-93B5-DA7078178D5B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8E6F7416-9BD6-4077-8735-9DAFD0961F65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2D96AD52-B2B9-4DD9-B9AD-6D953B426BF8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7A79323-A3DC-4E33-B460-B440335BBD75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3D7606E7-4931-4064-AF48-956F841718A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AAFEA0E7-049B-403D-A6D3-B8D1317D897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1685BF3-C863-4229-A098-4972A6D50B2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2FC6B2F8-A9F3-4D16-9407-F6DAA2578D96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1822301-BA0A-40E9-9B77-2A27464C748B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D04D688-B0B2-492A-ACE6-860E09E522E1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A723E569-BDEA-42C2-AF5B-D460D422A946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915B559-71AC-46F1-AA05-2ED2B65375AB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60B42FD3-8B71-45DB-8E59-AAF7C991F07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EEAE6E0-DD3B-4B0C-A864-27E416F43BF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9C7844D2-9DCD-4FEA-8471-361AB91EAD28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8323DB0-8D6E-4797-9172-161A6E24EB6B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1B9D670-81A7-42CB-9E44-393DBD404A9D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B23DF-C377-4267-80C1-5D906C4C39C4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E09A9C5-FEFB-4E64-8B23-0FCEFB53B3A6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8417C3E0-2446-4DC2-A4E6-FDAFB0B8621B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152DE529-54C3-4F57-9CDC-15C9ACFD5DC7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21B6653B-7B4B-4820-B185-11C1DC2AF8D9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2E4D928-7E06-43CA-B36B-3E7B12E16D2B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FBE858E5-D147-49BA-9342-E949E0F17CE6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56753DE7-44A9-4861-80CE-555A296288B7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C49FB-37D7-47A4-9400-13887EB85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7ADD4-C8F0-4FE9-B689-C47DAAB41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BF046-5D95-4F51-8E38-540C69ACA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B403-BFED-4993-9EAA-E56F8DD2D8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63CAB-799F-42FE-A3A0-867AC84C51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14E6A-5BD2-4FB1-9ECC-B97A0C18D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AE21B-2F4F-4F54-81CB-462EDD272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46566-AFE7-4D33-BF06-8E6C61448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4120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EC2E9-D0FD-4EC1-836E-520CE06E7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E942-A913-42AD-B717-EBD0606EF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02F94-166D-4299-BA82-E7993D8CC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EFCE3-8945-43BA-AD92-E46AED2FD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7" descr="bandeauux ppt6.jpg"/>
          <p:cNvPicPr/>
          <p:nvPr/>
        </p:nvPicPr>
        <p:blipFill>
          <a:blip r:embed="rId2"/>
          <a:stretch/>
        </p:blipFill>
        <p:spPr>
          <a:xfrm>
            <a:off x="0" y="2412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60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11593C4-D1C3-402D-BAAB-869E04B580F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rdatoolkit.org/translation/french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rdatoolkit.org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hyperlink" Target="http://www.rdatoolkit.org/translation" TargetMode="External"/><Relationship Id="rId2" Type="http://schemas.openxmlformats.org/officeDocument/2006/relationships/hyperlink" Target="http://spectrum.library.concordia.ca/7638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7" descr="Image BAnQ.jpg"/>
          <p:cNvPicPr/>
          <p:nvPr/>
        </p:nvPicPr>
        <p:blipFill>
          <a:blip r:embed="rId1"/>
          <a:srcRect l="0" t="6063" r="0" b="0"/>
          <a:stretch/>
        </p:blipFill>
        <p:spPr>
          <a:xfrm>
            <a:off x="0" y="0"/>
            <a:ext cx="9150480" cy="4727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9"/>
          <p:cNvSpPr/>
          <p:nvPr/>
        </p:nvSpPr>
        <p:spPr>
          <a:xfrm>
            <a:off x="657360" y="5464080"/>
            <a:ext cx="602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ZoneTexte 33"/>
          <p:cNvSpPr/>
          <p:nvPr/>
        </p:nvSpPr>
        <p:spPr>
          <a:xfrm>
            <a:off x="685800" y="4800600"/>
            <a:ext cx="848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Étapes préparatoires avant l’implantation RD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677880" y="5799240"/>
            <a:ext cx="602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Danielle Poirier et Pat Riv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Direction du traitement documentaire des collections patrimonial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entre de conserv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7" descr="BANi2c"/>
          <p:cNvPicPr/>
          <p:nvPr/>
        </p:nvPicPr>
        <p:blipFill>
          <a:blip r:embed="rId2"/>
          <a:stretch/>
        </p:blipFill>
        <p:spPr>
          <a:xfrm>
            <a:off x="7086600" y="5883120"/>
            <a:ext cx="1925640" cy="822600"/>
          </a:xfrm>
          <a:prstGeom prst="rect">
            <a:avLst/>
          </a:prstGeom>
          <a:ln w="0">
            <a:noFill/>
          </a:ln>
        </p:spPr>
      </p:pic>
      <p:pic>
        <p:nvPicPr>
          <p:cNvPr id="53" name="Image 8" descr="bandeauux ppt.jpg"/>
          <p:cNvPicPr/>
          <p:nvPr/>
        </p:nvPicPr>
        <p:blipFill>
          <a:blip r:embed="rId3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7841935-131D-492A-8794-C44F1D42B0D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es utilis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repose sur l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es internationales de catalog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FLA 2009) qui actualisent les Principes de Paris (de 196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s'aligne sur les modèles conceptuels de l'IFLA FRBR et F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7C7AF79-FA09-4A0C-B0EC-68B31F92E3F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4120" y="20304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Données liées à la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ff0000"/>
                </a:solidFill>
                <a:latin typeface="Arial"/>
              </a:rPr>
              <a:t>http://data.bnf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OCLC Work Records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www.oclc.org/research/activities/workrec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Classify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classify.oclc.org/classify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063741F-9996-4A18-9C61-25DE080DBDD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4273560"/>
            <a:ext cx="6400800" cy="13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rci de votre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287A46D-483E-4E27-B2B1-C08EE85DF2D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uvelle terminolog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uni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uniforme colle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voi voir au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17560" y="1600200"/>
            <a:ext cx="446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pour l'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llectif conven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te de point d'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pour une ressource en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953F544-F1DA-42FC-B0CF-74F6FDF849A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DA et RCAA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érences importan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e sur les principes et tâches des utilisateu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basée sur les entités et rel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ce qu'on voi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 pas abréger si pas abrégé sur la 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GD remplacé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es listes de termes contrô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FE31BD1-604A-4BDC-9C7D-1D9A39912D1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DA et RCAA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érences importantes (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e sur les relations entre ressources et entité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é de plus de points d’accès (sans règle de tro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de l'œuvre représentée par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s de données indépendants, pas organisés en zones d'informations ISB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e de contenu et non d'affichage, l'affichage ISBD reléguée à une ann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6567EE9-3BA3-4F3B-9127-120DFEF6BD7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e évol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la plupart des instructions ne sont pas vraiment différen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ment exprimées dans un nouveau vocabulaire et réordonné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ucoup de connaissances transfér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nouvelle façon de voir l'information 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f aperçu de FRBR et FR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44517B8-77BF-4527-BEA0-41B2A66FBED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de FRBR/FRAD pour comprendre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concepts et la terminologie FRBR et FRAD sont intégrés à la structure de RDA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texte de RDA est organisé sel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es attributs des 11 entités bibliograp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es relations par groupes d'entités</a:t>
            </a:r>
            <a:br>
              <a:rPr sz="2000"/>
            </a:b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tâches des utilisateurs sont omniprésentes dans le text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vorise l'application du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7A6F119-6C3E-4F4C-91DC-5B8BE311E2B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dèles de l'IFL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FRB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Functional Requirements for Bibliographic Records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 français: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pécifications fonctionnelles des notices bibliographiqu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, publié par la Bibliothèque nationale de France en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FRA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Functional Requirements for Authority Data (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 français: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Fonctionnalités requises des données d’autorit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, traduit par la BnF en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5EF8274-04AB-4935-8AA7-2DACEA9313D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éthodologie FRBR et FR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odèl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tité-re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E-R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éfinition d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tité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catégorie d'objet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ste de leur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éléments de donnée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dentification d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relat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liens) entre les entités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rrélation avec les quatre types d’opérations effectuées par les utilisateurs (les tâch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4A2A430-E1E0-4B4F-BCE6-63D412AC53F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âches qu’accomplissent les utilisateurs (FRB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rouv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ressources qui correspondent aux critères de recherch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Ident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une ressource qui correspond à celle recherchée par l’utilisateu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Sélectionn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hoisi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une ressource qui soit en adéquation avec ses besoins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Obteni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avoi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accès à la ressource d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9DD481E-1E52-490B-B14E-7E0B09E543C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age à RDA : étapes préparatoi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 des principales étapes nécessaires au passage à la norme RDA, soit, les étapes de préparation du personnel au paramétrage de votre SIG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3DEC82D-A119-4E49-AD8B-070F22B2581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âches qu’accomplissent les utilisateurs (FRA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rouv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entités qui correspondent aux critères de reche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Ident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une entité (confirmer qu'elle correspond à celle recherch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ontextualis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lar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Situer une personne, une collectivité, une œuvre, etc. dans son contex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Just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omprend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quoi un nom ou un titre en particulier, ou une forme du nom ou du titre, a été choisi comme le nom ou titre préfé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68E8F30-26D2-41D8-B35B-C8444159EC0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Groupes d'entités FRB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oupe 1 (œuvre, expression, manifestation, item) : productions artistiques ou intellect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oupe 2 (personne, famille, collectivité) : responsables des entités du grou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oupe 3 (concept, objet, événement, lieux) : sujets des œuvres (avec les groupes 1 et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06279E9-8DA8-44EC-997C-68F59B7697B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tités du Groupe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ont le cœur de la notice 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entités abstraites reflètent l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entités concrètes reflètent la présentation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6138DE7-7D56-4001-949D-BE7ABC4EE57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xemplai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solé d’une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bjet concret, généralement matériel, présent dans les collections des bibliothè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eut comprendre plusieurs parties (volumes d'un ouvr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identifiant (cote, code à barres), prov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194478B-CBB6-4E07-B279-9F70E812F04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matérialis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e l’expression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'ensemble des exemplaires ayant les mêmes caractéristiques, aussi bien la présentation matérielle que l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rait être une édition commerciale, ou un objet unique comme un manuscrit d’au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beaucoup! Titre propre, mentions de responsabilité, d'édition, date de publication, nombre de pages, ISBN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920AD12-ADDD-4BED-A081-DD234E0B21C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réalis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ntellectuelle ou artistique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forme intellectuelle ou artistique spécifique que revêt une œuvre lorsqu’elle est réa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mots spécifiques qui forment un texte, les notes spécifiques d'une œuvre musical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langue, forme d'expression (textuel, sonore, im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C534DC1-4783-42DC-AF2D-928FF5A6E36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ré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ntellectuelle ou artistique détermi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bstraction du contenu commun de se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ide dans une identité de contenu au sein des diverse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 correspond à aucun objet matériel iso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forme (poésie, roman), date et contexte de création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74C9F7C-A395-41F8-9473-142358DE0CC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Qu'est-ce qu'un “livre”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'ai perdu mon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Il faut commander ce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'aimerais lire ce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n franç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Ce film s'inspire de mon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préfé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44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32549DE-9B1A-4118-84A6-E8BABD2F32A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lations principales du Groupe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E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trouve sa réalisation d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e concrétise d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st représenté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D98DD6C-E5AE-4C60-A846-89F44D08DBF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lations principales du Groupe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ERS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M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LLE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responsable(s) p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tités du group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œuv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A497F10-1AF6-402C-A1F5-FD9074596B1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de la 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à R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f aperçu de FRBR et FR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française de R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rier d’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3CE9153-76A0-4AA1-84EC-80B992F0911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tités du Groupe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nt la responsabi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ntellectuel ou artistique d'une œuvre ou d'une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 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roduc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matérielle et de la distribution d'une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 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ossess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'un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925F067-4E6B-40DC-9FCE-B0ED44D32E9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lations principales du Groupe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VÉ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+ entités des groupes 1 e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ont les sujet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'entité du group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C92CDBF-7059-4AF3-B9D2-C13516773DA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elations dans le catalog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réent un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end possible les tâches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Trouver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ermettent la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9FE1DE3-39FE-458B-9995-FF77564E21B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elations bibliograph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tre les entités du Grou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Œuvres (p. ex. suppléments, adaptations, ensemble/par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pressions (p. ex. révisions, tradu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nifestations (p. ex. reproductions, formats alternati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8E0E042-633E-4A77-9D8E-EEB34920504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dèle FR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TITÉ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ont connues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MS et / ou IDENTIF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avec lesquels sont formés 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S d'ACCÈS CONTRÔ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230670D-2F2B-4D66-B12C-02B3BE2CA72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tités FRAD dan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’occupe d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onné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'autorité, pas des no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éparation entre le Nom (ou Identifiant) et le Point d'accès contrôlé basé sur le 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formes préférées et les variantes de forme du nom sont des Points d'accès contrô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uction française de RD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ED652F7-D7A0-45F7-B6EE-0A20BBD9E6B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raduction de la norme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quoi une traduction en franç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ente avec l’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en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919822D-DA98-4FF8-A350-2AF9F0243FA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éthodologi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268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268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268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lectur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3112920" y="2392200"/>
            <a:ext cx="5480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D028776-25F9-4F5C-9AFB-1B2B848425E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État d’avanc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DA en franç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ssaire : dès mainte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pie imprimée RDA : janvier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ligne, RDA Toolkit : février ou avril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5F32397-E095-425B-AF4B-84CB1AB63FB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de la 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paration local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émonstration du RDA Toolkit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ngements au MARC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7944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ices bibliograp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7944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ices autor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19B6628-4A6E-494B-905E-FEAF20A3165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Gloss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6440" y="1662120"/>
            <a:ext cx="8207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rdatoolkit.org/translation/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192320" y="2198520"/>
            <a:ext cx="618336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 d’implant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5E87462-5EDF-4D8B-92FD-AC9F5E05BB3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nisseurs de not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Q : début à la fin de janvie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Québécois de Traitement Documentaire : 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050CEA6-EAB8-49C5-8E2E-792F7B531BC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s à jour de la n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s de notices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éparation loc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487D3C0-92F8-4533-931D-2D2073C75ED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se prépar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 impliqu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able du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des services techn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tement documen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à la réf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5FB95C4-91A1-4A45-9F19-D99661982C3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se prépar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préparation, principales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arisation avec RDA, documentation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étrage du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de la norme, choix des options R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e à jour des procédure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E2AF39A-3840-43F3-B1D5-ED7BE8DA584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miliarisation avec la nouvelle nor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bonnement au RDA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ctur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sionnement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docu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ff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3581280" y="2262240"/>
            <a:ext cx="43434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B281F04-0F29-428D-9792-5E5063AA1A9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orm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français, en 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ligne ou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ion en pers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udget alloué aux 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eurs ou tout l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C7A686C-014C-4278-AF8C-F817C425FA8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métrage du SIG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ments au format MARC 2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 et modifications de zones MAR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3035160" y="2901960"/>
            <a:ext cx="42260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F892A96-839B-48C0-8C2D-17577527C0A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de la 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étrage de votre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es MARC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dereaux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de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relles d’importation et d’exportation de no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ichage des don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s offe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88E9120-5E46-47C8-8B2F-F8A23F22871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pplication de la nor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dentification des changements possibles de vos procédures d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écisions sur les choix d’options et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litiques locales act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ypes d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iveau de catalog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0A83B0C-85AA-47A6-8366-B6DC0BF2DF7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cuments inter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e mémoire pour le vocabulaire RDA et FR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e mémoire pour les nouvelles zones MARC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aux de correspondance RDA et zones MARC 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RDA Toolki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2D1AF6C-709E-4D18-81E3-208FBC12CA8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DA imprimé ou en lig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DA imprimé ou en l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bre de co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bre d’acc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DA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ès : reconnaissance IP ou personnali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sai avant l’abon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7BF9A89-874F-4E0D-B54B-E7CD31FB0FF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émonstration du RDA Toolk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rdatoolkit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1038240" y="2460600"/>
            <a:ext cx="70293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ment au MARC 21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C3A58EE-80EE-4FA2-B13F-C93DD71A10A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DA en MARC 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cénarios d'implantation de RDA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'immédiat, RDA en MARC 21 avec des notices bibliographiques et d'autorités distinctes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ffichage avec ponctuation ISBD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ventuellement, un nouveau modèle d'encodage de no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Bibliographic Framework Transition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http://www.loc.gov/marc/transiti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C01BABA-CC48-46BE-BF89-44B06255229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D186E39-9F8B-472A-BC5D-6C968834FFB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/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odifications 9 (2008) à 15 (septembre 2012) comprennent des changements liés à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ssues du MARC/RDA Working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umé : http://www.loc.gov/marc/RDAinMARC-10-1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21 en français : http://www.marc21.ca/040010-235-f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30D1D20-7374-4F52-B637-D00F261942E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nnaître une notice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Guide/18 =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ISBD) si la ponctuation ISBD est appliquée entre les sous-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ec 040 $e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rda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t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008/10 = z (autres rè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ec 040 $e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rda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A712ED3-FFC1-48F7-822D-F629CFB7598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dage qui dispara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[IGGD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/ 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tion de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IGGD (ou GMD) des RCAA2 n'existe pas en RDA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placé par 3 nouvelles zones (336, 337, 338) dans les noti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à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4D43133-D214-435C-B487-F0A23EF34B3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6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e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06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uv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e de RDA 6.9.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oc.gov/standards/valuelist/rdaconten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7E345A4-80B8-4E1A-9E28-E8E35423712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7 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igatoire (LC, BAC, BAnQ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7/00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uv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e de RDA 3.2.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oc.gov/standards/valuelist/rdamedi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042AF75-E781-45FC-9462-F7FACED12AD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5ACB0C5-A49B-462B-8CD3-5B00881C4F8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8 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en R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7/01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quelques nouveaux codes spécialisés (types de microfilms, supports informatiques, documents iconographiques, film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uv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rme de RDA 3.3.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oc.gov/standards/valuelist/rdacarrier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510FC59-EBCC-4CD9-8FCF-BA7DF497C1B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text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en bra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texte tacti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A6BC7EC-59A9-43D4-8427-26346195835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057CED3-A8CB-405C-929B-A3A391E961D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 électronique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informatique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ressource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arr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 électronique sur cédé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informatique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disque informatiq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62DB7CB-80A9-4A17-8358-AC4B2F816F7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ation, distribu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 utiliser en RDA! Remplacé pa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= Production (document non publ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= Diffusion ou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= Fabrication ou manufacture (im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9BA4667-E009-43E2-B3A2-6CDCE111143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existe avec des nouvelles zones pour des types de ressources spécialis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son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de projection d'images en mouv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vidé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de fichier numéri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upport matériel) nouvelles sous-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62893D7-2D1E-49D6-94B1-28B8529769A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grand degré de préci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28 (Numéro d'éditeur)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q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Qualifica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028 02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438 954-2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Philips Classics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q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disc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02 (Note de thè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502 ##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b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Ph.D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c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Université de Montréal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d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33 et 518 (Date et lieu d'un évén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490 et 8XX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x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ff"/>
                </a:solidFill>
                <a:latin typeface="Arial"/>
              </a:rPr>
              <a:t>répét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, ISSN de collection et sous-collection dans la même zon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 de diverses valeurs dans les 007 et 008 pour des supports spéciali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7BB3569-BCF6-478C-BADC-434BDAE0F9C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uvelles zones (Autorités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nom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614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6 (Dates codé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68 (Autres attributs associé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0 (Lieu associ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1 (Adres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2 (Champ d'activ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3 (Groupe associ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74 (Profession/Occup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75 (Sexe de la person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76 (Renseignements sur la fam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78 (Forme développée du n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799320" y="1600200"/>
            <a:ext cx="208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erson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mi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llectiv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CD35C1E-FCF5-4671-918D-C3A6B5F4B8C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uvelles zones (Autorités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ttributs des œuvres et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7 (Langue associ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0 (Genre de l'œuv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1 (Autres caractéristiques d'une œuvre ou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2 (Médium d'exéc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3 (Numéro d'identification de l'œuvre music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4 (Tonalité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* mu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28019BB-B0F3-480D-97CF-CBDE587201B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rquoi changer les RCAA2 o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rquoi une nouvelle norme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s des RCAA2 (en origine pour un catalogue sur fi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ègle de tr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éviations, lat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veaux supports à intégr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e vue anglo-améric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5FB1075-FAEA-4D0D-9747-E8B07682984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eurs d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ôles av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1XX, 7XX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œuvres, etc. avec (nouveau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es zones 7XX ou 76X-78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personnes, familles, collectivités avec (nouveau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es zones 5XX de la notice d'autorité (précédé p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9EC6B2C-E457-497F-9613-3A7AB9F15AB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d'indicateurs d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ôles des personnes, collectivités, etc. associés à la ressour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int-Germain, Michel, $d 1951-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e traduc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int-Germain, Michel, $d 1951-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4 t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annex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7E9B771-80F0-4FA4-B368-A4D3241C351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d'indicateurs d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elations entres œuvres, express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Suite d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Carroll, Lewis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832-1898.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Alice's adventures in Won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Traduction d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nny, Louise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958-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til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75 08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Réimpression d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nny, Louise, 1958-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plein cœur.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Montréal : Flammarion Québec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annex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7B4E93D-4689-4C00-A978-AF94B926D86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d'indicateurs de rel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utorité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elations entre personnes, familles, colle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0 2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.M. Pei &amp;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w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r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Fondate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i, I. M.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917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10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w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i Cobb Freed &amp;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0 2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Anthony Coleman T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w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r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Membre du group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Coleman, Anthony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955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annexe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48E4B71-6EE9-4148-915D-D02EB0EA271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modifications récen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8/23 (Support matériel du docu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 de valeurs pour documents électro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upport tangible (cédéroms, disquet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précis que s (électronique) encore p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7 (Pays de l'agence de prod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X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stitution à laquelle s'applique la 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2B8CB4B-221F-44B0-BE8D-1CF0C7919F6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Code de lang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041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uvelles sous-zones, modif #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ff"/>
                </a:solidFill>
                <a:latin typeface="Arial"/>
              </a:rPr>
              <a:t>http://www.marc21.ca/040010-1010-f.html#mrcb0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Code de langue de la langue origin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k</a:t>
            </a:r>
            <a:r>
              <a:rPr b="0" lang="fr-CA" sz="2400" spc="-1" strike="noStrike">
                <a:solidFill>
                  <a:srgbClr val="0000ff"/>
                </a:solidFill>
                <a:latin typeface="Arial"/>
              </a:rPr>
              <a:t> Code de langue de traductions intermédi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1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k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texte est une traduction française d'un texte en anglais publié à l'origine en suéd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D4E8B9A-C8D5-4BCF-B04F-18CB6E2BD9E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Nouvelles sous-zones mus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 de langue des liv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ode de langue du livre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 de langue du matériel d'accompagnement autre que des liv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ode de langue du matériel d'accompagnemen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rigina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utre que des liv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BBF5905-F4BB-4F7F-BFED-66053860394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Exemple de livret tradu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1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us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us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enregistrement sonore d'une œuvre chantée en anglais, traduit à partir de l'original en russe; traduction à l'anglais du livret original en russe; les notes de programme en anglais avec des traductions en français et en all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8837D08-BBDF-423F-8F98-E36C60E1860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Exemple matériel d’accompagnement mus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1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t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t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m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ment sonore d'un opéra italien chanté en français, livret en anglais et italien, notes de programme en anglais et français, mais les notes de programme ont été écrites en allemand à l'ori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8599BBB-0F46-4D2E-BEE4-E1ACDBDDD83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Pour les vidéos sous-ti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j</a:t>
            </a:r>
            <a:r>
              <a:rPr b="0" lang="fr-CA" sz="2400" spc="-1" strike="noStrike">
                <a:solidFill>
                  <a:srgbClr val="0000ff"/>
                </a:solidFill>
                <a:latin typeface="Arial"/>
              </a:rPr>
              <a:t> Code de langue de sous-titres ou de libell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041 1# 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j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enregistrement vidéo en anglais comprenant des sous-titres en all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FB0A50D-9AEF-4F5E-AF29-AE821E055A0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énéfices de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re uniforme, flexible et extensible pour la description de ressources de tous gen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e jugement du catalogue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çu pour un environnement numériq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internationa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et de tirer profit des nouvelles technologies et des nouveaux catalo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E06D517-FA35-449B-A84A-5A4DD13FC36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88 Source de la descrip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s notes étaient précédemment dans des notes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information administrative concernant la notice, comme la source de la description ou le dernier numéro consulté 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8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#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de la couver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8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#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ption d’après: no 3 (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étrage de votre SIGB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7857431-AC87-47DD-A092-3A10DA0C6EF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et modifications de zones MARC 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324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3C586B1-810E-4BAA-BA70-844984207DE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et modifications de zones MARC 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nouvelles zones, par exemple, 264, 336 à 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sous-zones, par exemple, la 700 $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codes valides, exemple, 040 $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valeurs dans des zones fix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2296EEC-BCA2-4669-A0D5-45D123A0635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tions des bordereaux de travai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uide/18 = i (pa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$e rda par déf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/337/338 selon le type d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lever les 245 $h IG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64 ind.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=1 (Publication) par défaut pour des documents publ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4890FCE-9956-4DB0-8315-7825FD6C571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tions des index de recherc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54878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EB4672C-B666-4FD2-991E-B05A940BE35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tions des index de recherc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er les 336/337/338 – choix pos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264 $a et 264 $b aux index lieu d’édition et éditeur (s’il y a lie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urs de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1 ne pas indexer les sous-zones de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du fichier d’autorité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0846D5E-AA47-4A6E-80AB-471E0C6F7D0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erelles d’importation et d’expor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relles d’importation : ajout des nouvelles zones et sous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relles d’exportation : ajout des nouvelles zones et sous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assurer que des données ne sont pas per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D19CE22-A5F1-4711-AC92-402203CCDA8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ichage des 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ffichage à l’OP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ices (afficher la 26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facet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ffichage FR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31EDDE5-800C-4F99-B32F-2D69D9FA645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 développe RDA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JSC = Joint Steering Committee for the Development of RDA (6 membres de 4 pay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stralie = Australian Committee on Cataloguing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nada = Comité canadien de catalogag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ande Bretagne = British Library et CILIP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tats-Unis = Library of Congress et ALA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llemagne = Deutsche Nationalbibliothek (depuis 20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2E7E113-D0AB-4F0E-ABDE-A8FBA833ACC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2CC6233-8BCD-4D7E-B7C1-5A4FC4537AD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otic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99DDCFF-56DD-45DA-BA16-E2A4EC3DE79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007E999-D59B-4673-AC2C-6EC64184B06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Notices dérivé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tions offer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427DD82-9AE6-4F03-880E-C95F6AD1BF6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fertes en collaboration avec l’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219320" y="3178080"/>
          <a:ext cx="6324480" cy="1882800"/>
        </p:xfrm>
        <a:graphic>
          <a:graphicData uri="http://schemas.openxmlformats.org/drawingml/2006/table">
            <a:tbl>
              <a:tblPr/>
              <a:tblGrid>
                <a:gridCol w="1581120"/>
                <a:gridCol w="1581120"/>
                <a:gridCol w="1581120"/>
                <a:gridCol w="1581120"/>
              </a:tblGrid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réal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ébec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ourné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entation de la norm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janv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ar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janv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journée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de la norm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et 15 févr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et 19 févr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7C39CDF-7235-4EA7-A9F3-C6D210A3A6D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des utilisateurs des règles de catalogage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s pour faciliter le passage à la nouvelle norm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atalogage plus spécialisé, par exemple, par support ne sera pas cou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s les formateurs sont de BAnQ et font partie de l’équipe de traduction de la norm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ACBFE73-819C-4F03-92BE-2B0582FBAB9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lossaire RDA en françai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1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rdatoolkit.org/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Article: 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radis, Daniel (2011)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RDA ou le catalogage repensé pour l’ère numérique.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Documentation et bibliothèques, 57 (1). pp. 33-43. ISSN 0315-2340 </a:t>
            </a:r>
            <a:r>
              <a:rPr b="0" lang="fr-CA" sz="1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spectrum.library.concordia.ca/7638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ur le site de la BnF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bnf.fr/fr/professionnels/rda/s.rda_objectif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résentation Congrès des milieux documentaires 2010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spectrum.library.concordia.ca/7673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Ateliers pour l’ASTED, avril 2011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-jsc.org/docs/Riva-Asted-RDA-29-avril-2011.pdf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Version française de la brochure sur FRBR écrite par Barbara Tillett.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catdir/cpso/FRBRFrench.pd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7037A7B-2F0E-43DF-AFCC-DD9CD45D328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4120" y="2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BnF FRBR et plus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bnf.fr/fr/professionnels/modelisation_ontologies/a.modele_FRBR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rincipes internationaux de catalogage, texte officiel en français (2009)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ifla.org/files/assets/cataloguing/icp/icp_2009-fr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rincipes internationaux de catalogage, présentation Congrès des milieux documentaires 2010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-jsc.org/docs/2-CREPUQ-ICP2010-fre-Riva.pdf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ites essentiels:</a:t>
            </a:r>
            <a:br>
              <a:rPr sz="20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JSC :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-jsc.org/</a:t>
            </a:r>
            <a:br>
              <a:rPr sz="18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RDA Toolkit :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toolkit.org/</a:t>
            </a:r>
            <a:br>
              <a:rPr sz="18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MARC 21 changements RDA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marc/RDAinMARC-10-12.html</a:t>
            </a:r>
            <a:br>
              <a:rPr sz="18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LC, ressources RDA :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aba/rd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FD5AE32-05C6-45F6-9B49-26027D40498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4120" y="2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ortail de BAnQ, Milieux documentaires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www.banq.qc.ca/services/services_professionnels/milieux_doc/ressources/traitement_classification/rd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QTD, RDA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sqtd.banq.qc.ca/faq/faq-rda.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ites avec matériel de formation en anglais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catworkshop/RDA training materials/LC RDA Training/LC RDA course tab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catworkshop/RDA training materials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ala.org/alcts/confevents/upcoming/webinar/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01:42:34Z</dcterms:created>
  <dc:creator>Louise Lecavalier</dc:creator>
  <dc:description/>
  <dc:language>en-US</dc:language>
  <cp:lastModifiedBy>Pat Riva</cp:lastModifiedBy>
  <cp:lastPrinted>2012-10-21T23:42:40Z</cp:lastPrinted>
  <dcterms:modified xsi:type="dcterms:W3CDTF">2012-12-10T17:53:30Z</dcterms:modified>
  <cp:revision>343</cp:revision>
  <dc:subject/>
  <dc:title>Diapositive 1</dc:title>
</cp:coreProperties>
</file>