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CEE2B4-4CE7-484E-98FD-F57394026FC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648680-9F5D-4AC5-90BE-3113D86125D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DE2-D3D6-405C-A3F3-56A5A6F8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94C-C4ED-4F18-8178-DC2B9796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E07-09A0-4B7A-BC68-54602CF1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231-A7D6-4D98-ABF5-9D113E69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946-7F29-4A1B-8134-491D7C05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971-9A67-4BCB-B45C-24A089A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BA9-7399-4DC5-A8A3-7E287615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518-321C-46CF-B9A8-4C9F1623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61C-BB8C-488A-8475-E0CC3EA5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EDA-D535-41BD-BF0B-F0E34811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0D1-D8DC-4518-B46C-5FD353B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E16-5EC7-4D7B-B60E-CB421333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2159-5796-4980-8803-9E40E8AAF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 1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5B33-3198-4861-9BF9-F6B90AC5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(1031)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(1033)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1FF4-B1A8-4E74-9847-8AE400A7D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3F64-DF8A-4919-9E09-6F8737F2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en-US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5-24T22:13:23Z</dcterms:modified>
  <cp:revision>103</cp:revision>
  <dc:subject/>
  <dc:title>Identification des manifestations et des items</dc:title>
</cp:coreProperties>
</file>