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978811-3A9D-4BD7-B949-91C791D6143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49D827-A90D-4FFA-AF4D-4F16E6D880B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75A-F44C-4099-80F6-40CFECAC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4C2-891A-4547-B9A9-CB6B238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0DF-037D-42A4-BC66-F4F4F618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D52-E4C4-4581-8086-7203EE4D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20A-DBBD-440B-98B3-FA091B3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B0F-5F52-4293-91F7-327C2F46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063-1A40-43BB-8D34-A709652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09A-8CDB-42C1-AEC1-8CE7A88C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1FA-89AD-4104-990B-8EFF76F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629-7094-483D-98AE-19FCF42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318-645F-49C2-B146-A343901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8E5-EAE7-4D90-8F8A-5AACE3C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83E-A887-48B6-9139-E3E0B7CD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 1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4FE-0C15-4368-86E0-E9909941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(1031)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(1033)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BAE-E7FA-4E27-8E1F-CCE02364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1F1-2255-4A1A-AEE0-F0787FD0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en-US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5-24T22:13:23Z</dcterms:modified>
  <cp:revision>103</cp:revision>
  <dc:subject/>
  <dc:title>Identification des manifestations et des items</dc:title>
</cp:coreProperties>
</file>