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D688DA-9FB4-442E-8051-11F298592EB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DF2B0A-EDF8-4410-B3FC-F5DE37A9ECD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38F-56E5-416F-8D78-03DC1C6E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440-BEA0-4B8B-AA08-F3995502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32D-B7AA-49C6-BF89-0BE17124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46F-2334-45CF-AF54-1E2FF9C8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265-76F2-43CD-82BA-404F0585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56E-1D3F-4212-B4D5-BE5EBF39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413-5A3A-4252-9653-CF4C315D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749-AB30-418B-9959-360DE288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FA3-13E9-462F-AE82-F5F8920D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6DC-85A3-4ED1-94D1-6E4B8C35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EF8-1C3F-460D-A5E7-4EC77449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8E3-9151-4793-8103-8854ED30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2703-D573-4502-86D8-1E7039B38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 1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75DC-7C5B-416E-BFF2-B75C34E0C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(1031)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(1033)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44D9-508B-4F2A-B565-8419959DF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00C3-AA83-4725-A292-ADE12AD7C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en-US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Laquelle des zones 300 suivantes décri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000" y="142200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2600" spc="-1" strike="noStrike">
                <a:solidFill>
                  <a:srgbClr val="3f3f3f"/>
                </a:solidFill>
                <a:latin typeface="Arial"/>
              </a:rPr>
              <a:t>251 pages numérotées de texte, 18 pages de planches non numérotés. Le volume mesure 25,2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., [18] p. de pl. : $b ill.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 251 pages, 18 pages de planches non numérotées : $b illustrations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ages, [18] pages ; $c 25,2 centimè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5-24T22:13:23Z</dcterms:modified>
  <cp:revision>103</cp:revision>
  <dc:subject/>
  <dc:title>Identification des manifestations et des items</dc:title>
</cp:coreProperties>
</file>