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DC9B64-E624-43C4-8D28-2A04CCA615A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2739BE-0270-4F1E-A5D4-92ABC75785B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9DC-3B3C-4C36-A451-DE5CFE60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F92-02BA-4133-AB85-31CF052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2F1-5BDE-4CF5-ADCA-77F46ED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E06-FBEB-423E-BA02-7B826AFF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BC2-1731-4403-BA38-941F4760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A08-97B5-470E-BE4C-A1708EB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48D-2ED0-4BC1-9EE2-34F4B06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1D7-456E-4EE5-84F9-4D1053C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F49-863B-4D6D-AB1F-4EBDFD86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A21-5A0B-48F7-AFA2-2C9F0D4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ED1-4261-4FE0-A475-6B33D37C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37E-74FA-45C1-9AAF-4EF7B89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EB4-E323-4DDF-ABE8-F8D6452B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 1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902-A8A4-4537-AB44-BD5515D2E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(1031)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(1033)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AC3B-E809-44F6-B943-C1D4F6C3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7C56-77E3-43E5-9C98-80EE99D6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en-US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5-24T22:13:23Z</dcterms:modified>
  <cp:revision>103</cp:revision>
  <dc:subject/>
  <dc:title>Identification des manifestations et des items</dc:title>
</cp:coreProperties>
</file>