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4F7E3-1EBF-48C5-8694-3AEB473A0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AE726-342F-41CE-8240-5FEE40145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7D67E-0E18-4AA7-9B6A-8B631F9DE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6B5EE-2025-42AE-A742-863AE0EED7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D153-E243-435C-9C6A-04AD95BEB9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7970-7231-4B2F-85CD-900BF9058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A6341-C614-4BA9-951D-9CA26CDFA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3DD0F-D6B9-4EA4-8A72-0A3A78430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8691B-968B-4657-A20F-3FA153C12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38685-DBAC-41B1-B06C-B1F831C4C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BE1C4-24AE-431C-869D-07238E2FC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FEAA5-B1BF-48F2-B379-9CB36C282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D9DCE92-1210-468B-873C-95890CC97FE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B743D-6A32-405A-8C0B-8334F46AFA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20373-D7FB-4391-B8C8-D3076917BF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FACEA-13E6-4B0E-ADE2-579690DF17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DB3BC-5931-4D9C-B9A5-D50773F04F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ju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 et début juin 2013 pour les périod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uillet 2013 pour les documents imprimé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51BF8-1EA1-4C3C-902B-8F17F3BAFE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B495A-CC12-4185-88E5-C5A008785F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F231362-6855-4B81-AB07-075CFCA965F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41038-04D9-4C9B-8990-F66360B510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Daniel Paradis</cp:lastModifiedBy>
  <cp:lastPrinted>2010-10-18T15:40:26Z</cp:lastPrinted>
  <dcterms:modified xsi:type="dcterms:W3CDTF">2013-10-23T13:47:14Z</dcterms:modified>
  <cp:revision>271</cp:revision>
  <dc:subject/>
  <dc:title>Diapositive 1</dc:title>
</cp:coreProperties>
</file>