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1C66-BF48-407B-8A1D-149E0BC6C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8238B-9405-41B4-94DB-315FCC6D7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47A38-8FE1-4042-998E-757C47C54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F9F99-973D-4862-A956-2C90B5C7E7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E1383-59FE-4744-A964-3F5E13BB7E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E2BB3-DB79-4F1B-9C2E-8BD5E1E97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62317-E912-41B4-A7E7-C1F1CFAAA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21B67-42EE-45AD-B5B0-B38E2C59E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79AD5-817E-425C-AB26-E7EACF260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AF607-7A87-40F1-BD86-B428AA282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977BD-7739-4B60-A4F3-B7FC77035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9BC1C-EB4C-44B9-8034-FC6AB7E34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FCD215D-27C1-4892-9098-EDFC9389FC1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04889-652A-48B7-B2AB-380E69C697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5E780-A1BF-4575-8590-9BF7822CDD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067E5-9522-463C-8E7A-21CE05230F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1FA14-3158-4D04-8B34-48DF6AFD5A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ju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 et début juin 2013 pour les périod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uillet 2013 pour les documents imprimé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7A320-5E28-46A7-96DA-1C6EC31120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5171A-65E9-4D76-B196-321819C1DD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32A4FCC-9E8A-4C37-A545-34240F8F4AE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86C3B-FE21-4250-8437-928C6FFB11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Daniel Paradis</cp:lastModifiedBy>
  <cp:lastPrinted>2010-10-18T15:40:26Z</cp:lastPrinted>
  <dcterms:modified xsi:type="dcterms:W3CDTF">2013-10-23T13:47:14Z</dcterms:modified>
  <cp:revision>271</cp:revision>
  <dc:subject/>
  <dc:title>Diapositive 1</dc:title>
</cp:coreProperties>
</file>