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03B1-686D-4887-90EF-E226F0D27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92E2-0168-4A0D-92D9-BAB233323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7D26-8564-47F3-B554-7D7898778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5BBA-5F64-41FE-B473-9E363F8A4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FC83-E8AD-4E58-AF96-FA36ADE979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1D76-A2C5-4B98-BC1B-24BD593CA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C3D1-5F21-4B35-B455-F9254FFB8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2815-A26D-4DE3-BF2A-0EDFE0044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2989-8187-4DEF-92BD-3F7B98CC3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875B-80EA-4F77-AD6C-485E70B97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9909-71D1-445F-B677-3D36EC859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68EC-C5BA-49C0-9B6D-EAC660AF4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1781982-A0B0-4998-A2DC-295E616BA20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3FEE-A980-408F-836E-E932E9C15F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660D-3F0E-4ED8-B516-DA09F9FD8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2407-55D8-44CC-9972-4C769AA5C0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F169-6B0C-4199-A343-1C435FF32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u plus tôt mai 2013 pour les document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D484-A7E5-4966-BAE9-FCCA07E71B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A1F0-892D-4D74-82E9-C8C7A41DE6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9F289EB-6AE9-438D-AC08-F6AC98CB37A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6018-6580-4616-96EB-B0EEBC9EF3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3:07Z</dcterms:modified>
  <cp:revision>268</cp:revision>
  <dc:subject/>
  <dc:title>Diapositive 1</dc:title>
</cp:coreProperties>
</file>