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B9AEE-509C-4B17-B350-4545F601B6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C6A31-2EBE-4912-8FC0-3B082F437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8E31B-7BC9-4624-BCA3-DE936A7E2E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8DC44-027F-4FB3-A7FD-17FB0C8630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A45E3-E09B-4462-93CA-0A7375434C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D1965-888D-4BE9-8FF6-7988D8D92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C3A86-69F6-4002-AD9E-706687291E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1BCE0-80D6-4361-ACC9-2287859560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C5899-6C6E-4D93-95E5-92CF0C8F0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5497E-50A7-486C-99D4-6C256A94B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A79A3-FB0B-439B-9994-F58DC2156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BDCE8-42A4-4552-9FF0-68A6D6750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734072C-92B3-4482-999F-7A2470397BC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nement hybr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s de donné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ices RCAA2 et notices RDA vont cohabiter dans la même bas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comme les notices RCAA1 avec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uit le principe de continu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base de données collective définira des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exemple, OCLC World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1 seule notice par ressource par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ransformer RCAA2 en RDA, jamais l'in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71C4C-62ED-46C9-BC30-5DDBB19D65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bibliographiqu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ésultat d'ajouts d'éléments RDA à une notice bibliographique RCAA2 exist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scription n'est pas modifiée (transcription dans le 245, etc.) et reste selon les RCA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18 = a (RCAA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, avec des points d'accès formulés selo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, avec des éléments techniques RDA (exemple, 336/337/338 ajoutés en lo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03D56-2A6F-41A0-878B-02242EDF51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'autorité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'accès formulé selon les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d'autorité bonifiée avec les nouvelles zones 046, 37x ou 38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jamais, un point d'accès partiellement RDA et partiellement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71271-D831-48CD-91E7-D6FCB8B11C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érivées ou mises à j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er l'accès à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ger les erreurs de contenu, ne pas changer d'un style à un autre, d'un code à l'au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de l'information, ne pas en enlever (sauf si erroné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de RCAA2 à RDA seulement avec la ressource en main pour en faire une nouvell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D536E-E008-4C54-8C77-2C018D050A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uction et implantation de RDA en franç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tenaires à la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STED, BAC, BAnQ,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ersion imprimée : publication mai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ise en ligne dans RDA Toolkit : 14 mai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C/British Library : transition terminée le 31 mars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nQ : début avril 2013 pour les mon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ervice québécois de traitement documentaire (SQTD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ril 2013 pour les documents publiés au Qué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u plus tôt mai 2013 pour les documents traités par 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B9C5C-9C49-4C8A-93B0-A04471DFD0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us conti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ycle annuel de modifications a commencé 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raduction des mises à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odifications de notices RCAA2 dans les cat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volution des SI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D0D12-8F7D-43DB-A2BB-F5F5F81827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04A0437-4AB3-4663-99F2-95D22E68B59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90480" y="1882800"/>
            <a:ext cx="3919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égion de Montréal : 514 873-110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ns frais, d’ailleurs au Québec : 1 800 363-902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RANDE BIBLIOTHÈQU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75, boulevard De Maisonneuve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5C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 DE CONSERVATIO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75, rue Ho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G 3H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S D’ARCHIVE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bitibi-Témiscamingue et Nord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7, rue du Terminus Ou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uyn-Noranda (Québec)  J9X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-Saint-Laurent et 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spésie–Îles-de-la-Madelein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37, rue More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imouski (Québec)  G5L 1P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Point de service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0, boulevard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spé (Québec)  G4X 1A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ôte-Nord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00, boulevard Laure, bureau 19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pt-Îles (Québec)  G4R 1Y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262480" y="2336760"/>
            <a:ext cx="359892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stri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Frontenac, bureau 40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herbrooke (Québec)  J1H 1K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uricie et Centre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des Forges, bureau 20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ois-Rivières (Québec)  G9A 2G7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ntré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35, avenue Viger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utaouai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55, boulevard de la Gapp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ineau (Québec)  J8T 8H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villon Louis-Jacques-Cas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mpus de l’Université Lava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055, avenue du Séminair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Québec (Québec)  G1V 4N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guenay–Lac-Saint-Jea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930, rue Jacques-Cartier Est, bureau C-10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aguenay (Québec)  G7H 7K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0" name="Image 9" descr="bandeauux ppt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F351E-6FA9-4A4B-97DE-15DBB2B4C5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4-19T22:23:07Z</dcterms:modified>
  <cp:revision>268</cp:revision>
  <dc:subject/>
  <dc:title>Diapositive 1</dc:title>
</cp:coreProperties>
</file>