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E3B0-7C2D-4125-8CBE-98A457CB0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97B7F-AAF4-48CA-A5EC-D3E1A580A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F612-13FF-45E7-8F23-DA43E6B8F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B1A3-B42B-47F7-B08A-EDDD5307AD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6C0E5-28A6-42A8-A45E-CCC37FDA6B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EA69-8B5E-4579-B205-76DF4F73F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D792-1128-4D96-B151-CBF90A69A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544F-D871-4EF8-93E2-48561AC5F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A274-7CED-4269-A60C-0E0C18FCF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531E-B40E-427D-B21F-79664E512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DA0F-5C9F-4A11-A152-DB9DC1F1F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B6DD2-62B1-466A-9122-7BC00D508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2FB5D45-7569-47CB-9D79-6EE8BD22DA1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13A0-6B42-4B69-95D7-179B93D67B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DFD5-AE75-4998-9FFF-B2A2E289B1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829B3-A556-40C5-9C54-F7084FA668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EE58-8C62-4C64-A053-7451FCB3AB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 plus tôt mai 2013 pour les document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9715F-2A21-4A22-BE1A-D126410F5C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82E5-8CCB-4407-8A7F-27316C801A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5BD871A-8341-4838-A65F-7BEAF3F72AA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73E1F-33F6-4332-A41D-D7F968CAD4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9T22:23:07Z</dcterms:modified>
  <cp:revision>268</cp:revision>
  <dc:subject/>
  <dc:title>Diapositive 1</dc:title>
</cp:coreProperties>
</file>