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30C9-5FB3-4209-A172-C993E052A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19A3-E79C-43FA-82F4-7744FEDFA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E92D-4789-4F00-BF81-12049F27F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9715-D15F-4BC9-A463-BA55DA210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A6D7-2007-4754-82C9-585C3A556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B288-10B6-4594-8476-14C13AEF0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BEB4-C71C-4D32-B9DB-1E2AC549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252A-AEF1-4F51-84F3-85071DEA6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B9F9-029B-4078-B98C-343B28A33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5E88-4AF7-4554-86EF-829BF59AB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C34D-60EC-4827-B1CC-6FE0215EE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B74C-C5A0-4A94-87C1-EE26AB1BE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DF68735-F700-489D-A1DD-680EC7BE7D9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8AC6-DB3C-4755-8F5C-261A8A7B2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D7A2-BFA4-4F08-9C0A-62C31CFAAA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FE46-9633-4AD7-BDF7-31D6F89009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63DA-B496-4C65-AD93-04401270D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 plus tôt mai 2013 pour les document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1727-AA4B-4CBA-8EEF-01F5C1543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3D9F-A73C-4D8C-B2DC-EB215D594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DF65802-3610-46FB-AC34-C1885D004A6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DD3C-862A-4D2A-AF98-A0C1330561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3:07Z</dcterms:modified>
  <cp:revision>268</cp:revision>
  <dc:subject/>
  <dc:title>Diapositive 1</dc:title>
</cp:coreProperties>
</file>