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68ABE1-12AD-482C-848D-8D0262D7E85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E47820-7043-4A6C-B359-2D02499322AB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C19D2B-7EA6-4C93-BF89-4715F5D2F74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96F728-DBAE-4BAC-86D1-6FDD19809BF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Quiz - Les relations 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39679E-BE15-4846-88BD-A9EE335B1C46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7C6-8F68-400A-9FC1-F6B8B0C4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CBA-6A08-43F3-BFBD-25862AAE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489-ECAB-4C4E-A791-8E673BDB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90F-F291-41EA-980E-A6DDD0D8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402-1A52-4AAA-BEAB-C328A621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47D-D10B-4081-AFB6-309CB5C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633-FFE8-4418-9C77-5971B3EE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74C-3D86-4BCF-A786-00D7217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AE6-0B13-480F-B418-A21F614E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864-A148-490E-8970-A76130E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97C-5DCE-424F-9206-8CF5494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324-4ECB-42DB-99AD-AFD8F69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A8E-FF2A-4881-ACA7-6DCEEDE58DA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FR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 jugement du catalogueur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devrait prendre en considération si un élément est nécessaire pour donner accès à la res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est essentiel pour décider quelles relations additionnelles on doit établir, en plus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n’est pas requis pour l’enregistrement des relations fondamentales 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  <a:ea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Riva Pat</cp:lastModifiedBy>
  <dcterms:modified xsi:type="dcterms:W3CDTF">2014-11-05T21:51:51Z</dcterms:modified>
  <cp:revision>118</cp:revision>
  <dc:subject/>
  <dc:title>Quiz Module 8: les relations RDA</dc:title>
</cp:coreProperties>
</file>