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656169-0612-45F5-8901-C1F70E7E732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846F48-0797-423A-8A2D-35BC5BFDF97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A39139-555F-4A41-A55D-809F556C6C6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6E18AA-2C58-404B-838E-E412336CBC2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E01261-F4CE-4572-AA83-E04BEE8C65A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880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500-A058-4EAB-B923-95F53ADD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5EC-4852-4727-BEFC-ECEFAF67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772-DB88-4F79-AA87-70AC959A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5EA-A0EF-4037-B456-6FF5AEA6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D2E-FB4B-4B77-991C-2ECB6CCF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88C-AB2A-4A06-B6FD-669B2339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F3E-A868-4960-909C-D1D9126F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ED5-4F04-4ED2-8575-6B0D6159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9E4-0E64-405A-8733-415C1681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88F-DBF2-4661-B6EC-CF7D56B1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259-1F81-403D-A4BD-F77E7283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063-15CF-472D-8288-248B32DD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0A3D-3A26-4985-9BBB-6CFE02CF646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FR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13336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 jugement du catalogueur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devrait prendre en considération si un élément est nécessaire pour donner accès à la ressour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est essentiel pour décider quelles relations additionnelles on doit établir, en plus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n’est pas requis pour l’enregistrement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1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2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Riva Pat</cp:lastModifiedBy>
  <dcterms:modified xsi:type="dcterms:W3CDTF">2014-11-05T21:51:51Z</dcterms:modified>
  <cp:revision>118</cp:revision>
  <dc:subject/>
  <dc:title>Quiz Module 8: les relations RDA</dc:title>
</cp:coreProperties>
</file>