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551035-8473-45D0-B821-006A45B0C8A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0B0E32-2289-4E30-B9F9-620CF48E482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CE78D4-46D3-47E4-94F3-F4811BD1051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CFDF0A-4E63-4283-82FE-2DB5C982938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75DBC4-6E2A-4EAC-846F-DCDF5B4BB61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2C5-014C-4073-A6A3-7096BBF0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22B-D2DB-4DAB-A734-D91D92CB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4F7-7B6A-44AF-B6FA-85EF60B7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CD4-5571-4BF3-B106-BEE7CE36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DC6-8C65-407E-9F64-B0A975D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AD1-2637-44A1-9840-8F9A71B5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A30-8FBA-4B15-8B3B-8841F0A1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39C-1FF2-478C-8441-A7BFAA7B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DE5-3C9E-45EA-93EB-1409D4EA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D50-C385-4EA3-9DE6-ECF7732A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469-6E5A-46A4-BDC6-CA3198D5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C12-67F7-4013-9778-846A52D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547A-6135-4D8B-A254-8368FF11CA4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FR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 jugement du catalogueu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devrait prendre en considération si un élément est nécessaire pour donner accès à la res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est essentiel pour décider quelles relations additionnelles on doit établir, en plus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n’est pas requis pour l’enregistrement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Riva Pat</cp:lastModifiedBy>
  <dcterms:modified xsi:type="dcterms:W3CDTF">2014-11-05T21:51:51Z</dcterms:modified>
  <cp:revision>118</cp:revision>
  <dc:subject/>
  <dc:title>Quiz Module 8: les relations RDA</dc:title>
</cp:coreProperties>
</file>