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Quiz - Les relations 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67E42AF-0A64-443F-9DA5-0C800C9060C1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Espace réservé du pied de page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Quiz - Les relations 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space réservé du numéro de diapositive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271CFAB-7C9B-421B-A263-1EC7DA91D858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Espace réservé du pied de page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Quiz - Les relations 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space réservé du numéro de diapositive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D602D6E-F0C7-49D0-A206-F1ECABBA2942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E3C86C2-10C3-484D-8D02-06B1D7116745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Quiz - Les relations 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26BC1D8-1DE5-4D71-B738-5D6E29E4362D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01640" y="4416480"/>
            <a:ext cx="560880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826D-6226-4B01-B053-C7465E47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9A4C-A388-4FE0-A083-A8F8A0A3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2C7F-A8D5-420A-B83F-E531E3844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7CF8-9717-4485-9683-8983F4DBD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0EB2-6DF1-4EE4-9F4F-58650991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D156-DB22-448D-8C92-2D415FB3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34A6-B4E3-468E-87A8-A0DB00ED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B40A-B67F-4A94-B86C-CADDD4C0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5F50-BB20-4C81-AA78-7859035E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D2FD-E558-4AC4-8E62-891303B6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8FAC-21E1-4C4D-9A2C-5352A17C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E157-7037-4C62-97F5-EA273A71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830A-79B9-41BD-83D1-023D50FD84DF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33399"/>
                </a:solidFill>
                <a:latin typeface="Arial"/>
                <a:ea typeface="Arial"/>
              </a:rPr>
              <a:t>Quiz</a:t>
            </a:r>
            <a:br>
              <a:rPr sz="4000"/>
            </a:br>
            <a:r>
              <a:rPr b="1" i="1" lang="en-CA" sz="3600" spc="-1" strike="noStrike">
                <a:solidFill>
                  <a:srgbClr val="333399"/>
                </a:solidFill>
                <a:latin typeface="Arial"/>
                <a:ea typeface="Arial"/>
              </a:rPr>
              <a:t>Les relations R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Calibri"/>
              </a:rPr>
              <a:t>RDA fournit des instructions pour quels types de rela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relations entre les ressources et les personnes/collectivités/famil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relations entre les œuvres, les expressions, les manifestations et les i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relations entre les personnes, les collectivités et les famil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relations entre les concepts, les objets, les événements et les lieu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Arial"/>
                <a:ea typeface="Arial"/>
              </a:rPr>
              <a:t>Que retrouve-t-on dans les </a:t>
            </a:r>
            <a:br>
              <a:rPr sz="3600"/>
            </a:br>
            <a:r>
              <a:rPr b="1" lang="fr-FR" sz="3600" spc="-1" strike="noStrike">
                <a:solidFill>
                  <a:srgbClr val="333399"/>
                </a:solidFill>
                <a:latin typeface="Arial"/>
                <a:ea typeface="Arial"/>
              </a:rPr>
              <a:t>annexes I, J et K?</a:t>
            </a:r>
            <a:r>
              <a:rPr b="1" lang="fr-FR" sz="40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133360"/>
            <a:ext cx="822960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Des listes fermées de termes relatifs aux types de médias, de contenus et de supports matériels R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Des listes ouvertes d’indicateurs de relation pour qualifier les différents types de relations existant entre les entité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333399"/>
                </a:solidFill>
                <a:latin typeface="Arial"/>
                <a:ea typeface="Arial"/>
              </a:rPr>
              <a:t>Parmi les énoncés ci-dessous, lesquels expriment une relation entre une œuvre et une person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18760" y="2575080"/>
            <a:ext cx="808524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’auteur du roman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’artiste qui a créé le tableau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e compositeur du concerto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’annotateur de la version manuscrite de 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9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3" dur="indefinite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4" dur="indefinite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333399"/>
                </a:solidFill>
                <a:latin typeface="Arial"/>
                <a:ea typeface="Arial"/>
              </a:rPr>
              <a:t>Le jugement du catalogueur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000" spc="-1" strike="noStrike">
                <a:solidFill>
                  <a:srgbClr val="000000"/>
                </a:solidFill>
                <a:latin typeface="Arial"/>
                <a:ea typeface="Arial"/>
              </a:rPr>
              <a:t>devrait prendre en considération si un élément est nécessaire pour donner accès à la ressour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000" spc="-1" strike="noStrike">
                <a:solidFill>
                  <a:srgbClr val="000000"/>
                </a:solidFill>
                <a:latin typeface="Arial"/>
                <a:ea typeface="Arial"/>
              </a:rPr>
              <a:t>est essentiel pour décider quelles relations additionnelles on doit établir, en plus des relations fondamentales L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000" spc="-1" strike="noStrike">
                <a:solidFill>
                  <a:srgbClr val="000000"/>
                </a:solidFill>
                <a:latin typeface="Arial"/>
                <a:ea typeface="Arial"/>
              </a:rPr>
              <a:t>n’est pas requis pour l’enregistrement des relations fondamentales L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  <a:ea typeface="Arial"/>
              </a:rPr>
              <a:t>Toutes les réponses ci-dess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3" dur="indefinite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4" dur="indefinite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Arial"/>
                <a:ea typeface="Arial"/>
              </a:rPr>
              <a:t>Les indicateurs de relation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68360" y="1413000"/>
            <a:ext cx="82296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xpriment la nature précise d’une re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ont codés en $e à la </a:t>
            </a:r>
            <a:r>
              <a:rPr b="0" i="1" lang="fr-FR" sz="3000" spc="-1" strike="noStrike">
                <a:solidFill>
                  <a:srgbClr val="000000"/>
                </a:solidFill>
                <a:latin typeface="Calibri"/>
              </a:rPr>
              <a:t>fin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des zones 100 ou 700 pour exprimer le rôle de la person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ont codés en $i au </a:t>
            </a:r>
            <a:r>
              <a:rPr b="0" i="1" lang="fr-FR" sz="3000" spc="-1" strike="noStrike">
                <a:solidFill>
                  <a:srgbClr val="000000"/>
                </a:solidFill>
                <a:latin typeface="Calibri"/>
              </a:rPr>
              <a:t>début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de zones 700, 775, etc. pour exprimer une relation entre res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’accordent avec le genre de la personn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" dur="indefinite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2" dur="indefinite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indefinite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5" dur="indefinite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6" dur="indefinite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9" dur="indefinite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0" dur="indefinite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50003" t="26393" r="26745" b="16639"/>
          <a:stretch/>
        </p:blipFill>
        <p:spPr>
          <a:xfrm>
            <a:off x="2700360" y="326880"/>
            <a:ext cx="45356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333399"/>
                </a:solidFill>
                <a:latin typeface="Arial"/>
                <a:ea typeface="Arial"/>
              </a:rPr>
              <a:t>Lesquelles des options suivantes sont conformes à RD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Quatre zones 700 pour Gariépy, Gauthier, Paulhiac Scherrer et Scherrer, sans $e auteu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Une seule zone 700 pour Garié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Aucune zone 7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L’indicateur de relation «auteur», saisi en $e dans quatre zones 700 pour Gariépy, Gauthier, Paulhiac Scherrer et Scherr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indefinite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1" dur="indefinite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2" dur="indefinite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indefinite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5" dur="indefinite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6" dur="indefinite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9" dur="indefinite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0" dur="indefinite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3" dur="indefinite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4" dur="indefinite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Riva Pat</cp:lastModifiedBy>
  <dcterms:modified xsi:type="dcterms:W3CDTF">2014-11-05T21:51:51Z</dcterms:modified>
  <cp:revision>118</cp:revision>
  <dc:subject/>
  <dc:title>Quiz Module 8: les relations RDA</dc:title>
</cp:coreProperties>
</file>