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0C10CC5-C142-4CC2-B5B2-2712C5F5D2C5}"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2D37526-09C3-4AC3-BD18-165E91E0B85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dule est réparti en quatre sections principal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llons tout d’abord vous parler des principes de base touchant aux relations RDA</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suite, nous allons traiter des relations entre les entités du groupe 1 et 2 (donc entre les ressources et les personnes/familles/collectivité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relations entre les entités du groupe 1 (i.e. des relations entre les œuvres, les expressions, les manifestations et les ite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 les entités du groupe 2 (i.e. entre les personnes, les familles et les collectivités) (bien que nous n’aborderons ce dernier point que très brièvement, à l’aide d’une seule diapositive, puisque malheureusement nous n’avons pas le temps suffisant pour traiter de façon plus approfondie des données d’autorité dans le cours de cette formation (i.e. dans la formation de 1 jo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8 - Les relations</a:t>
            </a:r>
            <a:endParaRPr b="1" lang="en-US" sz="1200" spc="-1" strike="noStrike">
              <a:solidFill>
                <a:srgbClr val="000000"/>
              </a:solidFill>
              <a:latin typeface="Arial Unicode MS"/>
            </a:endParaRPr>
          </a:p>
        </p:txBody>
      </p:sp>
      <p:sp>
        <p:nvSpPr>
          <p:cNvPr id="132"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89F6293-8CBE-47E9-978E-B71A6F5C934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indicateurs de relation des annexes I, J, et K, ne sont pas listes fermées, ce qui veut dire que si un terme dont vous avez besoin n’est pas mentionné en annexe, vous pouvez choisir un terme approprié puis avertir un membre du Comité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est le jugement du catalogueur qui doit trancher s’il faut employer ou non un indicateur de relation. LC a également consigné certaines décisions dans les LC-PCC PS, qui peuvent vous guider (en attendant que nos propres dé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F20758-2BB7-4AB5-82FE-0EE867458B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B70477-BE3B-42DD-A3A4-5105208861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6ACD06-68B6-47B6-9A58-9D04C82EAD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63CB97-BE30-4C0B-A533-98E6161DEA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21B134-BDDE-44E1-9F58-A81916779D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928771-12E6-4022-9D47-6739D9AEAA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6248FD-1D76-4D92-BA2F-CB86A89196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3C9411-5429-43C6-B45C-9F9636CB63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882872-0FF5-4873-A561-2A86BA167C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E0FDE9-9442-470D-87A4-B4DBBF5D29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CC8B34-3A50-4324-820B-6A37CEFA13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090DF1-AC5B-45BC-BCDC-F00D3F2702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6C03AA-6EA8-4031-B12B-80FB8B9597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chapitre 2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68E8E1-63D8-4D8B-92E4-8ED8F053AC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alisat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004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693E96-41BD-4D04-AC6C-0A26E63688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DAD7B2-645F-4943-873D-FE3C9E92AD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795024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415931-36D9-4404-9CE7-047A395F7F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76" name=""/>
          <p:cNvSpPr/>
          <p:nvPr/>
        </p:nvSpPr>
        <p:spPr>
          <a:xfrm>
            <a:off x="385920" y="1616040"/>
            <a:ext cx="87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ea typeface="Courier New"/>
              </a:rPr>
              <a:t>110 $a </a:t>
            </a:r>
            <a:r>
              <a:rPr b="1" lang="fr-CA" sz="2400" spc="-1" strike="noStrike">
                <a:solidFill>
                  <a:srgbClr val="000000"/>
                </a:solidFill>
                <a:latin typeface="Courier New"/>
                <a:ea typeface="Courier New"/>
              </a:rPr>
              <a:t>Société Alzheimer de Québec</a:t>
            </a:r>
            <a:r>
              <a:rPr b="1" lang="en-US" sz="2400" spc="-1" strike="noStrike">
                <a:solidFill>
                  <a:srgbClr val="000000"/>
                </a:solidFill>
                <a:latin typeface="Courier New"/>
                <a:ea typeface="Courier New"/>
              </a:rPr>
              <a:t>, </a:t>
            </a:r>
            <a:r>
              <a:rPr b="1" lang="en-US" sz="2400" spc="-1" strike="noStrike">
                <a:solidFill>
                  <a:srgbClr val="008093"/>
                </a:solidFill>
                <a:latin typeface="Courier New"/>
                <a:ea typeface="Courier New"/>
              </a:rPr>
              <a:t>$e au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77" name=""/>
          <p:cNvSpPr/>
          <p:nvPr/>
        </p:nvSpPr>
        <p:spPr>
          <a:xfrm>
            <a:off x="762120" y="3057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78" name=""/>
          <p:cNvSpPr/>
          <p:nvPr/>
        </p:nvSpPr>
        <p:spPr>
          <a:xfrm>
            <a:off x="760320" y="4470480"/>
            <a:ext cx="7925040" cy="825480"/>
          </a:xfrm>
          <a:prstGeom prst="rect">
            <a:avLst/>
          </a:prstGeom>
          <a:noFill/>
          <a:ln w="0">
            <a:noFill/>
          </a:ln>
        </p:spPr>
        <p:style>
          <a:lnRef idx="0"/>
          <a:fillRef idx="0"/>
          <a:effectRef idx="0"/>
          <a:fontRef idx="minor"/>
        </p:style>
        <p:txBody>
          <a:bodyPr lIns="90000" rIns="90000" tIns="46800" bIns="46800" anchor="t">
            <a:spAutoFit/>
          </a:bodyPr>
          <a:p>
            <a:pPr marL="703440" indent="-703440">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76817814-9AF2-4941-8682-B6F6B9515B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81" name=""/>
          <p:cNvSpPr/>
          <p:nvPr/>
        </p:nvSpPr>
        <p:spPr>
          <a:xfrm>
            <a:off x="609480" y="2619360"/>
            <a:ext cx="90680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82" name=""/>
          <p:cNvSpPr/>
          <p:nvPr/>
        </p:nvSpPr>
        <p:spPr>
          <a:xfrm>
            <a:off x="193680" y="4159080"/>
            <a:ext cx="8950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21BEA2C-6FCD-4D16-BA00-122D3E65E1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ex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4541DC-4B49-49F1-BEC9-100EC7E49D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 </a:t>
            </a:r>
            <a:r>
              <a:rPr b="1" lang="en-US" sz="2800" spc="-1" strike="noStrike">
                <a:solidFill>
                  <a:srgbClr val="000000"/>
                </a:solidFill>
                <a:latin typeface="Arial"/>
              </a:rPr>
              <a:t>seulement</a:t>
            </a:r>
            <a:r>
              <a:rPr b="0" lang="en-US" sz="2800" spc="-1" strike="noStrike">
                <a:solidFill>
                  <a:srgbClr val="000000"/>
                </a:solidFill>
                <a:latin typeface="Arial"/>
              </a:rPr>
              <a:t> requis pour l’illustrate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2118AC-0698-43E1-88E5-2DAAC46A8F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88" name=""/>
          <p:cNvSpPr/>
          <p:nvPr/>
        </p:nvSpPr>
        <p:spPr>
          <a:xfrm>
            <a:off x="912960" y="182736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89" name=""/>
          <p:cNvSpPr/>
          <p:nvPr/>
        </p:nvSpPr>
        <p:spPr>
          <a:xfrm>
            <a:off x="838080" y="4441680"/>
            <a:ext cx="80456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3CCB34A0-DBD8-4DB2-B636-0D37D1349B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647467-4E59-4514-B595-C358724E9D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RDA</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re les principes de base propres aux relations dan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relations qui sont fondamentales pour L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tablir des relations correctement dans les notic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8A2E61-C236-4F0D-AC87-211354EB0D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93" name=""/>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94" name=""/>
          <p:cNvSpPr/>
          <p:nvPr/>
        </p:nvSpPr>
        <p:spPr>
          <a:xfrm>
            <a:off x="623880" y="323676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endParaRPr b="1" lang="en-US" sz="2400" spc="-1" strike="noStrike">
              <a:solidFill>
                <a:srgbClr val="000000"/>
              </a:solidFill>
              <a:latin typeface="Arial Unicode MS"/>
            </a:endParaRPr>
          </a:p>
        </p:txBody>
      </p:sp>
      <p:sp>
        <p:nvSpPr>
          <p:cNvPr id="95" name=""/>
          <p:cNvSpPr/>
          <p:nvPr/>
        </p:nvSpPr>
        <p:spPr>
          <a:xfrm>
            <a:off x="852480" y="469584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BDD3CDC8-5386-4152-8328-859B03F973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4CADD7-EA2D-4D27-A0D7-FF7E8FFB9E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99" name=""/>
          <p:cNvSpPr/>
          <p:nvPr/>
        </p:nvSpPr>
        <p:spPr>
          <a:xfrm>
            <a:off x="385920" y="1760400"/>
            <a:ext cx="8758080" cy="228852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Courier New"/>
                <a:ea typeface="Courier New"/>
              </a:rPr>
              <a:t> </a:t>
            </a:r>
            <a:r>
              <a:rPr b="1" lang="fr-CA" sz="2400" spc="-1" strike="noStrike">
                <a:solidFill>
                  <a:srgbClr val="008093"/>
                </a:solidFill>
                <a:latin typeface="Courier New"/>
              </a:rPr>
              <a:t>dédicateur.</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endParaRPr b="1" lang="en-US" sz="2400" spc="-1" strike="noStrike">
              <a:solidFill>
                <a:srgbClr val="000000"/>
              </a:solidFill>
              <a:latin typeface="Arial Unicode MS"/>
            </a:endParaRPr>
          </a:p>
        </p:txBody>
      </p:sp>
      <p:sp>
        <p:nvSpPr>
          <p:cNvPr id="100" name=""/>
          <p:cNvSpPr/>
          <p:nvPr/>
        </p:nvSpPr>
        <p:spPr>
          <a:xfrm>
            <a:off x="385920" y="412272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FEE682B7-186B-4F3C-A6A9-D64C103DEF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 dans les </a:t>
            </a:r>
            <a:r>
              <a:rPr b="0" lang="en-US" sz="2800" spc="-1" strike="noStrike">
                <a:solidFill>
                  <a:srgbClr val="008093"/>
                </a:solidFill>
                <a:latin typeface="Arial"/>
              </a:rPr>
              <a:t>notices </a:t>
            </a:r>
            <a:r>
              <a:rPr b="0" lang="en-US" sz="2800" spc="-1" strike="noStrike">
                <a:solidFill>
                  <a:srgbClr val="008093"/>
                </a:solidFill>
                <a:latin typeface="Arial"/>
              </a:rPr>
              <a:t>	</a:t>
            </a:r>
            <a:r>
              <a:rPr b="0" lang="en-US" sz="2800" spc="-1" strike="noStrike">
                <a:solidFill>
                  <a:srgbClr val="008093"/>
                </a:solidFill>
                <a:latin typeface="Arial"/>
              </a:rPr>
              <a:t>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B82391-4A7B-42EB-97DF-E9A1CCC834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0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2B0805-AEF2-4D7D-AD25-E8A6791AC2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 </a:t>
            </a:r>
            <a:r>
              <a:rPr b="1" lang="en-US" sz="2400" spc="-1" strike="noStrike">
                <a:solidFill>
                  <a:srgbClr val="000000"/>
                </a:solidFill>
                <a:latin typeface="Courier New"/>
              </a:rPr>
              <a:t>$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07" name=""/>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643966F4-1EA1-42AC-990B-496B16ECAF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2B2F84-D010-4148-B6CC-9F699C24F0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11" name="PlaceHolder 2"/>
          <p:cNvSpPr>
            <a:spLocks noGrp="1"/>
          </p:cNvSpPr>
          <p:nvPr>
            <p:ph/>
          </p:nvPr>
        </p:nvSpPr>
        <p:spPr>
          <a:xfrm>
            <a:off x="654120" y="1599840"/>
            <a:ext cx="7950240" cy="4978440"/>
          </a:xfrm>
          <a:prstGeom prst="rect">
            <a:avLst/>
          </a:prstGeom>
          <a:noFill/>
          <a:ln w="0">
            <a:noFill/>
          </a:ln>
        </p:spPr>
        <p:txBody>
          <a:bodyPr lIns="90000" rIns="90000" tIns="46800" bIns="46800"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a:t>
            </a:r>
            <a:r>
              <a:rPr b="1" lang="fr-CA" sz="2000" spc="-1" strike="noStrike">
                <a:solidFill>
                  <a:srgbClr val="008093"/>
                </a:solidFill>
                <a:latin typeface="Courier New"/>
              </a:rPr>
              <a:t> $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 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84DF21-333E-4A2C-9D1C-7C8904A28D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3" name=""/>
          <p:cNvSpPr/>
          <p:nvPr/>
        </p:nvSpPr>
        <p:spPr>
          <a:xfrm>
            <a:off x="654120" y="1585800"/>
            <a:ext cx="8229600" cy="45259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1" lang="en-US" sz="28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a:p>
            <a:pPr lvl="2" marL="730080" indent="-228600">
              <a:lnSpc>
                <a:spcPct val="10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1" lang="en-US" sz="2200" spc="-1" strike="noStrike">
              <a:solidFill>
                <a:srgbClr val="000000"/>
              </a:solidFill>
              <a:latin typeface="Arial Unicode MS"/>
            </a:endParaRPr>
          </a:p>
          <a:p>
            <a:pPr lvl="2" marL="73008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1" lang="en-US" sz="2400" spc="-1" strike="noStrike">
              <a:solidFill>
                <a:srgbClr val="000000"/>
              </a:solidFill>
              <a:latin typeface="Arial Unicode MS"/>
            </a:endParaRPr>
          </a:p>
          <a:p>
            <a:pPr marL="228600" indent="-2286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1" lang="en-US" sz="2800" spc="-1" strike="noStrike">
              <a:solidFill>
                <a:srgbClr val="000000"/>
              </a:solidFill>
              <a:latin typeface="Arial Unicode MS"/>
            </a:endParaRPr>
          </a:p>
          <a:p>
            <a:pPr lvl="1" marL="484200" indent="-228600">
              <a:lnSpc>
                <a:spcPct val="10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565D29B9-1D36-4AB6-B999-91AD01A43F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a:t>
            </a:r>
            <a:r>
              <a:rPr b="0" lang="en-US" sz="2400" spc="-1" strike="noStrike">
                <a:solidFill>
                  <a:srgbClr val="008093"/>
                </a:solidFill>
                <a:latin typeface="Arial"/>
              </a:rPr>
              <a:t>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DD626F-356B-4AC5-A241-BD5F962C02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6921935E-64E4-4172-81F6-28EB4284018E}"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E06316-9B23-4CAD-8868-B7D445B11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FFF782A9-804E-4853-9E89-D4C5F2BF34A5}"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86EDF8-7A62-48AA-84D7-792414AE71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2820AC-A6A0-4CF1-A7F7-A83E51E618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98867F-EDF0-473C-AD67-9A5B1B2838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125" name=""/>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126" name=""/>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D5B03BEB-FB16-4053-AF24-D6DF679C77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360130-E2DE-4BC5-93FB-822363E1B97E}"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38834A-EF6D-4C18-9C61-6E5C722A14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492A62-664C-4157-B313-4974324D51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973ED1-89E9-4ACF-B47A-BBA111A4F5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B2A1CE-5B0D-48BA-B4AC-6E09B9A418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68328B-4C86-4EF9-9D0E-2D30260FE7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93A88B-4D2E-4E32-94ED-C7A042E18A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17T22:17:44Z</dcterms:modified>
  <cp:revision>319</cp:revision>
  <dc:subject/>
  <dc:title>Diapositive 1</dc:title>
</cp:coreProperties>
</file>