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0872982-C68A-48FF-A6E7-B2BAA25C35C9}"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19D4B1A-A59B-495F-8CC3-7E6AC3A9AC8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8FE69B-A949-472E-B669-03809776E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DF6DE7-C445-4B97-B788-3AFDAEEF5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051F48-158A-4CAF-A40F-C48352F691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780B02-A8DE-4BBC-BA30-F44FD79886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1B09B9-FFCF-4BE3-9BDB-2E5C0F56BC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AAF692-7969-42DB-BD06-89F3B6A50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98623-AB30-45DD-9B5E-DA0AD3B58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56010-8AD9-4459-8D4D-A45EF5B312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3DAFD5-2AC5-4D94-A8BD-6BA7D8DBE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B4AEEA-4890-42CE-9032-3CCA02FDA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41CC2-663D-47FB-BBC3-E0AE1D5F1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37E96-5542-448E-930B-6B41CA17C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7A240BB8-7C7F-4146-A733-5C0E281D121B}"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éaste</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B47722-854C-4BF4-990E-7A756EDDDD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26D191-446F-4251-912F-06E754359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1BB02B-189F-4B9A-9D68-9945423E1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2"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3"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4"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C5FB9F5-9D91-475E-86E1-83371D3D2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77"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78"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575E39B-B0FE-4ED5-836B-C8B042677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E3ED06-564B-4485-838D-54BD5D942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00F5D2-1D66-4A1C-9D6B-C8E8739EF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4"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5"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FA08278F-173E-4056-9A89-58D521AA3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C8B059-7C58-4C44-ABA3-0478EB402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89"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0"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1"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C9BF01DB-0C1D-43BE-A5C5-1F52B8933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A61567-E3CA-4B5A-895E-CD55595CB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3369D9-8E31-44EE-81BA-6F9A6DFEA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5" name=""/>
          <p:cNvSpPr/>
          <p:nvPr/>
        </p:nvSpPr>
        <p:spPr>
          <a:xfrm>
            <a:off x="385920" y="1623960"/>
            <a:ext cx="8758080" cy="155700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700 $a Laberge, Marie, $d 1950- $e 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6" name=""/>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EA9B379-6C79-4E82-88F0-708457E99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53F8B-BA53-40F4-8A30-593108513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971822-31AB-4471-A1E5-D1849DC1C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3"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5336278-9402-4D4B-B0E4-00754259E5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730944-BB24-43DB-97E1-ABE4914A7D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BE36F2-2308-48FF-A8AA-559BFF4A4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09"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709541E-B46B-4B97-BCA7-9EB5FF102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A218C5-3652-42EA-A97E-5927AA150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ADAF7C-B16D-4892-9CBD-9CC6D4F0B7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656729-C8A4-40AC-88C7-18B498AE69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667B36-2E54-4F56-85DD-D4132358D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000D9A-DFD8-4139-AF59-43CBFE9250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19"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0"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573E232-7C71-45A1-A19B-CC1160C516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722B8-7EEE-4C7F-8FA2-736A10F496EB}"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EB4C04-CEEE-4E7E-BBBE-856B66050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453565-1905-40A3-B60A-CE28FE44D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3845C4-4C80-4988-8B4D-EEB43B0F6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CD3EDF-D1D7-40C1-BA97-E98CFEEE3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344A44-EF14-4021-A835-9A7A74E01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1FC623-F3E9-471A-B8B7-1F21E5715B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3:59Z</dcterms:modified>
  <cp:revision>308</cp:revision>
  <dc:subject/>
  <dc:title>Diapositive 1</dc:title>
</cp:coreProperties>
</file>