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0E54FFC-4F8A-4507-8A73-709B4860EAD4}"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9AB974B-790D-4EAE-88F9-E90EFB3328A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073056-44B4-4BCB-BAAF-9BEE68CA5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DB3EC7-4CC7-4F7E-AD96-32A2C324F2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A5F2B0-CE33-45BC-B149-4A351BE09D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F1EA19-FDAC-4DAE-8BAA-F7FB0CEEE9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1BFCF2-F1D8-49DA-832A-6EE9AF0EBD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4C94F9-9649-44D8-AB36-55A79039B1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52AB14-F4A3-42F3-8379-34F7E78F34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9851B3-457F-46B7-AFDA-6A6E06DD82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05B71B-A309-4C01-8D0F-FED048EC77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B64804-0451-4768-8DFC-72C4880471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CC62AC-28F4-4DF2-9C83-03D3559055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D2993E-9C6C-41AD-894B-3A4F944A99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662140A6-D548-4739-89C8-E1DBF5670D90}"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FB1985-BAA3-4BA2-8B56-90D9CDFAD1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DDB507-7EBE-45F5-AC59-37D5B9683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CE1CEC-EED4-42C6-85E0-06D2E583C6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2"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3"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4"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B709581-1B4A-4C1C-99B7-8AB92DCD21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77"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78"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18CE6B9-7DDD-47B9-B4FD-C2401F5219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4A13E6-8F99-4F15-BB8C-184BE9B5F5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6A0300-E9FB-4989-9B0D-4361891953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4"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5"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4E28944A-C252-40AB-BA22-F645B2A42F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B0A390-A697-41B3-AA97-5484C71D04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89"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0"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1"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490437C8-BF9A-49E3-AB0D-4FBC565EC6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70F470-B12D-466A-9755-9D0E73805E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743EAF-EA23-4975-BCBC-2053D1B08E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5" name=""/>
          <p:cNvSpPr/>
          <p:nvPr/>
        </p:nvSpPr>
        <p:spPr>
          <a:xfrm>
            <a:off x="385920" y="1623960"/>
            <a:ext cx="8758080" cy="155700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700 $a Laberge, Marie, $d 1950- $e 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6" name=""/>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CE3175E-0482-4F68-94E2-EA5EF6D76E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DFACF5-065C-4200-80DC-9EC59AD01F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462B5C-2F9F-4087-9C27-513CD3280B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3"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4E412A0-A96A-4D38-B493-3DC8F1F88A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7DDC0F-7874-4566-B9FB-EDCEBC4A9C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A2AAA8-D123-422C-BC89-B12456C956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09"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1D1580F-734E-4335-8207-98B706F7F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4ADEC9-7798-44F5-BD12-CCF0519C38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478A73-4802-4D32-B1AC-C16AE16764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A5EBA0-68CA-44F7-9D71-218242730E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121BB9-6191-412D-A15D-C373CBE6D7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D73D23-3E80-4669-9BCF-E14EDD6F03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9"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0"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B350594-EA7B-4009-87F4-00ED2DE7A7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175036-AFC8-4362-A0D5-F0ABA759B767}"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BE634A-72A2-4DA5-A1CA-E1C5B80F9D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C9CC12-7E45-45BE-99F7-611A02E21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2FF7C6-6CA7-4B9D-BA81-8FA0115E80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81ECF7-7D61-46E2-A693-458DF5FE60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07B2A2-37D9-4EF8-A00C-ED75D1F611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DE3AAB-817B-49AD-824B-CCB61CC2A4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3:59Z</dcterms:modified>
  <cp:revision>308</cp:revision>
  <dc:subject/>
  <dc:title>Diapositive 1</dc:title>
</cp:coreProperties>
</file>