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9A28B78-7092-4ADC-B6AE-F1E16A602AFC}"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50415EE-FA10-4EDD-82CC-4EF8071CAFD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13771A-BA6F-4752-9AB2-CFDF538739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3FEF89-5540-41F0-BB20-D6B31F88C8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E6C23A-4694-44D6-B879-9ADA2FC63F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C62BD2-39FA-4CC9-A707-7AFC9D52DA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4B97F7-AC4D-4D40-9FD2-7095AD3417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2108D1-BF6B-4DE6-B80A-93793BD35E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3C35B7-90F6-4708-BD24-8034FCAE65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62776D-E6B0-4F8A-A85F-3D233FC5CE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EEA34D-0E24-4B87-81AE-CBC545C432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C6DD8E-60C7-4A7E-9BF2-C2D1F299EA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DB57D8-8FE4-4D0D-BEFB-2B8F24491F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E6F261-51AF-42F2-BD8C-D4BCBB94BC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943A19F0-3CBF-4576-8310-B568DA5400BA}"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éast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5C1CD5-B695-4774-A35B-ECB8C5B83F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DBBB0F-7A46-4594-A6F4-35FDE87D9E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E31A85-5C1D-42E2-8436-792CF7D6A0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72" name=""/>
          <p:cNvSpPr/>
          <p:nvPr/>
        </p:nvSpPr>
        <p:spPr>
          <a:xfrm>
            <a:off x="385920" y="1616040"/>
            <a:ext cx="87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a:t>
            </a:r>
            <a:r>
              <a:rPr b="1" lang="fr-CA" sz="2400" spc="-1" strike="noStrike">
                <a:solidFill>
                  <a:srgbClr val="000000"/>
                </a:solidFill>
                <a:latin typeface="Courier New"/>
                <a:ea typeface="Courier New"/>
              </a:rPr>
              <a:t>Société Alzheimer de Québec</a:t>
            </a:r>
            <a:r>
              <a:rPr b="1" lang="en-US" sz="2400" spc="-1" strike="noStrike">
                <a:solidFill>
                  <a:srgbClr val="000000"/>
                </a:solidFill>
                <a:latin typeface="Courier New"/>
                <a:ea typeface="Courier New"/>
              </a:rPr>
              <a:t>, </a:t>
            </a:r>
            <a:r>
              <a:rPr b="1" lang="en-US" sz="2400" spc="-1" strike="noStrike">
                <a:solidFill>
                  <a:srgbClr val="008093"/>
                </a:solidFill>
                <a:latin typeface="Courier New"/>
                <a:ea typeface="Courier New"/>
              </a:rPr>
              <a:t>$e au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73" name=""/>
          <p:cNvSpPr/>
          <p:nvPr/>
        </p:nvSpPr>
        <p:spPr>
          <a:xfrm>
            <a:off x="762120" y="30574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74" name=""/>
          <p:cNvSpPr/>
          <p:nvPr/>
        </p:nvSpPr>
        <p:spPr>
          <a:xfrm>
            <a:off x="760320" y="4470480"/>
            <a:ext cx="7925040" cy="825480"/>
          </a:xfrm>
          <a:prstGeom prst="rect">
            <a:avLst/>
          </a:prstGeom>
          <a:noFill/>
          <a:ln w="0">
            <a:noFill/>
          </a:ln>
        </p:spPr>
        <p:style>
          <a:lnRef idx="0"/>
          <a:fillRef idx="0"/>
          <a:effectRef idx="0"/>
          <a:fontRef idx="minor"/>
        </p:style>
        <p:txBody>
          <a:bodyPr lIns="90000" rIns="90000" tIns="46800" bIns="46800" anchor="t">
            <a:spAutoFit/>
          </a:bodyPr>
          <a:p>
            <a:pPr marL="703440" indent="-703440">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4FA40F6C-E802-4486-8912-355A60455D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77" name=""/>
          <p:cNvSpPr/>
          <p:nvPr/>
        </p:nvSpPr>
        <p:spPr>
          <a:xfrm>
            <a:off x="609480" y="2619360"/>
            <a:ext cx="90680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78" name=""/>
          <p:cNvSpPr/>
          <p:nvPr/>
        </p:nvSpPr>
        <p:spPr>
          <a:xfrm>
            <a:off x="193680" y="4159080"/>
            <a:ext cx="89503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EA7EE27C-5620-4B58-A1E9-D2823C70D5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8D539B-7905-4827-B25F-69CBE93F59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 </a:t>
            </a:r>
            <a:r>
              <a:rPr b="1" lang="en-US" sz="2800" spc="-1" strike="noStrike">
                <a:solidFill>
                  <a:srgbClr val="000000"/>
                </a:solidFill>
                <a:latin typeface="Arial"/>
              </a:rPr>
              <a:t>seulement</a:t>
            </a:r>
            <a:r>
              <a:rPr b="0" lang="en-US" sz="2800" spc="-1" strike="noStrike">
                <a:solidFill>
                  <a:srgbClr val="000000"/>
                </a:solidFill>
                <a:latin typeface="Arial"/>
              </a:rPr>
              <a:t> requis pour l’illustrat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ADF70B-2A28-48B3-BD9E-95B646B344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84"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85" name=""/>
          <p:cNvSpPr/>
          <p:nvPr/>
        </p:nvSpPr>
        <p:spPr>
          <a:xfrm>
            <a:off x="838080" y="4441680"/>
            <a:ext cx="80456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64B80BB9-8D1D-4E67-B3F0-DA559DD999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3E53AF-3C26-43A5-8A60-F2B7F59E14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89" name=""/>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0" name=""/>
          <p:cNvSpPr/>
          <p:nvPr/>
        </p:nvSpPr>
        <p:spPr>
          <a:xfrm>
            <a:off x="623880" y="323676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endParaRPr b="1" lang="en-US" sz="2400" spc="-1" strike="noStrike">
              <a:solidFill>
                <a:srgbClr val="000000"/>
              </a:solidFill>
              <a:latin typeface="Arial Unicode MS"/>
            </a:endParaRPr>
          </a:p>
        </p:txBody>
      </p:sp>
      <p:sp>
        <p:nvSpPr>
          <p:cNvPr id="91" name=""/>
          <p:cNvSpPr/>
          <p:nvPr/>
        </p:nvSpPr>
        <p:spPr>
          <a:xfrm>
            <a:off x="852480" y="469584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E21DC72F-CE62-4C68-A2F0-90CB8834B9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78CDB2-EBC5-442A-A31A-80A8E79B13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FD3E30-D47E-4048-94B1-F60948C284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95" name=""/>
          <p:cNvSpPr/>
          <p:nvPr/>
        </p:nvSpPr>
        <p:spPr>
          <a:xfrm>
            <a:off x="385920" y="1623960"/>
            <a:ext cx="8758080" cy="155700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 sur la page de titre. $5 QMBN</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700 $a Laberge, Marie, $d 1950- $e 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6" name=""/>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FD1ADAA3-71D6-4E14-9E14-FCC2917BFD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lations dans les </a:t>
            </a:r>
            <a:r>
              <a:rPr b="0" lang="en-US" sz="2800" spc="-1" strike="noStrike">
                <a:solidFill>
                  <a:srgbClr val="008093"/>
                </a:solidFill>
                <a:latin typeface="Arial"/>
              </a:rPr>
              <a:t>notices </a:t>
            </a:r>
            <a:r>
              <a:rPr b="0" lang="en-US" sz="2800" spc="-1" strike="noStrike">
                <a:solidFill>
                  <a:srgbClr val="008093"/>
                </a:solidFill>
                <a:latin typeface="Arial"/>
              </a:rPr>
              <a:t>	</a:t>
            </a:r>
            <a:r>
              <a:rPr b="0" lang="en-US" sz="2800" spc="-1" strike="noStrike">
                <a:solidFill>
                  <a:srgbClr val="008093"/>
                </a:solidFill>
                <a:latin typeface="Arial"/>
              </a:rPr>
              <a:t>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05D9EA-B6E7-44B4-AB02-A5FD0147E2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16542E-6566-45FF-ACB0-867CC9BCE5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 </a:t>
            </a:r>
            <a:r>
              <a:rPr b="1" lang="en-US" sz="2400" spc="-1" strike="noStrike">
                <a:solidFill>
                  <a:srgbClr val="000000"/>
                </a:solidFill>
                <a:latin typeface="Courier New"/>
              </a:rPr>
              <a:t>$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03"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74604178-4EA8-4F47-B428-8909F4FCE5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0D5A4B-40BC-4FA2-A6D6-CABF050B9C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07" name="PlaceHolder 2"/>
          <p:cNvSpPr>
            <a:spLocks noGrp="1"/>
          </p:cNvSpPr>
          <p:nvPr>
            <p:ph/>
          </p:nvPr>
        </p:nvSpPr>
        <p:spPr>
          <a:xfrm>
            <a:off x="654120" y="1599840"/>
            <a:ext cx="7950240" cy="497844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a:t>
            </a:r>
            <a:r>
              <a:rPr b="1" lang="fr-CA" sz="2000" spc="-1" strike="noStrike">
                <a:solidFill>
                  <a:srgbClr val="008093"/>
                </a:solidFill>
                <a:latin typeface="Courier New"/>
              </a:rPr>
              <a:t> $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7DB017-78D6-445E-9505-3A27D2370D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09" name=""/>
          <p:cNvSpPr/>
          <p:nvPr/>
        </p:nvSpPr>
        <p:spPr>
          <a:xfrm>
            <a:off x="654120" y="1585800"/>
            <a:ext cx="8229600" cy="45259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1" lang="en-US" sz="28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a:p>
            <a:pPr lvl="2" marL="730080" indent="-22860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1" lang="en-US" sz="2200" spc="-1" strike="noStrike">
              <a:solidFill>
                <a:srgbClr val="000000"/>
              </a:solidFill>
              <a:latin typeface="Arial Unicode MS"/>
            </a:endParaRPr>
          </a:p>
          <a:p>
            <a:pPr lvl="2" marL="73008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1" lang="en-US" sz="24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BC283DB4-09CB-4863-9190-E3EF43ED68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325242-A182-4589-AF35-B3B0FE502E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EC1D43-C678-4FFF-8C20-8A07E52A4A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ADDDA1-86F1-4241-8EB9-DB239F4646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DE60B1-ABF6-4A7B-9E3C-CC361F532D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58C33B-4BBB-44AC-A0F7-F4404D76AD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19"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20"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C84AD631-F947-489C-87A1-4E0D52D303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7D3074-C3B4-4765-BFE7-010C29D3BA99}"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0C3D58-6A0A-40BA-BC41-28A4A35772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33BD3D-A806-4E14-BB50-25EF83D90E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2E38A1-682E-434C-B40F-038A2A43AA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C97F07-77E0-4967-A927-ADDC8C67E2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74D9DB-0F24-40D4-ACD8-1F3E9A6C1A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446756-13DB-4F35-A7BB-440A622F10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3:59Z</dcterms:modified>
  <cp:revision>308</cp:revision>
  <dc:subject/>
  <dc:title>Diapositive 1</dc:title>
</cp:coreProperties>
</file>