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5143D-E846-4775-8B26-E36E7255E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8C15-57E4-4FE4-BF55-4B2FF834C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7F65-6D15-46B7-8DCE-C650A276A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4B61-423B-41A9-9828-D8B3295561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DCEE-921A-43F8-9CE8-A80098208E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3463-8232-44CC-BB97-3D01559FD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34F0-4A65-45CD-8191-F55AC65B8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9DEE-3E92-4CFD-A65F-821773D44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3580-5174-46C5-ADDB-D70B3FCF8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6BD4-039B-4A7A-A788-A592EE5BF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22A5D-4973-4CD4-922B-C10BE7693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1876-A988-4529-BD93-9E3467F14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6D7D733-465B-4CD9-8790-9B8CFA73B78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E35C-9734-4FDC-8DE5-428628146B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48AD-1067-4D57-9046-23694BEA13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9B50-633B-415F-B3DA-80CC8A3F2E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B567-1393-4F1B-B4CA-009F70E58E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333C-A730-484E-BAFA-CCE3D5E7F0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DD61-349E-499A-B68A-DB5C41A5A2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3348-E83A-4EAE-8EED-7ACBACC446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3-25T23:02:22Z</dcterms:modified>
  <cp:revision>263</cp:revision>
  <dc:subject/>
  <dc:title>Diapositive 1</dc:title>
</cp:coreProperties>
</file>