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A868-CEDF-4DE0-B1C2-D3E5E46F5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6B95-9AD7-4404-B7D1-19B6EB9B6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F563-85FC-477F-A99A-A451D28F9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9156-24B0-4AAE-BDED-3A0F86F4A0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D7E7-6F81-4386-A826-678164A3A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34F0-6C46-47BD-B1DB-001757C37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3001-4363-4151-897C-5C295E556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1517-45E2-4BC0-9E83-2009E28B0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E45F-C865-4EBF-A4E4-19622B768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2A94-8693-4DB4-A3B1-D4C3D7B30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28D8-6D7B-420C-9CBE-6356B5616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6524-4438-4C54-A88D-70BBEFCBA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BE4D5EF-4054-415A-BA17-E363E3A82F4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9F92-F1D7-47C0-9E60-015EAAF42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D406-9DD1-4C5D-9A14-5D42D8C3FB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0C22-2087-46A6-86CD-8EFDED47AA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F9CA-E4DB-424A-8D22-7308DD6C66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EE2B-0B5F-4720-B815-B21DA6FA0E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360E-200E-4BF9-970D-B39E1EBED4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EBAF-AEDB-4313-997D-70E73E5A48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3-25T23:02:22Z</dcterms:modified>
  <cp:revision>263</cp:revision>
  <dc:subject/>
  <dc:title>Diapositive 1</dc:title>
</cp:coreProperties>
</file>