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23E9D-8679-4A50-8416-FF610D451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AD68E-2BF7-43B0-BD0F-CC1C2A76F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5A552-2488-4DBD-92D3-23D53C2FA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8092-591A-4E59-A8D5-C518641286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77E4E-FB03-4D31-93C5-550D185CE6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6813F-EBD6-484D-B5F3-9D0EBAACC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FC0C3-4860-45B5-B344-32BFE3586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825DA-C4F0-42F3-83D2-E9701ED57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DC012-F3AD-4477-9F29-C75955C3D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75381-8DE8-4CB0-B46C-E304E6942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AC4A7-8598-4C79-913C-D04C35F67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6DFD0-E8DF-43A6-AA8B-C521CD354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0ED820B-95E6-4F0C-A7A7-4B2F3CFBCE7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88C55-7A58-46C2-BFA9-568593822B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47B47-04E4-4404-8E41-ED2DF4688E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7E4D4-89D4-466C-9BD6-B8D5BD535B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DAD5-B25A-4070-8018-F546505CF4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"/>
          <p:cNvSpPr/>
          <p:nvPr/>
        </p:nvSpPr>
        <p:spPr>
          <a:xfrm>
            <a:off x="42642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F8986-8064-4CB6-8E7F-FB4C65D223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06D7C-CCA4-44DA-AA9D-8FE54DD787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 plus utiliser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« Polyglotte 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eule sous-zone ave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0F99D-2463-4DD1-BE67-C8BAE8BB3D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3-25T23:02:22Z</dcterms:modified>
  <cp:revision>263</cp:revision>
  <dc:subject/>
  <dc:title>Diapositive 1</dc:title>
</cp:coreProperties>
</file>