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C6F11-5D83-4515-B1FE-BCB9E58B3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29A3C-A40F-4607-A616-84F6F7AAA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D5369-D6B3-44B2-AF2D-BC57AD9DD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F5DA6-AC27-4C32-A451-BE866CB263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927EE-53F8-446C-81C0-6C1545ADB0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61962-FF0F-4F17-A39D-058D9689E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7618D-E187-404C-B1FF-851FB5755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FB5B9-B7DD-4EF9-95F4-208A38FB9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DDC14-9850-4746-A59E-604156684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0DFAB-45FB-4F5B-BF54-1B88CFF86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16B63-F5CD-4A50-9F58-36332ED88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644E0-46DE-4F6A-B0DA-0675C2A846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E785AD0-BBD1-453C-8F7A-507984217F6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cation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du point d’accès autorisé représentant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outs aux points d’accès autorisé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CA33D-2426-409E-A9B3-E6E0A3BD0F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oints d’accès autorisés sont utilisés dans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tices bibliograph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identifier l’expression qui est cataloguée; aussi dans les 6XX et 7XX pour représenter les relations à d’autr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és selon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apit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étapes (similaires à l’identification de l’œuv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mer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’information qui identifie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14C15-BAE3-466A-BBAB-B284AE7894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que ou autor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dentifier l’expression en l’enregistrant dans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notice bibli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lon politiques LC) aussi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nom/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es points d’accès autoris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utilisés dans d’autres notices d’autorité dans des zon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X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lations à d’autres expressions) 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rait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dans les cas laissés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AC4BB-F763-4CDC-BC36-20D1EF58D6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C-PCC PS 0.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 en ajoutant un attribut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cré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3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radu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éditions en d’autres langues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usica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8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E5D9B-CCCF-4530-B8C0-D79CA44123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uction du point d’accès autorisé représentant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élément de base est le point d’accès autorisé pour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s que présentés dans 6.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61920" y="39625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6666"/>
                </a:solidFill>
                <a:latin typeface="Courier New"/>
                <a:ea typeface="Courier New"/>
              </a:rPr>
              <a:t>Goncourt, Edmond de, 1822–1896. Frères Zemganno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"/>
          <p:cNvSpPr/>
          <p:nvPr/>
        </p:nvSpPr>
        <p:spPr>
          <a:xfrm>
            <a:off x="4264200" y="4359240"/>
            <a:ext cx="18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cccc"/>
                </a:solidFill>
                <a:latin typeface="Courier New"/>
                <a:ea typeface="Courier New"/>
              </a:rPr>
              <a:t>Anglais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6FD99-72F9-411B-859E-6CA15E0E2F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autorisés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ype de contenu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5334120"/>
            <a:ext cx="487656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"/>
          <p:cNvSpPr/>
          <p:nvPr/>
        </p:nvSpPr>
        <p:spPr>
          <a:xfrm>
            <a:off x="1146240" y="464832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000" spc="-1" strike="noStrike">
                <a:solidFill>
                  <a:srgbClr val="006666"/>
                </a:solidFill>
                <a:latin typeface="Arial"/>
              </a:rPr>
              <a:t>« et/ou »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F3094-E20B-4B54-9616-9735F90E32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 plus utiliser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« Polyglotte 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« Multilingue 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 $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eule sous-zone ave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« Anglais &amp; françai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expression doit être identifiée séparément (si cela est jugé utile pour l’accè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568FB-DCB5-4426-BD6C-C8F26B1334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04-04T12:46:38Z</dcterms:modified>
  <cp:revision>263</cp:revision>
  <dc:subject/>
  <dc:title>Diapositive 1</dc:title>
</cp:coreProperties>
</file>