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2204-2D0D-4F28-863B-EE68621AC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C683-F942-43D0-A2C3-39E1ED562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BC90-83CB-45AC-8356-3FF807177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E4D5-97AE-40DD-B34F-5108F9B47F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5CF6-79D8-4592-A948-65D872B14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4040-E023-4D70-902E-834D6AAF0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CF20-12B4-4412-92B0-EB6994708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3A71-BD49-4E80-97FB-5C4AFA2C2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5B5F-D586-4B1F-9682-62ADFD30B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EE4B-261C-4920-B479-6BFE672A8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A7D5-22B9-4208-8E45-35199B5A4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77B3-8AF5-4B59-AEFB-A820FD603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12E478E-6FD4-4D16-998C-C378D12AFBD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B6D1-CB69-4738-8687-0B8CE28016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E7B3-D03C-4109-A815-2E8EE84ADE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475B-5718-4450-928C-9E62E2383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0C9C-F5FC-44AE-97EC-EA9DE7315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1726-DCF7-4844-95F7-6DE8DB2D1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FEF6-7AA5-4E32-8FDD-D219A4AB1D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AEEB-2EE6-4A5C-B03D-1D7C1FF89C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38Z</dcterms:modified>
  <cp:revision>263</cp:revision>
  <dc:subject/>
  <dc:title>Diapositive 1</dc:title>
</cp:coreProperties>
</file>