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55BF-D244-4123-89D6-D6C3F5B35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B777-D4A2-4E33-A702-576EBCB28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DE80-5E83-49D6-8F19-1A1C72487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D6CA-3FC5-4798-805C-5908507DB7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1F47-F835-42A5-88D3-ACC8A565B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76A37-5C06-400C-B301-486DC987E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3158-CBFC-45C7-88B5-46693A3FE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7085-894B-4B70-8663-F75FD6D18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7922-18B0-4491-AA5D-E8ED6D857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A246-6684-4406-A0FC-2D5B4A5E1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A891-63D8-47B8-A35E-260B15632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E513-5D49-42F7-B458-D7B70AC56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4EE6350-8A1B-4DBE-ABD7-B497F18CEE4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6C0D-D7FE-4CBA-9543-2818363248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D78E-2EF3-4614-BA4A-8B39CB98E2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99E0-CCB3-4DBE-9D76-148031B540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7DBE-BD2D-43F7-AE2D-EC88F5ACA0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A0A7-6C3D-4135-9AD2-E6236EA499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523B-8E37-43AF-9D61-B797862665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plus utiliser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« Polyglotte 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eule sous-zone ave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2689-8698-4F0F-9E72-DBFB86D2AA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3-25T23:02:22Z</dcterms:modified>
  <cp:revision>263</cp:revision>
  <dc:subject/>
  <dc:title>Diapositive 1</dc:title>
</cp:coreProperties>
</file>