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6CEDF-E70E-4EBD-B73A-E47756B34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FD65-E752-4CF5-ABBA-12CD1E448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62597-C643-4E3F-8F30-F643F08F0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B3FBE-0070-4862-BBD4-A93A7CDB29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862B4-17A4-4FF2-9C85-251DBB09CB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89E9D-5B58-4B65-A336-59604D0E8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CD725-67AF-461B-A9F0-F57442234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F80B4-E42A-439B-800E-5F4B788CD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AD4F-A93E-4BFA-BC82-6CA451B53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4932C-A108-4E2F-9C2A-B029947EF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22063-97BD-4D7C-B0FA-CA78A82D5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819E4-20C1-4890-9E44-C0693D1F1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DF9C0A8-085B-425A-B871-D4556FA4352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6A23D-81DE-4385-9B2E-C49EA51C49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B7105-C53E-4E0F-B80C-7EB4070DFD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es points d’accès autoris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utilisés dans d’autres notices d’autorité dans des zon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X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lations à d’autres expressions) 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i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ans les cas laissés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DDFDD-C05B-410A-8839-BB0815C2BD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9237A-6C81-4990-AEB7-3B39C70E87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"/>
          <p:cNvSpPr/>
          <p:nvPr/>
        </p:nvSpPr>
        <p:spPr>
          <a:xfrm>
            <a:off x="42642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D819F-9D27-442F-8E68-A2E29CEB1C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0C1BC-C4BC-46E6-BCBF-62FACDCAB3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 plus utiliser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« Polyglotte 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eule sous-zone ave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2EB5B-5C7C-40B4-861E-97404BA70F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3-25T23:02:22Z</dcterms:modified>
  <cp:revision>263</cp:revision>
  <dc:subject/>
  <dc:title>Diapositive 1</dc:title>
</cp:coreProperties>
</file>