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D8D1-F6CB-45E5-A572-7BA228FD7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15C0-EAAE-4853-8E86-3EA23F663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3171-BFA7-4039-BB6F-36EF5307A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E95C-E356-4BF9-957A-8A8110EDE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F9AF-9E95-4156-8BB1-92FA49C09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5CCE-AF38-4189-B353-C1B60003D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9C72-586D-4006-B1EA-8FD156807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8570-FD14-478B-97BC-637B1CA6B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A1F2-0C77-48A0-9447-689540982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4C2F-F9A6-4AA2-B5DC-DBBE4020A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C48F-2578-4003-8CC7-DE70E7797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C2D2-16B1-4C02-91FC-D87A00405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2DD75B-D9FC-4043-BA9F-6D7E0B15CC4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62C4-13C8-4C34-AE65-9B54A4BBB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CB84-36C9-4CC6-8EB4-B987893B9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6E52-AC6A-41C2-9FB6-3688932405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447C-91DB-40DE-AEC0-78FDD4B6E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A47D-91A6-47A0-9C70-0534EFBA4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5F24-5940-42C9-88F9-79CE2A662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AF83-99DB-4CDA-9159-9B51863FDD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38Z</dcterms:modified>
  <cp:revision>263</cp:revision>
  <dc:subject/>
  <dc:title>Diapositive 1</dc:title>
</cp:coreProperties>
</file>