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EA83-F588-4039-BD15-3BE0330E3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B5AA-889D-47D2-B459-79C89BFD2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A04F-0168-4836-B90D-996179718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CD34-967D-4520-8FD6-0A5CB9589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7178-EE2B-48BD-A007-3D7648F05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441A-9D83-43AA-A07D-6F95FE55D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CA5A-38BF-443C-977D-0A7E16CDB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F877-51EF-459A-9F3A-B54BFDBBE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3819-D112-4C53-B463-FE3E4D7E1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9330-BD56-462D-B0A3-BDB187F6B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2684-DF3A-4DAF-879B-2DA3C036D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37ED-EB6F-4C19-85E2-C4F65DA58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5BB1128-321C-48D5-9261-E4B70123E6E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E206-3736-4B0E-938C-3136C3D803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BC28-BEB1-4303-A010-C1BF0EA781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F275-DDB1-421D-B177-70221EC59E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BAB8-C853-44D5-901E-23EAB934A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E009-A49C-4B67-AD0B-44E16990B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7686-0E7C-438C-B507-8F6DD34D85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C5D4-7C60-49C7-B247-DBAF231F14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38Z</dcterms:modified>
  <cp:revision>263</cp:revision>
  <dc:subject/>
  <dc:title>Diapositive 1</dc:title>
</cp:coreProperties>
</file>