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43805-93B7-4C2D-BC96-7A10DF3B7B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8EC5C-044A-481E-A5B1-5B50167B49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7C3B0-380D-44B5-BC07-AAE706BFF3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76248-ED01-42CD-853C-A517830054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F4C27-D38B-4303-A674-EFAFDA0BE8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D7DE7-010D-45EA-8AAE-EE243EA7AA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49F6C-1A54-42BB-A1F0-BF62E1B9CE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4CEC3-826C-4B39-8376-5B845AE03B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E48E0-59A7-41C0-A003-5B674B28A4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CFF00-CCA2-4B15-B9BF-CAC952748A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CFB54-B9D7-4795-99FF-673F0B7955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41113-7A5C-4337-ADC1-3F55B3AAF5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FDF651D-E788-4988-9CE8-2030B80F226D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aux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éateur (19.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personne, famille ou collectivité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responsable pour la cré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l’œuvr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plus d’une ent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responsable de l’œuvre dans son intégralit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créateur ayant la responsabilité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princip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mmé en premier dans la ressource est req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la responsabilité principale n’est pas indiquée, seul le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créateur nommé en premi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t req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LC-PCC PS 19.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dique d’utiliser le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jugement du catalogu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ur décider de donner des points d’accès autorisés pour les créateurs additionnels, au-delà de l’élément fonda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E8A49-B2CE-41CB-BD0A-A07DACB9BF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éateur – Change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isparition de la « règle de trois 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i identifiait l’œuvre seulement par son titre privilégié quand il y avait plus de trois créateu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 conséquent, il y aura plus d’œuvres nommées au moyen d’une combinaison créateur+titre privilégi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932C4-DB72-40F9-89FE-A187863E6C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ilateurs et modificateurs comme créateurs (19.2.1.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ne entité responsable d’une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compilati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eut être considérée comme étant la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créatric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 la compilation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i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a sélection, l’arrangement, l’édition, etc., du contenu de la compilation entraînent de fait la création d’une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nouvelle 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ne entité responsable de la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modification d’une œuvre préexistant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st considérée comme étant la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créatrice de la nouvelle œuv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si la modification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change considérablement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a nature ou le contenu de l’orig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DCB96-FAF5-4008-8CB7-19F3CEE50E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ectivités considérées comme créatr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tégories d’œuv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19.2.1.1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ire à RCAA2 21.1B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ollectivité a préséance sur une personne ou une famille nommée en premier comme créat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-PCC PS, similaire à la LCRI pour 21.1B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19.2.1.1.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ignitaires gouvernementaux et les dignitaires religieu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idérés comme cré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CFD40-8DA7-468A-B686-0FC83A2D40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ties de la Bible (6.23.2.9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ments par rapport à RCAA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23.2.9.1 Testaments, mettre au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ncien Test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uveau Test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23.2.9.2 Livres, suive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rectement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ans mention du test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Esd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pocalyp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1BD4F-C2B9-4B5A-8069-B86223B743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ilations et collabo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e disti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terminer comment chacune est ‘identifié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0033A-6613-43A8-BE79-4A46939B99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décider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es que vous avez u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mpi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ion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qui a créé qu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À partir de : source privilégiée, table des matières, préface, notes de programme, page d’accueil, autres composant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z que c’est u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llabo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us n’avez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ucune ind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qui a créé qu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u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out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F91DA-7EC2-429A-9EB8-F44A48144A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ieurs œuvres par un créa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it être traité comme u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mp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’est-à-dire, il n’y a pas de collabor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é p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E6D45-281B-44F0-9B50-37CBB48A82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 privilégié – Compilations par une Personne-Famille-Collectivité (6.2.2.10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st-ce que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ompil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st connue par un tit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Pas habituel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Mais, par exemple, </a:t>
            </a:r>
            <a:r>
              <a:rPr b="0" i="1" lang="fr-CA" sz="2000" spc="-1" strike="noStrike">
                <a:solidFill>
                  <a:srgbClr val="008093"/>
                </a:solidFill>
                <a:latin typeface="Arial"/>
              </a:rPr>
              <a:t>Leaves of grass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est un exemple d’une compilation connue par un ti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i non, utiliser le titre collectif conventionnel (pas d’importance si le titre propre est distinctif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Œuvres complètes = utiliser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« Œuvre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Œuvres complètes en une seule forme = utiliser le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terme choisi par le catalogueur (par exemple, Pièces de théâtre, Poèmes, Roma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utres compilations de deux ou plusieurs (mais pas toutes) œuvres dans la même forme ou dans différentes formes =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ajouter « Extraits »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(et non «  Morceaux choisis ») au titre collectif conventionnel, y compris après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« Œuvre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9EE1B-0F9E-478F-A88C-C785344514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Compilation de 2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œuvres par le même créa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utiliser la 1re œuvre comme titre privilégié (mais cela identifie de façon erronée la compi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54120" y="3067200"/>
            <a:ext cx="777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0 1# $a Miller, Arthur, $d 1915-2005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0 10 $a Archbishop’s ceiling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Two plays / $c Arthur Miller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505 0# 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The Archbishop’s ceil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-- The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700 12 $a Miller, Arthur, $d 1915-2005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t 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"/>
          <p:cNvSpPr/>
          <p:nvPr/>
        </p:nvSpPr>
        <p:spPr>
          <a:xfrm>
            <a:off x="1415880" y="3067200"/>
            <a:ext cx="6248520" cy="2666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339920" y="3067200"/>
            <a:ext cx="6476760" cy="2666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2D997-97E6-4AC0-86B5-360310644C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ion aux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ù sont les instru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 Nommer » l’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cisions de LC sur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iographique ou autorit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s d’accès autorisés pour les œuv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51603-EC79-40B7-89AA-4B4FC0A259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Compilation de 2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œuvres par le même créa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avec application de l’alternative d’utiliser un titre collectif conven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1480" y="2590920"/>
            <a:ext cx="7928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0 1# $a Miller, Arthur, $d 1915-2005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0 10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Pièces de théâtre. $k Extrait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Two plays / $c Arthur Miller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505 0# $a The Archbishop’s ceiling -- Th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700 12 $a Miller, Arthur, $d 1915-2005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$t Archbishop’s ceiling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700 12 $a Miller, Arthur, $d 1915-2005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t 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"/>
          <p:cNvSpPr/>
          <p:nvPr/>
        </p:nvSpPr>
        <p:spPr>
          <a:xfrm>
            <a:off x="461880" y="6019920"/>
            <a:ext cx="754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008093"/>
                </a:solidFill>
                <a:latin typeface="Arial"/>
              </a:rPr>
              <a:t>* 2e</a:t>
            </a:r>
            <a:r>
              <a:rPr b="1" i="1" lang="en-US" sz="2200" spc="-1" strike="noStrike" baseline="30000">
                <a:solidFill>
                  <a:srgbClr val="008093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8093"/>
                </a:solidFill>
                <a:latin typeface="Arial"/>
              </a:rPr>
              <a:t>700 pas élément fondamental mais utile à l’usager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26540-6535-4CFB-B059-D2AB003972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ieurs œuvres par plusieurs créateurs -- Compilations vs Collabo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ans 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rce qu’il n’y a pas un seul créateur des œuvres individu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incipal ou premier nomm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B69D9-4C5D-497D-AA5E-556B90EC00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Compilation d’œuvres par différents créateurs (pas de titre collectif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utiliser la 1re œuvre comme titre privilégié (mais cela n’identifie pas la compi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4120" y="3067200"/>
            <a:ext cx="8076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100 1# $a Polk, Sharo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0 10 $a Community band concert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24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 $a Community band concerts / $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haron Polk. Fall harves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estivals / Terri Swanso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7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2 $a Swanson, Terri. $t Fall harvest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estivals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"/>
          <p:cNvSpPr/>
          <p:nvPr/>
        </p:nvSpPr>
        <p:spPr>
          <a:xfrm>
            <a:off x="1797120" y="2990880"/>
            <a:ext cx="5715000" cy="281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797120" y="2990880"/>
            <a:ext cx="5562360" cy="281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0FFEF-46F9-460E-8627-DE14CBA313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Compilation d’œuvres par différents créateurs (pas de titre collectif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utiliser le titre propre de la 1re œuvre comme titre privilégié (</a:t>
            </a: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ne pas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forger un tit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743200"/>
            <a:ext cx="838224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00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Community band concerts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/ $c Sharon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olk.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Fall harvest festivals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/ Terri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wanson.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700 12 $a Polk, Sharon. $t Community band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    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concerts.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700 12 $a Swanson, Terri. $t Fall harvest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estivals.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5486400"/>
            <a:ext cx="769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008093"/>
                </a:solidFill>
                <a:latin typeface="Arial"/>
              </a:rPr>
              <a:t>* 2e 700 n’est pas requis mais utile pour l’usager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E116B-175F-4160-909E-12C4923F1D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Œuvres collaborativ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e œuvre, plusieurs créateu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esponsable princip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u créateu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ommé en prem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Excep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stées e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ms cinématograph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es ressources impliquant à la fois des collectivités et des person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es collaborations musi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lupart des publications en série (selon LC-PCC 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85C23-B7A0-4E99-9F6E-860EB174114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Plusieurs créateurs – Responsabilité princip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93"/>
                </a:solidFill>
                <a:latin typeface="Arial"/>
              </a:rPr>
              <a:t>Pas de changement, sauf pour ‘vedettes secondaire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0040" y="2492280"/>
            <a:ext cx="7683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0 1# $a Sweet, Martha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Georgia history / $c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b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Martha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weet and Linda Bru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with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ontributions by Gus Peterson and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arilee James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Bruce, Linda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Peterson, Gus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James, Marilee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"/>
          <p:cNvSpPr/>
          <p:nvPr/>
        </p:nvSpPr>
        <p:spPr>
          <a:xfrm>
            <a:off x="474840" y="5576760"/>
            <a:ext cx="8091360" cy="825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* nombre de points d’accès pour autres créateurs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LC-PCC PS 19.3 = jugement du catalogueu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FD56E-09DE-4358-A4B7-C99F6A1A290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Plusieurs créateurs -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 de responsabilité princip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CA" sz="2800" spc="-1" strike="noStrike">
                <a:solidFill>
                  <a:srgbClr val="008093"/>
                </a:solidFill>
                <a:latin typeface="Arial"/>
              </a:rPr>
              <a:t>‘entrer’ sous le titre, sans zone 1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utres auteurs (Melanie Carlson, Stephen Lindell, Kevin Ott et Janet Wilson) listés sur la source, mais pas enregistrés dans le 2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2286000"/>
            <a:ext cx="774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5 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$a Architecture / $c by Susan Brown … [et al.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Brown, Susa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C7A98-7755-45E8-8314-C3B5CE69F55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Plusieurs créateurs -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 de responsabilité princip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faire précéder le titre privilégié par le créateur nommé en prem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1480" y="252720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100 1# $a Brown, Susa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Architecture / $c by Susan Brown, Melanie Carlson, Stephen Lindell,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Kevin Ott, and Janet Wilso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Carlson, Melanie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Lindell, Stephe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Ott, Kevi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Wilson, Janet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8" name=""/>
          <p:cNvSpPr/>
          <p:nvPr/>
        </p:nvSpPr>
        <p:spPr>
          <a:xfrm>
            <a:off x="1701360" y="5656320"/>
            <a:ext cx="5453640" cy="703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8093"/>
                </a:solidFill>
                <a:latin typeface="Arial"/>
              </a:rPr>
              <a:t>points d’accès pour autres créateurs :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8093"/>
                </a:solidFill>
                <a:latin typeface="Arial"/>
              </a:rPr>
              <a:t>jugement du catalogueur (LC-PCC PS 19.3)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F9C6A-EC0D-42BE-A2EB-AA41E144054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représentant des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er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cer avec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re précéder par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appropr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jout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e rendre disti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.1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que ajout possible est discuté en détail dans les instructions précédentes du chapitre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120BA-6DA2-4B6F-9F70-EBDE77F732F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représentant des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For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ieu d’orig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ractéristique distin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4876920"/>
            <a:ext cx="6705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 d’ordre de priorité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ut donner plus d’un ajout si nécessair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B571A-10B9-45B5-A72D-3440404A530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ù sont les instruction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général, les instructions pou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’identification des œuvres et des expres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nt dans le chapi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devrez aussi consulter les instructions connexes dan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« Personnes, familles et collectivités associées à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œuv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« Personnes, familles et collectivités associées à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expre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A566D-4B0A-4F40-9EE1-A11B0634DB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 Nommer » l’œuv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ut comme ‘nommer’ les personnes et les collectivité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 maintenant les famil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mbl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u concept de « vedette principale » dans RCAA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 offre quatre possibilités où coder cett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XX + 2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XX + 2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4BB22-EA39-4652-A375-2024C12864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nnées bibliographiques ou d’autorité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n’indique pas si les attributs de l’œuvre et les points d’accès doivent être enregistrés comme données bibliographiques ou d’autor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que LC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oujo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dentifier l’œuvre en donnant le point d’accès dans la notic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bibliograph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Parf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dentifier l’œuvre en faisant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tice d’autor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tre ou auteur/titre – pas de changement dans la politique L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(DCM Z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1CDDE-A300-4C07-A32D-8F3D7EA2B4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rminologie reliée aux « Œuvres 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re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DA 6.2.1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mot, caractère ou groupe de mots et/ou de caractères sous lequel une œuvre est connu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re privilégié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DA 6.2.2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orme du titre choisie pour créer le point d’accè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te de titre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DA 6.2.3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orme du titre choisie pour créer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vari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 point d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renvois voir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60290-A322-45D3-9C53-3AC7FCAD32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rces d’information pour les titres privilégiés (6.2.2.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60" indent="-2397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consacré par l’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une œuvre créé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près 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À partir des ressources matérialisant l’œuvre ou à partir des sources de réfé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fois : le titre propre de la première manifestation reç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une œuvre créé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vant 15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À partir des sources de référence moder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les preuves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ne sont pas concluan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tiliser (dans cet ordre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34272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ditions moder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34272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ditions ancien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34272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mplaires manuscr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55919-A715-4DAB-9AF7-F1AFDBA293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rces d’information pour les autres éléments (6.1.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ous les aut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tributs d’identification des œuvres et des expre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dre l’information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e n’importe quell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9E0A2-0362-4099-9391-991B5C6436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ints d’accès autorisés pour les œuvr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6.27.1.1 - 6.27.1.8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assembler les éléments pour construire un 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élément de base est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Le point d’accès autorisé pour le 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écède le titre privilégié, le cas éché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jou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u titre privilégié selon les instructions données sou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1.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en vers les instructions sur l’enregistrement de chacun des éléments spécif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6ACA5-51A7-4BE2-BDFE-C3B6691961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Daniel Paradis</cp:lastModifiedBy>
  <cp:lastPrinted>2010-10-18T15:40:26Z</cp:lastPrinted>
  <dcterms:modified xsi:type="dcterms:W3CDTF">2013-11-05T17:28:00Z</dcterms:modified>
  <cp:revision>280</cp:revision>
  <dc:subject/>
  <dc:title>Diapositive 1</dc:title>
</cp:coreProperties>
</file>