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C122-0139-42A3-A3AA-1CFB868DB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6D77-BD23-4F86-A8FB-569774E74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DB4E-AF1C-4DD6-BDCC-5B4C15788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2830-1C3E-45B9-AB2B-55706D1B3A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B02F-81C5-46D8-9705-3C0EA5B6FA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13F2D-BD4B-47AA-81F2-C2C21F113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02E50-4A6A-456C-A8F2-EFBEDBC1A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4EF8-EEDC-4C20-A3FE-F7F5544EB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F4D7-4476-44AB-8B37-21E360AD8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6F95-3FDB-474C-8D0D-56124B4C7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E95E-5863-4624-8D9D-BB9C01E28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1B614-9C11-40A0-86E6-D609184AC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C5C35E3-4ACE-4546-B4B1-2BD3E0BEFC4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(19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ersonne, famille ou collectivité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responsable pour la cré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œuv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lus d’une ent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esponsable de l’œuvre dans son intégra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réateur ayant la responsabilité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princip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mmé en premier dans la ressource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 responsabilité principale n’est pas indiquée, seul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créateur nommé en prem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LC-PCC PS 19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que d’utiliser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décider de donner des points d’accès autorisés pour les créateurs additionnels, au-delà de l’élément fo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1E9E-86C4-4325-BF45-68EE1B6337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– Chang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sparition de la « règle de trois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identifiait l’œuvre seulement par son titre privilégié quand il y avait plus de trois créa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séquent, il y aura plus d’œuvres nommées au moyen d’une combinaison créateur+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F21E-7C93-4D37-A5CB-AB394AFFBF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eurs et modificateurs comme créateurs (19.2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entité responsable d’une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eut être considérée comme étant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réatric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a compilat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sélection, l’arrangement, l’édition, etc., du contenu de la compilation entraînent de fait la création d’une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nouvell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entité responsable de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modification d’une œuvre préexistan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st considérée comme étant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réatrice de la nouvelle œu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i la modification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hange considérablement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nature ou le contenu de l’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37E6-1645-4AB9-B96A-2478BC39AF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vités considérées comme créatr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tégories d’œuv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ire à RCAA2 21.1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llectivité a préséance sur une personne ou une famille nommée en premier comme cré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, similaire à la LCRI pour 21.1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gnitaires gouvernementaux et les dignitaires religie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érés comme cré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C4FE3-247A-4780-BF42-BF4CC3668B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es de la Bible (6.23.2.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s par rapport à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1 Testaments, mettre au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ncien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uveau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2 Livres, suiv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ement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mention du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s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ocaly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023E7-E0DE-4FAC-ADFD-F0A8CFE48C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ions et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e dis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r comment chacune est ‘identifié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C2EE-D4AF-423B-A207-3E994BBB55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décid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que vous avez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on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partir de : source privilégiée, table des matières, préface, notes de programme, page d’accueil, autres composant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z que c’est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n’avez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cune ind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ou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916B-ECE2-4FE7-9D89-612FCA7459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un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t être traité comme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-à-dire, il n’y a pas de collabo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é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8DAD3-295B-4894-AB40-9DBEA06223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ivilégié – Compilations par une Personne-Famille-Collectivité (6.2.2.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st-ce qu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connue par un ti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s habi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is, par exemple, </a:t>
            </a:r>
            <a:r>
              <a:rPr b="0" i="1" lang="fr-CA" sz="2000" spc="-1" strike="noStrike">
                <a:solidFill>
                  <a:srgbClr val="008093"/>
                </a:solidFill>
                <a:latin typeface="Arial"/>
              </a:rPr>
              <a:t>Leaves of grass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st un exemple d’une compilation connue par un t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 non, utiliser le titre collectif conventionnel (pas d’importance si le titre propre est distinctif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= utiliser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en une seule forme = utiliser 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terme choisi par le catalogueur (par exemple, Pièces de théâtre, Poèmes, Ro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res compilations de deux ou plusieurs (mais pas toutes) œuvres dans la même forme ou dans différentes formes =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ajouter « Extraits »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et non «  Morceaux choisis ») au titre collectif conventionnel, y compris après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43220-9107-4921-8BBB-AB2214C18F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identifie de façon erronée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4120" y="3067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Archbishop’s ceil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he Archbishop’s ceil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- The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3067200"/>
            <a:ext cx="624852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9920" y="3067200"/>
            <a:ext cx="647676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D7F39-C32C-4EBC-B739-D6E7F51BED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Nommer » 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de LC sur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phique ou autori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d’accès autorisés pour l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D4A2-EA51-4CAE-8BE1-0888E7D046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avec application de l’alternative d’utiliser un titre collectif conven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2590920"/>
            <a:ext cx="79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ièces de théâtre. $k Extrai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The Archbishop’s ceiling -- Th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$t Archbishop’s ceiling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601992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</a:t>
            </a:r>
            <a:r>
              <a:rPr b="1" i="1" lang="en-US" sz="2200" spc="-1" strike="noStrike" baseline="30000">
                <a:solidFill>
                  <a:srgbClr val="008093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700 pas élément fondamental mais utile à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3025E-3800-48CB-8D3B-9D16EEEA38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plusieurs créateurs -- Compilations vs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e qu’il n’y a pas un seul créateur des œuvres individ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incipal ou premier nom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21C2-E3EA-4485-9358-FA0A7ECAD9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n’identifie pas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4120" y="30672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Polk, Shar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Community band concer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 $a Community band concerts / $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haron Polk. Fall harv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 / Terri Swan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 $a Swanson, Terri. $t Fall harvest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1797120" y="2990880"/>
            <a:ext cx="571500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97120" y="2990880"/>
            <a:ext cx="556236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D8FA0-6E18-472B-90A5-0BA4C57DD5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e titre propre de la 1re œuvre comme titre privilégié (</a:t>
            </a: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ne pas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forger un ti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320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00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mmunity band concert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$c Sharon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lk.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Fall harvest festival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Terri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anson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Polk, Sharon. $t Community band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ncert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Swanson, Terri. $t Fall harvest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864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 700 n’est pas requis mais utile pour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A737-AA60-4D23-B88E-CEB77C4A53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collaborativ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e œuvre, plusieurs cré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sponsable princip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créate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ées e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 cinémat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ressources impliquant à la fois des collectivités e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collaborations mus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upart des publications en série (selon LC-PCC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0325-D34D-4AD2-9AB2-8D441FD3C1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–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Pas de changement, sauf pour ‘vedettes secondair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2492280"/>
            <a:ext cx="768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Sweet, Marth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Georgia history / $c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rth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eet and Linda Bru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wit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tributions by Gus Peterson a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rilee James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uce, Lind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Peterson, Gu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James, Marile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474840" y="5576760"/>
            <a:ext cx="8091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* nombre de points d’accès pour autres créateur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LC-PCC PS 19.3 = jugement du catalogu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F787-BCEA-4049-BC3B-0CCEE5081E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‘entrer’ sous le titre, sans zone 1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tres auteurs (Melanie Carlson, Stephen Lindell, Kevin Ott et Janet Wilson) listés sur la source, mais pas enregistrés dans le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28600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5 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Architecture / $c by Susan Brown … [et al.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own, Sus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BF0B-3FED-4E22-A5AB-E8B2EAC6B2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faire précéder le titre privilégié par le créateur 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2527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Brown, Susa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Architecture / $c by Susan Brown, Melanie Carlson, Stephen Lindell,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Kevin Ott, and Janet Wil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Carlson, Melani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Lindell, Steph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Ott, Kevi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Wilson, Janet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1701360" y="5656320"/>
            <a:ext cx="54536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points d’accès pour autres créateurs :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jugement du catalogueur (LC-PCC PS 19.3)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8AF1-C308-4ADE-8DE0-AA6CC82927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r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précéder par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appropr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 rend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jout possible est discuté en détail dans les instructions précédentes du chapit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89EA-146B-4D6A-A47F-0A75635BC4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ieu d’ori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6705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’ordre de priorit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t donner plus d’un ajout si nécessai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3698-902F-44E1-94A1-8D32BC3F70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ù sont les instruc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instructions 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’identification des œuvres et de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dans le chapi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evrez aussi consulter les instructions connexes da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63F1-E00C-414E-9294-8E6B21A00C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 Nommer » l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 comme ‘nommer’ les personnes et les collectivité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maintenant les fam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b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concept de « vedette principale » dans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offre quatre possibilités où coder cet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70F8-4669-4395-A674-33C3F1778B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nées bibliographiques ou d’autorité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’indique pas si les attributs de l’œuvre et les points d’accès doivent être enregistrés comme données bibliographiques ou d’aut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 LC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donnant le point d’accès dans la notic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d’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auteur/titre – pas de changement dans la politique L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(DCM Z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4050A-F0D2-4A46-A216-8451FCE58D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ologie reliée aux « Œuvres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t, caractère ou groupe de mots et/ou de caractères sous lequel une œuvre est conn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privilégié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2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le point d’accè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 de 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vari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renvois vo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425B-7A30-4709-BC27-182D626C45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titres privilégiés (6.2.2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nsacré par l’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rès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ressources matérialisant l’œuvre ou à partir des source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fois : le titre propre de la première manifestation reç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ant 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sources de référence mod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es preuves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ne sont pas conclu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tiliser (dans cet ordr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mod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anc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aires manu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ACBE0-8058-4500-9EC3-485699EECF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autres éléments (6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ous les au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s d’identification des œuvres et d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information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FE364-2109-432A-926B-DC2475D623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d’accès autorisés pour les œuv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6.27.1.1 - 6.27.1.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sembler les éléments pour construire un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lément de base es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e point d’accès autorisé pour le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cède le titre privilégié, le cas éché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titre privilégié selon les instructions données s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n vers les instructions sur l’enregistrement de chacun des élé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CF016-72B5-486A-B951-91B1E34D98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1-05T17:28:00Z</dcterms:modified>
  <cp:revision>280</cp:revision>
  <dc:subject/>
  <dc:title>Diapositive 1</dc:title>
</cp:coreProperties>
</file>