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A1DCC-D3BA-4F41-9F03-7F0EDCFD07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58FDF-13B0-4A1D-8FFD-9695283026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212F5-47A5-4730-BD29-FAD99F2F93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1CE78-BCAD-40C4-9804-92DD2EFB77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EA5B5-A3F7-491B-B6D4-EC6C060F7B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4B6EA-7B0F-4BC8-AB49-74693129E5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E4282-D55C-471A-B85D-E3A255130F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BDF60-5C2A-42A3-AD04-1C26AA572A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28339-FCDB-4795-9785-ACE04E00A2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B4348-9D07-4AA2-947C-049239903F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597AD-F170-4259-B5CC-538605832F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23DA7-E14A-4865-A6B9-77CA6600BD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AF6344C-879E-4667-9603-0C289646DCEC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aux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éateur (19.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personne, famille ou collectivité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responsable pour la cré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l’œuvr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plus d’une enti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 responsable de l’œuvre dans son intégralit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créateur ayant la responsabilité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princip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mmé en premier dans la ressource est req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la responsabilité principale n’est pas indiquée, seul le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créateur nommé en premi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t req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LC-PCC PS 19.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dique d’utiliser le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jugement du catalogu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ur décider de donner des points d’accès autorisés pour les créateurs additionnels, au-delà de l’élément fonda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571B6-F18D-468E-9031-D478F67F1B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éateur – Change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isparition de la « règle de trois 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i identifiait l’œuvre seulement par son titre privilégié quand il y avait plus de trois créateu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 conséquent, il y aura plus d’œuvres nommées au moyen d’une combinaison créateur+titre privilégi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9BBBF-ADCB-4529-8D4F-28A3AD0096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ilateurs et modificateurs comme créateurs (19.2.1.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entité responsable d’une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compi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ut être considérée comme étant la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créatr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a compilat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 sélection, l’arrangement, l’édition, etc., du contenu de la compilation entraînent de fait la création d’une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nouvelle 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entité responsable de la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modification d’une œuvre préexistan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t considérée comme étant le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créateur de la nouvelle œuv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 la modification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change considérabl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 nature ou le contenu de l’orig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BDD8C-846D-4743-ACF8-26262A5AAF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ectivités considérées comme créatr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atégories d’œuv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19.2.1.1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ire à RCAA2 21.1B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ollectivité a préséance sur une personne ou une famille nommée en premier comme créat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-PCC PS, similaire au LCRI pour 21.1B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19.2.1.1.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ignitaires gouvernementaux et les dignitaires religieu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idérés comme cré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2B995-692D-4ED6-BBDC-30D32BCD29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ties de la Bible (6.23.2.9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ments par rapport à RCAA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23.2.9.1 Testaments, mettre au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ncien Test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uveau Test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23.2.9.2 Livres, suive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rectement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ans mention du test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Esd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pocalyp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D3458-1BF7-485C-9472-D648B94920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ilations et collabo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e disti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terminer comment chacune est ‘identifié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97740-7E34-4182-A772-D7046CFE61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décider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es que vous avez u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mpi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ion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qui a créé qu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À partir de : source privilégiée, table des matières, préface, notes de programme, page d’accueil, autres composant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z que c’est u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llabo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us n’avez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ucune ind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qui a créé qu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u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out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10CBA-93B0-40CF-B9B3-594D5984F2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ieurs œuvres par un créa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it être traité comme u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mp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’est-à-dire, il n’y a pas de collabor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é p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3F846-4E4A-4546-B978-4AFA21647F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re privilégié – Compilations par une Personne-Famille-Collectivité (6.2.2.10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st-ce que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compil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st connue par un tit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Pas habituel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Mais, par exemple, </a:t>
            </a:r>
            <a:r>
              <a:rPr b="0" i="1" lang="fr-CA" sz="2000" spc="-1" strike="noStrike">
                <a:solidFill>
                  <a:srgbClr val="008093"/>
                </a:solidFill>
                <a:latin typeface="Arial"/>
              </a:rPr>
              <a:t>Leaves of grass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est un exemple d’une compilation connue par un ti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i non, utiliser le titre collectif conventionnel (pas d’importance si le titre propre est distinctif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Œuvres complètes = utiliser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« Œuvre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Œuvres complètes en une seule forme = utiliser le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terme choisi par le catalogueur (par exemple, Pièces de théâtre, Poèmes, Roma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utres compilations de deux ou plusieurs (mais pas toutes) œuvres dans la même forme ou dans différentes formes =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ajouter « Extraits »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au titre collectif conventionnel, y compris après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« Œuvre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7654B-098E-4E43-B1CC-C0C65004BF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Compilation de 2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œuvres par le même créa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utiliser la 1re œuvre comme titre privilégié (mais cela identifie de façon erronée la compi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54120" y="3067200"/>
            <a:ext cx="7772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0 1# $a Miller, Arthur, $d 1915-2005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0 10 $a Archbishop’s ceiling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Two plays / $c Arthur Miller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505 0# 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The Archbishop’s ceil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-- The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700 12 $a Miller, Arthur, $d 1915-2005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t 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"/>
          <p:cNvSpPr/>
          <p:nvPr/>
        </p:nvSpPr>
        <p:spPr>
          <a:xfrm>
            <a:off x="1415880" y="3067200"/>
            <a:ext cx="6248520" cy="2666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339920" y="3067200"/>
            <a:ext cx="6476760" cy="2666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FBB6D-17B0-4165-9E8F-BEE0C3FE0B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ion aux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ù sont les instru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 Nommer » l’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cisions de LC sur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iographique ou autorit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s d’accès autorisés pour les œuv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0EB0A-BEBE-46CF-B53B-57EB06C6C5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(suite) : Compilation de 2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œuvres par le même créa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avec application de l’alternative d’utiliser un titre collectif conven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1480" y="2590920"/>
            <a:ext cx="7928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0 1# $a Miller, Arthur, $d 1915-2005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0 10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Pièces de théâtre. $k Extrait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Two plays / $c Arthur Miller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505 0# $a The Archbishop’s ceiling -- Th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700 12 $a Miller, Arthur, $d 1915-2005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$t Archbishop’s ceiling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700 12 $a Miller, Arthur, $d 1915-2005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t 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"/>
          <p:cNvSpPr/>
          <p:nvPr/>
        </p:nvSpPr>
        <p:spPr>
          <a:xfrm>
            <a:off x="461880" y="6019920"/>
            <a:ext cx="754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008093"/>
                </a:solidFill>
                <a:latin typeface="Arial"/>
              </a:rPr>
              <a:t>* 2e</a:t>
            </a:r>
            <a:r>
              <a:rPr b="1" i="1" lang="en-US" sz="2200" spc="-1" strike="noStrike" baseline="30000">
                <a:solidFill>
                  <a:srgbClr val="008093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8093"/>
                </a:solidFill>
                <a:latin typeface="Arial"/>
              </a:rPr>
              <a:t>700 pas élément fondamental mais utile à l’usager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B8195-BC5C-4BC5-BF44-B3EF0B256D6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ieurs œuvres par plusieurs créateurs -- Compilations vs Collabo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ans 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rce qu’il n’y a pas un seul créateur des œuvres individu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rincipal ou premier nomm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0B9D2-ECE2-4511-A25A-EBD8DCD3FF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Compilation d’œuvres par différents créateurs (pas de titre collectif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utiliser la 1re œuvre comme titre privilégié (mais cela n’identifie pas la compi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4120" y="3067200"/>
            <a:ext cx="8076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100 1# $a Polk, Sharo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0 10 $a Community band concert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24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 $a Community band concerts / $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haron Polk. Fall harves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estivals / Terri Swanso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7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2 $a Swanson, Terri. $t Fall harvest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estivals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"/>
          <p:cNvSpPr/>
          <p:nvPr/>
        </p:nvSpPr>
        <p:spPr>
          <a:xfrm>
            <a:off x="1797120" y="2990880"/>
            <a:ext cx="5715000" cy="2819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797120" y="2990880"/>
            <a:ext cx="5562360" cy="2819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A595B-BB42-46AA-B214-730E2C9333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(suite) : Compilation d’œuvres par différents créateurs (pas de titre collectif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utiliser le titre propre de la 1re œuvre comme titre privilégié (</a:t>
            </a: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ne pas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forger un tit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2743200"/>
            <a:ext cx="838224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00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Community band concerts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/ $c Sharon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olk.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Fall harvest festivals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/ Terri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wanson.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700 12 $a Polk, Sharon. $t Community band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    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concerts.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700 12 $a Swanson, Terri. $t Fall harvest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estivals.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5486400"/>
            <a:ext cx="769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008093"/>
                </a:solidFill>
                <a:latin typeface="Arial"/>
              </a:rPr>
              <a:t>* 2e 700 n’est pas requis mais utile pour l’usager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1AB9B-813B-4E8F-BC9C-492B437D08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Œuvres collaborative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Une œuvre, plusieurs créateu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esponsable princip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u créateu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ommé en prem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Excep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stées e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27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ms cinématograph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es ressources impliquant à la fois des collectivités et des person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es collaborations musi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lupart des publications en série (selon LC-PCC 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AE27C-A639-4750-895A-CA706048125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Plusieurs créateurs – Responsabilité princip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93"/>
                </a:solidFill>
                <a:latin typeface="Arial"/>
              </a:rPr>
              <a:t>Pas de changement, sauf pour ‘vedettes secondaire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0040" y="2492280"/>
            <a:ext cx="7683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0 1# $a Sweet, Martha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Georgia history / $c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b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Martha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weet and Linda Bru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with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ontributions by Gus Peterson and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arilee James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Bruce, Linda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Peterson, Gus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James, Marilee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"/>
          <p:cNvSpPr/>
          <p:nvPr/>
        </p:nvSpPr>
        <p:spPr>
          <a:xfrm>
            <a:off x="474840" y="5576760"/>
            <a:ext cx="8091360" cy="825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* nombre de points d’accès pour autres créateurs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LC-PCC PS 19.3 = jugement du catalogueu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485E4-0FF3-4490-874C-7B73D157420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Plusieurs créateurs -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 de responsabilité princip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CA" sz="2800" spc="-1" strike="noStrike">
                <a:solidFill>
                  <a:srgbClr val="008093"/>
                </a:solidFill>
                <a:latin typeface="Arial"/>
              </a:rPr>
              <a:t>‘entrer’ sous le titre, sans zone 1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Autres auteurs (Melanie Carlson, Stephen Lindell, Kevin Ott et Janet Wilson) listés sur la source, mais pas enregistrés dans le 2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2286000"/>
            <a:ext cx="774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5 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$a Architecture / $c by Susan Brown … [et al.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Brown, Susa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C2FFB-E76C-4FC2-AD42-F83E7472D33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(suite) : Plusieurs créateurs -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 de responsabilité princip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faire précéder le titre privilégié par le créateur nommé en prem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1480" y="252720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100 1# $a Brown, Susa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Architecture / $c by Susan Brown, Melanie Carlson, Stephen Lindell,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Kevin Ott, and Janet Wilso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Carlson, Melanie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Lindell, Stephe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Ott, Kevi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Wilson, Janet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8" name=""/>
          <p:cNvSpPr/>
          <p:nvPr/>
        </p:nvSpPr>
        <p:spPr>
          <a:xfrm>
            <a:off x="1701360" y="5656320"/>
            <a:ext cx="5453640" cy="703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8093"/>
                </a:solidFill>
                <a:latin typeface="Arial"/>
              </a:rPr>
              <a:t>points d’accès pour autres créateurs :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8093"/>
                </a:solidFill>
                <a:latin typeface="Arial"/>
              </a:rPr>
              <a:t>jugement du catalogueur (LC-PCC PS 19.3)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327FF-320F-4CA8-B3DE-6245B1B9A1A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représentant des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er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cer avec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re précéder par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 appropr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jout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e rendre distin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27.1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que ajout possible est discuté en détail dans les instructions précédentes du chapitre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22AB2-C195-4FE3-A58F-9B0692C715C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représentant des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For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ieu d’orig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aractéristique distin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4876920"/>
            <a:ext cx="6705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 d’ordre de priorité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ut donner plus d’un ajout si nécessair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B3B31-F4AC-43CB-805D-A8A672DA5CA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ù sont les instruction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général, les instructions pou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’identification des œuvres et des expres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nt dans le chapit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devrez aussi consulter les instructions connexes dan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« Personnes, familles et collectivités associées à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œuv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« Personnes, familles et collectivités associées à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expre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ED5F6-56B8-46AF-BD63-D0118F26B8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 Nommer » l’œuv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ut comme ‘nommer’ les personnes et les collectivité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 maintenant les famil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mbl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u concept de « vedette principale » dans RCAA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 offre quatre possibilités où coder cett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XX + 2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XX + 2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A7F6E-0ECC-40C2-B737-3BF17CECAF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nnées bibliographiques ou d’autorité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n’indique pas si les attributs de l’œuvre et les points d’accès doivent être enregistrés comme données bibliographiques ou d’autor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que LC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oujo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dentifier l’œuvre en donnant le point d’accès dans la notic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bibliograph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Parf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dentifier l’œuvre en faisant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tice d’autori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tre ou auteur/titre – pas de changement dans la politique L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(DCM Z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FFEF8-948B-44FF-9A74-551BCEF8DF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rminologie reliée aux « Œuvres 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re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DA 6.2.1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mot, caractère ou groupe de mots et/ou de caractères sous lequel une œuvre est connu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re privilégié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DA 6.2.2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orme du titre choisie pour créer le point d’accè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utor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te de titre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DA 6.2.3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orme du titre choisie pour créer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varia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 point d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renvois voir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FDD18-2720-4A3B-BD82-065E13DEBC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rces d’information pour les titres privilégiés (6.2.2.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60" indent="-2397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consacré par l’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une œuvre créé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près 1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À partir des ressources matérialisant l’œuvre ou à partir des sources de réfé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fois : le titre propre de la première manifestation reç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une œuvre créé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vant 15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À partir des sources de référence moder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les preuves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ne sont pas concluan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utiliser (dans cet ordre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34272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ditions moder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34272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ditions ancien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34272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mplaires manuscr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4CF3A-068D-44AB-AA99-1D781A7656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rces d’information pour les autres éléments (6.1.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ous les aut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tributs d’identification des œuvres et des expre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dre l’information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e n’importe quell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91248-4930-4A9C-80F6-F12FE6AECB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ints d’accès autorisés pour les œuvr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6.27.1.1 - 6.27.1.8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 assembler les éléments pour construire un 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élément de base est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Le point d’accès autorisé pour le 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écède le titre privilégié, le cas éché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jou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u titre privilégié selon les instructions données sou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1.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en vers les instructions sur l’enregistrement de chacun des éléments spécif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69D09-4245-47D9-9E4B-2B92D93B06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3-04-04T12:46:29Z</dcterms:modified>
  <cp:revision>276</cp:revision>
  <dc:subject/>
  <dc:title>Diapositive 1</dc:title>
</cp:coreProperties>
</file>