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6CC1D-6F74-4ABE-BFA6-B02B45311E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DF4A2-CD19-4377-A2BE-3564F268E0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5AB69-A4AC-4035-9E77-09ACB4B38B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FEA3A-58D3-4AA0-80A2-182FF89773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97E9F-CF94-4058-AE5F-083085549E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0038D-2E46-44F2-BB72-F5E0474A68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BEC5F-C6F3-4CC0-802A-52DA628493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C9B97-F23D-4E2A-B5AE-D2B04A1241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28877-3990-46FF-9D6B-825F4B505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24902-24EB-4EF3-959D-1021A9E3F0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03B95-0D34-4593-89BE-837D6802E0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17CB8-714B-4090-A6D0-D99B89DC2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42BE942-E823-4D56-8B4A-7F09BE64373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aux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éateur (19.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personne, famille ou collectivité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responsable pour la cré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l’œuvr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lus d’une ent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responsable de l’œuvre dans son intégralit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créateur ayant la responsabilité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princip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mmé en premier dans la ressource est req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la responsabilité principale n’est pas indiquée, seul 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créateur nommé en premi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t req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LC-PCC PS 19.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dique d’utiliser 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ur décider de donner des points d’accès autorisés pour les créateurs additionnels, au-delà de l’élément fonda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1F14E-CB28-4B71-934E-1DA4B4597A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éateur – Change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isparition de la « règle de trois 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i identifiait l’œuvre seulement par son titre privilégié quand il y avait plus de trois créateu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 conséquent, il y aura plus d’œuvres nommées au moyen d’une combinaison créateur+titre privilég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F6F4C-266E-4B58-B61F-EAD2F082BA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ilateurs et modificateurs comme créateurs (19.2.1.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entité responsable d’une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ut être considérée comme étant la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créatr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a compilat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 sélection, l’arrangement, l’édition, etc., du contenu de la compilation entraînent de fait la création d’une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nouvelle 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entité responsable de la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modification d’une œuvre préexistan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 considérée comme étant le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créateur de la nouvelle œuv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la modification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change considérabl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 nature ou le contenu de l’orig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316DA-24F0-4B5C-837F-152E064354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ectivités considérées comme créatr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tégories d’œuv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19.2.1.1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ire à RCAA2 21.1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ollectivité a préséance sur une personne ou une famille nommée en premier comme créat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, similaire au LCRI pour 21.1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19.2.1.1.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ignitaires gouvernementaux et les dignitaires religieu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idérés comme cré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FEC0B-D22C-447D-A61C-C139E46212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ties de la Bible (6.23.2.9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ments par rapport à RCA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23.2.9.1 Testaments, mettre au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ncien Test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uveau Test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23.2.9.2 Livres, suiv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rectement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ans mention du test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Esd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pocaly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5FA51-D355-4321-8D8A-A02E32A0EB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ilations et collabo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e disti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terminer comment chacune est ‘identifié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B0A42-1BD6-4CAC-8EE6-F6B4650FFD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décider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es que vous avez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ion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qui a créé qu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À partir de : source privilégiée, table des matières, préface, notes de programme, page d’accueil, autres composant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z que c’est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llabo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us n’avez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ucune ind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qui a créé qu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u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out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40EFC-071D-4F6C-841E-D3A1CD42C7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œuvres par un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it être traité comme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’est-à-dire, il n’y a pas de collabor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é p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5A056-7293-436C-BBBC-6ECDDC2AF3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 privilégié – Compilations par une Personne-Famille-Collectivité (6.2.2.10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st-ce qu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st connue par un tit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Pas habituel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Mais, par exemple, </a:t>
            </a:r>
            <a:r>
              <a:rPr b="0" i="1" lang="fr-CA" sz="2000" spc="-1" strike="noStrike">
                <a:solidFill>
                  <a:srgbClr val="008093"/>
                </a:solidFill>
                <a:latin typeface="Arial"/>
              </a:rPr>
              <a:t>Leaves of grass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est un exemple d’une compilation connue par un ti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i non, utiliser le titre collectif conventionnel (pas d’importance si le titre propre est distinctif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Œuvres complètes = utiliser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« Œuvre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Œuvres complètes en une seule forme = utiliser le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terme choisi par le catalogueur (par exemple, Pièces de théâtre, Poèmes, Roma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utres compilations de deux ou plusieurs (mais pas toutes) œuvres dans la même forme ou dans différentes formes =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ajouter « Extraits »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au titre collectif conventionnel, y compris après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« Œuvre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81A7F-7021-4AC9-B6BD-337FCD0D55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Compilation de 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par le même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a 1re œuvre comme titre privilégié (mais cela identifie de façon erronée la compi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4120" y="306720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Miller, Arthur, $d 1915-2005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Archbishop’s ceiling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Two plays / $c Arthur Miller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505 0#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he Archbishop’s ceil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-- The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Miller, Arthur, $d 1915-2005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t 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"/>
          <p:cNvSpPr/>
          <p:nvPr/>
        </p:nvSpPr>
        <p:spPr>
          <a:xfrm>
            <a:off x="1415880" y="3067200"/>
            <a:ext cx="6248520" cy="2666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339920" y="3067200"/>
            <a:ext cx="6476760" cy="2666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DCE5D-2D13-4550-826E-9AFAFF4405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ion aux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sont les instru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 Nommer » 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isions de LC sur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iographique ou autorit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s d’accès autorisés pour l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31E53-1414-4F1B-975A-EC19DE1F1C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Compilation de 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par le même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avec application de l’alternative d’utiliser un titre collectif conven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1480" y="2590920"/>
            <a:ext cx="792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Miller, Arthur, $d 1915-2005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Pièces de théâtre. $k Extrait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Two plays / $c Arthur Miller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505 0# $a The Archbishop’s ceiling -- Th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700 12 $a Miller, Arthur, $d 1915-2005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$t Archbishop’s ceiling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Miller, Arthur, $d 1915-2005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t 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>
            <a:off x="461880" y="6019920"/>
            <a:ext cx="754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* 2e</a:t>
            </a:r>
            <a:r>
              <a:rPr b="1" i="1" lang="en-US" sz="2200" spc="-1" strike="noStrike" baseline="30000">
                <a:solidFill>
                  <a:srgbClr val="008093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700 pas élément fondamental mais utile à l’usager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5E0EB-2E58-46A7-8E7B-6EDB2DAFA7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œuvres par plusieurs créateurs -- Compilations vs Collabo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ns 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rce qu’il n’y a pas un seul créateur des œuvres individu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incipal ou premier nomm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42C31-1B86-44B6-B33D-327907D25D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Compilation d’œuvres par différents créateurs (pas de titre collectif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a 1re œuvre comme titre privilégié (mais cela n’identifie pas la compi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4120" y="3067200"/>
            <a:ext cx="8076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100 1# $a Polk, Shar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Community band concert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24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 $a Community band concerts / $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haron Polk. Fall harves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 / Terri Swans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7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2 $a Swanson, Terri. $t Fall harvest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"/>
          <p:cNvSpPr/>
          <p:nvPr/>
        </p:nvSpPr>
        <p:spPr>
          <a:xfrm>
            <a:off x="1797120" y="2990880"/>
            <a:ext cx="5715000" cy="28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797120" y="2990880"/>
            <a:ext cx="5562360" cy="28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ED2A4-48C8-4546-81A9-39E184B2DC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Compilation d’œuvres par différents créateurs (pas de titre collectif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e titre propre de la 1re œuvre comme titre privilégié (</a:t>
            </a: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ne pas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forger un tit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743200"/>
            <a:ext cx="838224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00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Community band concerts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/ $c Sharon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olk.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Fall harvest festivals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/ Terri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wanson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700 12 $a Polk, Sharon. $t Community band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    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concerts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Swanson, Terri. $t Fall harvest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5486400"/>
            <a:ext cx="769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* 2e 700 n’est pas requis mais utile pour l’usager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341D9-B04C-4D56-A3F0-8DD71251DC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collaborativ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Une œuvre, plusieurs créateu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esponsable princip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u créate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ommé en prem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Excep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stées e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ms cinémato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es ressources impliquant à la fois des collectivités et des perso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es collaborations musi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lupart des publications en série (selon LC-PCC 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7BDA4-4046-40A9-83E0-FE6D748A385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Plusieurs créateurs –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93"/>
                </a:solidFill>
                <a:latin typeface="Arial"/>
              </a:rPr>
              <a:t>Pas de changement, sauf pour ‘vedettes secondair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0040" y="2492280"/>
            <a:ext cx="7683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Sweet, Martha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Georgia history / $c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Martha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weet and Linda Bru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with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ontributions by Gus Peterson and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arilee James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Bruce, Linda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Peterson, Gu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James, Marilee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"/>
          <p:cNvSpPr/>
          <p:nvPr/>
        </p:nvSpPr>
        <p:spPr>
          <a:xfrm>
            <a:off x="474840" y="5576760"/>
            <a:ext cx="8091360" cy="825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* nombre de points d’accès pour autres créateur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LC-PCC PS 19.3 = jugement du catalogueu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3997E-12DC-42CE-B45E-FA8E37BB3FC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Plusieurs créateur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 de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CA" sz="2800" spc="-1" strike="noStrike">
                <a:solidFill>
                  <a:srgbClr val="008093"/>
                </a:solidFill>
                <a:latin typeface="Arial"/>
              </a:rPr>
              <a:t>‘entrer’ sous le titre, sans zone 1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utres auteurs (Melanie Carlson, Stephen Lindell, Kevin Ott et Janet Wilson) listés sur la source, mais pas enregistrés dans le 2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2286000"/>
            <a:ext cx="774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5 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$a Architecture / $c by Susan Brown … [et al.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Brown, Susa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A00A5-E7E3-4CFE-92D0-F11ED7CE8A7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Plusieurs créateur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 de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faire précéder le titre privilégié par le créateur nommé en prem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1480" y="252720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100 1# $a Brown, Susa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Architecture / $c by Susan Brown, Melanie Carlson, Stephen Lindell,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Kevin Ott, and Janet Wils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Carlson, Melanie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Lindell, Stephe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Ott, Kevi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Wilson, Janet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8" name=""/>
          <p:cNvSpPr/>
          <p:nvPr/>
        </p:nvSpPr>
        <p:spPr>
          <a:xfrm>
            <a:off x="1701360" y="5656320"/>
            <a:ext cx="5453640" cy="70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8093"/>
                </a:solidFill>
                <a:latin typeface="Arial"/>
              </a:rPr>
              <a:t>points d’accès pour autres créateurs :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8093"/>
                </a:solidFill>
                <a:latin typeface="Arial"/>
              </a:rPr>
              <a:t>jugement du catalogueur (LC-PCC PS 19.3)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BF8DB-B4ED-4612-A69D-3D22391D51F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représentant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er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cer avec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e précéder par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appropr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jout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 rendre disti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.1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que ajout possible est discuté en détail dans les instructions précédentes du chapitre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31FDB-AD45-47A2-817D-55D66F3E64A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représentant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For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ieu d’orig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4876920"/>
            <a:ext cx="6705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 d’ordre de priorité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ut donner plus d’un ajout si nécessair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68FE6-EB7A-4B40-9871-5E90F76598D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ù sont les instruction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général, les instructions po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’identification des œuvres et des expres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nt dans le chapi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devrez aussi consulter les instructions connexes dan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« Personnes, familles et collectivités associées à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« Personnes, familles et collectivités associées à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expre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C5ED1-9BFC-4866-A1FB-2DAAAD14F8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 Nommer » l’œuv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t comme ‘nommer’ les personnes et les collectivité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 maintenant les famil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mbl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u concept de « vedette principale » dans RCAA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offre quatre possibilités où coder cett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XX + 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XX + 2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4FB27-B1F4-4A7D-80F8-DA73F0A80F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nnées bibliographiques ou d’autorité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n’indique pas si les attributs de l’œuvre et les points d’accès doivent être enregistrés comme données bibliographiques ou d’autor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que LC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ntifier l’œuvre en donnant le point d’accès dans la notic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bibliograph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ntifier l’œuvre en faisant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tice d’autor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ou auteur/titre – pas de changement dans la politique L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(DCM Z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1429F-D77F-48E5-9E29-2DDD95CBB7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rminologie reliée aux « Œuvres 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re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1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mot, caractère ou groupe de mots et/ou de caractères sous lequel une œuvre est connu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re privilégié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2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rme du titre choisie pour créer le point d’accè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te de titre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3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rme du titre choisie pour créer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vari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renvois voir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26294-E320-41E9-A93E-47421E4DA8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 d’information pour les titres privilégiés (6.2.2.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consacré par l’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une œuvre créé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près 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À partir des ressources matérialisant l’œuvre ou à partir des sources de réfé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fois : le titre propre de la première manifestation reç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une œuvre créé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vant 15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À partir des sources de référence moder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les preuves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ne sont pas concluan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tiliser (dans cet ordre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ditions moder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ditions ancien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mplaires manuscr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704C9-C511-40A6-A3A1-88E9812C64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 d’information pour les autres éléments (6.1.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ous les aut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tributs d’identification des œuvres et d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l’information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 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7F9DE-370E-4444-AAA6-9223D204B3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ints d’accès autorisés pour les œuvr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6.27.1.1 - 6.27.1.8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assembler les éléments pour construire un 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élément de base est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Le point d’accès autorisé pour le 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écède le titre privilégié, le cas éché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u titre privilégié selon les instructions données sou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en vers les instructions sur l’enregistrement de chacun des éléments spécif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E46AE-A54A-41EE-A198-6C41BB5748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04-04T12:46:29Z</dcterms:modified>
  <cp:revision>276</cp:revision>
  <dc:subject/>
  <dc:title>Diapositive 1</dc:title>
</cp:coreProperties>
</file>