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FEA9-EE22-40CB-A2F3-2552C1316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5F34-4AE1-441F-832A-F941F8868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F2A6-C567-4C6A-A28E-86090CEB8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2CCD6-E6CE-4E4B-85C7-F83987380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1140-BCBB-4808-A511-4D4970F9A3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BBA7E-E729-480B-95A5-49A3E623E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E59A-A04D-43BD-B813-A5292F1D8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ED15-200C-45F1-BEF1-C06346659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8EEA-A677-46F2-93D9-765E5E6EB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8421-8A82-4025-ABCC-6939E61F8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494F-92AB-4B06-99F1-CBDD7709B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FDBE-5AE8-41C5-8E0B-B111AA249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2B36D7A-5017-462A-A8DB-9EE8DAE2C59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BA62-D064-4F4F-BCCE-E5BCEBA7F6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B52C5-8FE6-4E4A-A0B6-E1575C597C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considérée comme étant l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eur de la nouvelle œuv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CE749-D784-4FA6-8F5A-1FFFFDA459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au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B2AE-E20A-4922-92E9-0EAB745179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546A-254E-4DBB-BEFF-4803A592CF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394A-DF7D-4CD9-9AE1-22AFE1A170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497B-0532-4A08-92DB-7484E960B0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E715-08D6-43AF-A18A-481352F489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9080-A9DB-4CDA-9136-2493718870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6E053-AB54-4CE5-860F-FADC91A355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95C5-8117-4E54-9C02-C06A445389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4079-2707-4F0E-94A7-9E94776728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2FC2-9EF7-4C5F-A274-E83F6EA2C5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A17C-0B01-48DF-A1C2-67D34A737A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F730-6F5F-4CD9-BA7E-88B48DFC17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D072-5BB9-42E7-9514-64A3914886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9645-3565-4C48-A6CC-BF5F3F39ED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3DF5-BEC3-4A76-96C6-98181265CC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1463-7649-4289-88B0-6D0F8376BC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4DC0-CB9E-4C4C-AEF1-EA7676E5FA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11A5-332A-4883-8557-B2CECABA2E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583E-D849-4CC7-A0E8-5CA894A8C6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48DF-F13C-4908-9FB5-72A9263706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3364-C764-4975-93A5-315A87CC9A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6245-F07E-47A5-93CF-C47DC6ADE0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A5E6-1B3E-4F4F-B535-2300866ACA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10BF-5867-49F6-8F0D-F55B464852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18F83-2762-439D-941A-3C6F3AC107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29Z</dcterms:modified>
  <cp:revision>276</cp:revision>
  <dc:subject/>
  <dc:title>Diapositive 1</dc:title>
</cp:coreProperties>
</file>