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74E32-642C-4AC1-887E-197CAC58ED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3D4EF-8432-449F-A62A-FF11176B51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1B49E-D329-45D9-85FF-018CE65088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4F44E-9815-4781-BCFA-6FEE9B3282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2FB07-01D9-45F5-9875-3A327D5849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4D864-25D6-4338-8696-396694645C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D722F-50A7-457F-9A8F-3A5D362BA3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F62B4-A450-4FFC-9468-152B71207A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DC778-E3F4-484B-A92C-28F3B36A59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B0455-AE40-47E9-A762-8F44BA7931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45180-1222-4505-9463-47FE729BED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2E45C-D93F-4DB4-A6EC-CFE320855C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B0369E59-BCCF-45AD-BA99-B9442D6AE6EC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 aux œuv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éateur (19.2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personne, famille ou collectivité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responsable pour la cré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 l’œuvr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plus d’une entit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t responsable de l’œuvre dans son intégralité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 créateur ayant la responsabilité </a:t>
            </a: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princip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ommé en premier dans la ressource est requ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la responsabilité principale n’est pas indiquée, seul le </a:t>
            </a: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créateur nommé en premi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t requ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LC-PCC PS 19.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dique d’utiliser le </a:t>
            </a: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jugement du catalogueu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ur décider de donner des points d’accès autorisés pour les créateurs additionnels, au-delà de l’élément fondam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D19E1-05BD-4EB2-82E6-0E23B5D57D9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éateur – Changem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Disparition de la « règle de trois 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i identifiait l’œuvre seulement par son titre privilégié quand il y avait plus de trois créateu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 conséquent, il y aura plus d’œuvres nommées au moyen d’une combinaison créateur+titre privilégi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3A6BD-3832-4593-95DD-A34D6A65AAC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pilateurs et modificateurs comme créateurs (19.2.1.1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Une entité responsable d’une 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compilation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peut être considérée comme étant la 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créatric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e la compilation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si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la sélection, l’arrangement, l’édition, etc., du contenu de la compilation entraînent de fait la création d’une 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nouvelle œuv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Une entité responsable de la 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modification d’une œuvre préexistant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est considérée comme étant la 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créatrice de la nouvelle œuv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si la modification 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change considérablement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la nature ou le contenu de l’orig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61FDE-5B0C-45D0-9437-701C20DCC75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llectivités considérées comme créatr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atégories d’œuv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19.2.1.1.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ire à RCAA2 21.1B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collectivité a préséance sur une personne ou une famille nommée en premier comme créat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C-PCC PS, similaire à la LCRI pour 21.1B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19.2.1.1.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r les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dignitaires gouvernementaux et les dignitaires religieu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sidérés comme cré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3428B-B05A-46B6-AA86-D1620620BFF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ties de la Bible (6.23.2.9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ments par rapport à RCAA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23.2.9.1 Testaments, mettre au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ble.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ncien Testa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ble.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ouveau Testa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23.2.9.2 Livres, suive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rectement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sans mention du testa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ble.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Esd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ble.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pocalyp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6B02F-83CB-4F3B-9DBD-51204D20FA4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pilations et collabor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e disti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terminer comment chacune est ‘identifiée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27.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abo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27.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B88BC-D8A8-4E28-BF32-52007C66C09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ent décider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es que vous avez un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ompi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tion d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qui a créé quo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À partir de : source privilégiée, table des matières, préface, notes de programme, page d’accueil, autres composantes de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z que c’est un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ollabo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us n’avez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ucune ind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 qui a créé quo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u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dout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742F2-8C38-48C6-B276-7C84049FF25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usieurs œuvres par un créat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it être traité comme un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ompi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’est-à-dire, il n’y a pas de collabor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é p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ré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itre privilég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D7AA5-CBC8-4D49-983A-0687B6646CC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tre privilégié – Compilations par une Personne-Famille-Collectivité (6.2.2.10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st-ce que l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compila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st connue par un tit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Pas habituel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Mais, par exemple, </a:t>
            </a:r>
            <a:r>
              <a:rPr b="0" i="1" lang="fr-CA" sz="2000" spc="-1" strike="noStrike">
                <a:solidFill>
                  <a:srgbClr val="008093"/>
                </a:solidFill>
                <a:latin typeface="Arial"/>
              </a:rPr>
              <a:t>Leaves of grass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est un exemple d’une compilation connue par un ti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Si non, utiliser le titre collectif conventionnel (pas d’importance si le titre propre est distinctif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Œuvres complètes = utiliser </a:t>
            </a: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« Œuvre 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Œuvres complètes en une seule forme = utiliser le </a:t>
            </a: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terme choisi par le catalogueur (par exemple, Pièces de théâtre, Poèmes, Roma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Autres compilations de deux ou plusieurs (mais pas toutes) œuvres dans la même forme ou dans différentes formes = </a:t>
            </a: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ajouter « Extraits »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(et non «  Morceaux choisis ») au titre collectif conventionnel, y compris après </a:t>
            </a: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« Œuvre 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5720C-FC2B-43E3-833A-D7631D9705C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 Compilation de 2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œuvres par le même créat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8093"/>
                </a:solidFill>
                <a:uFillTx/>
                <a:latin typeface="Arial"/>
              </a:rPr>
              <a:t>RCAA2</a:t>
            </a: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 : utiliser la 1re œuvre comme titre privilégié (mais cela identifie de façon erronée la compil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54120" y="3067200"/>
            <a:ext cx="7772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00 1# $a Miller, Arthur, $d 1915-2005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240 10 $a Archbishop’s ceiling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10 $a Two plays / $c Arthur Miller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505 0# $a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The Archbishop’s ceilin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-- The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American clock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700 12 $a Miller, Arthur, $d 1915-2005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t American clock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"/>
          <p:cNvSpPr/>
          <p:nvPr/>
        </p:nvSpPr>
        <p:spPr>
          <a:xfrm>
            <a:off x="1415880" y="3067200"/>
            <a:ext cx="6248520" cy="2666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339920" y="3067200"/>
            <a:ext cx="6476760" cy="2666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988EF-345C-4BE8-A2D7-47010AAC0EC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ion aux œuv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ù sont les instru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 Nommer » l’œuv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cisions de LC sur 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bliographique ou autorité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inolo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s d’accès autorisés pour les œuv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B1578-A446-4916-989B-8CDEDCAC768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(suite) : Compilation de 2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œuvres par le même créat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8093"/>
                </a:solidFill>
                <a:uFillTx/>
                <a:latin typeface="Arial"/>
              </a:rPr>
              <a:t>RDA</a:t>
            </a: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 : avec application de l’alternative d’utiliser un titre collectif conventi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1480" y="2590920"/>
            <a:ext cx="7928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00 1# $a Miller, Arthur, $d 1915-2005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240 10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Pièces de théâtre. $k Extrait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10 $a Two plays / $c Arthur Miller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505 0# $a The Archbishop’s ceiling -- Th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American clock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700 12 $a Miller, Arthur, $d 1915-2005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$t Archbishop’s ceiling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700 12 $a Miller, Arthur, $d 1915-2005.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t American clock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"/>
          <p:cNvSpPr/>
          <p:nvPr/>
        </p:nvSpPr>
        <p:spPr>
          <a:xfrm>
            <a:off x="461880" y="6019920"/>
            <a:ext cx="7543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200" spc="-1" strike="noStrike">
                <a:solidFill>
                  <a:srgbClr val="008093"/>
                </a:solidFill>
                <a:latin typeface="Arial"/>
              </a:rPr>
              <a:t>* 2e</a:t>
            </a:r>
            <a:r>
              <a:rPr b="1" i="1" lang="en-US" sz="2200" spc="-1" strike="noStrike" baseline="30000">
                <a:solidFill>
                  <a:srgbClr val="008093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008093"/>
                </a:solidFill>
                <a:latin typeface="Arial"/>
              </a:rPr>
              <a:t>700 pas élément fondamental mais utile à l’usager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D6BC3-40B5-4A15-ADD5-F5FA9AF631D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usieurs œuvres par plusieurs créateurs -- Compilations vs Collabor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itre privilég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Sans créate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rce qu’il n’y a pas un seul créateur des œuvres individue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réate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rincipal ou premier nomm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itre privilég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2C31E-8DBD-4328-8E40-3F068BFB3C1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 Compilation d’œuvres par différents créateurs (pas de titre collectif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8093"/>
                </a:solidFill>
                <a:uFillTx/>
                <a:latin typeface="Arial"/>
              </a:rPr>
              <a:t>RCAA2</a:t>
            </a: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 : utiliser la 1re œuvre comme titre privilégié (mais cela n’identifie pas la compil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54120" y="3067200"/>
            <a:ext cx="8076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100 1# $a Polk, Sharo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240 10 $a Community band concert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24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0 $a Community band concerts / $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haron Polk. Fall harves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festivals / Terri Swanso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70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2 $a Swanson, Terri. $t Fall harvest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festivals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" name=""/>
          <p:cNvSpPr/>
          <p:nvPr/>
        </p:nvSpPr>
        <p:spPr>
          <a:xfrm>
            <a:off x="1797120" y="2990880"/>
            <a:ext cx="5715000" cy="2819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797120" y="2990880"/>
            <a:ext cx="5562360" cy="2819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760BE-7571-423B-A73D-4891AA999B0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(suite) : Compilation d’œuvres par différents créateurs (pas de titre collectif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8093"/>
                </a:solidFill>
                <a:uFillTx/>
                <a:latin typeface="Arial"/>
              </a:rPr>
              <a:t>RDA</a:t>
            </a: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 : utiliser le titre propre de la 1re œuvre comme titre privilégié (</a:t>
            </a:r>
            <a:r>
              <a:rPr b="1" i="1" lang="en-US" sz="2800" spc="-1" strike="noStrike" u="sng">
                <a:solidFill>
                  <a:srgbClr val="008093"/>
                </a:solidFill>
                <a:uFillTx/>
                <a:latin typeface="Arial"/>
              </a:rPr>
              <a:t>ne pas</a:t>
            </a: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 forger un tit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2743200"/>
            <a:ext cx="8382240" cy="25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00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a </a:t>
            </a: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Community band concerts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/ $c Sharon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Polk. </a:t>
            </a: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Fall harvest festivals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/ Terri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wanson.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 </a:t>
            </a: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700 12 $a Polk, Sharon. $t Community band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	</a:t>
            </a: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      </a:t>
            </a: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concerts.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700 12 $a Swanson, Terri. $t Fall harvest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festivals.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5" name=""/>
          <p:cNvSpPr/>
          <p:nvPr/>
        </p:nvSpPr>
        <p:spPr>
          <a:xfrm>
            <a:off x="539640" y="5486400"/>
            <a:ext cx="7696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200" spc="-1" strike="noStrike">
                <a:solidFill>
                  <a:srgbClr val="008093"/>
                </a:solidFill>
                <a:latin typeface="Arial"/>
              </a:rPr>
              <a:t>* 2e 700 n’est pas requis mais utile pour l’usager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E4CFB-E2BA-457D-8D78-01AECD5C819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Œuvres collaborative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e œuvre, plusieurs créateu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Responsable princip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u créateur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nommé en prem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Excep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istées e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27.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ms cinématograph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aines ressources impliquant à la fois des collectivités et des person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aines collaborations musi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plupart des publications en série (selon LC-PCC 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FCA8B-2F90-4FF5-964D-EA171E37728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 Plusieurs créateurs – Responsabilité principa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93"/>
                </a:solidFill>
                <a:latin typeface="Arial"/>
              </a:rPr>
              <a:t>Pas de changement, sauf pour ‘vedettes secondaire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0040" y="2492280"/>
            <a:ext cx="7683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00 1# $a Sweet, Martha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10 $a Georgia history / $c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b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Martha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weet and Linda Bruce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with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contributions by Gus Peterson and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Marilee James.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Bruce, Linda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Peterson, Gus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James, Marilee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1" name=""/>
          <p:cNvSpPr/>
          <p:nvPr/>
        </p:nvSpPr>
        <p:spPr>
          <a:xfrm>
            <a:off x="474840" y="5576760"/>
            <a:ext cx="8091360" cy="825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Arial"/>
                <a:ea typeface="ＭＳ Ｐゴシック"/>
              </a:rPr>
              <a:t>* nombre de points d’accès pour autres créateurs 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8093"/>
                </a:solidFill>
                <a:latin typeface="Arial"/>
                <a:ea typeface="ＭＳ Ｐゴシック"/>
              </a:rPr>
              <a:t>LC-PCC PS 19.3 = jugement du catalogueur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C57DE-3653-42BA-B36E-ACB65D48D98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 Plusieurs créateurs --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s de responsabilité principa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800" spc="-1" strike="noStrike" u="sng">
                <a:solidFill>
                  <a:srgbClr val="008093"/>
                </a:solidFill>
                <a:uFillTx/>
                <a:latin typeface="Arial"/>
              </a:rPr>
              <a:t>RCAA2</a:t>
            </a:r>
            <a:r>
              <a:rPr b="1" i="1" lang="fr-CA" sz="28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1" i="1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CA" sz="2800" spc="-1" strike="noStrike">
                <a:solidFill>
                  <a:srgbClr val="008093"/>
                </a:solidFill>
                <a:latin typeface="Arial"/>
              </a:rPr>
              <a:t>‘entrer’ sous le titre, sans zone 1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Autres auteurs (Melanie Carlson, Stephen Lindell, Kevin Ott et Janet Wilson) listés sur la source, mais pas enregistrés dans le 2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43000" y="2286000"/>
            <a:ext cx="774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245 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$a Architecture / $c by Susan Brown … [et al.]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Brown, Susan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897BC-A15E-49CD-A8D0-7DB66392EED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(suite) : Plusieurs créateurs --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s de responsabilité principa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8093"/>
                </a:solidFill>
                <a:uFillTx/>
                <a:latin typeface="Arial"/>
              </a:rPr>
              <a:t>RDA</a:t>
            </a: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 : faire précéder le titre privilégié par le créateur nommé en prem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1480" y="2527200"/>
            <a:ext cx="8001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100 1# $a Brown, Susa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10 $a Architecture / $c by Susan Brown, Melanie Carlson, Stephen Lindell,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Kevin Ott, and Janet Wilso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Carlson, Melanie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Lindell, Stephe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Ott, Kevi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Wilson, Janet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8" name=""/>
          <p:cNvSpPr/>
          <p:nvPr/>
        </p:nvSpPr>
        <p:spPr>
          <a:xfrm>
            <a:off x="1701360" y="5656320"/>
            <a:ext cx="5453640" cy="703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8093"/>
                </a:solidFill>
                <a:latin typeface="Arial"/>
              </a:rPr>
              <a:t>points d’accès pour autres créateurs :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8093"/>
                </a:solidFill>
                <a:latin typeface="Arial"/>
              </a:rPr>
              <a:t>jugement du catalogueur (LC-PCC PS 19.3)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699C9-103F-4A87-B795-069E3166771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s aux points d’accès représentant des œuv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uler l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oint d’accès autori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ncer avec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itre privilég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re précéder par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réate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i appropr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jout(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ur le rendre distin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27.1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que ajout possible est discuté en détail dans les instructions précédentes du chapitre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2248A-61DB-4AF8-9272-6F701D7695C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s aux points d’accès représentant des œuv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For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D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Lieu d’orig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r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aractéristique distinc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23880" y="4876920"/>
            <a:ext cx="67057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 d’ordre de priorité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ut donner plus d’un ajout si nécessair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6CFA7-91E1-4CCA-87BB-2690BB5EC09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ù sont les instructions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général, les instructions pour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l’identification des œuvres et des express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nt dans le chapitr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us devrez aussi consulter les instructions connexes dan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itr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« Personnes, familles et collectivités associées à un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œuv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itr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« Personnes, familles et collectivités associées à un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expres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5E451-2B2B-48D5-AF65-9D3BB0A678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« Nommer » l’œuv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ut comme ‘nommer’ les personnes et les collectivités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t maintenant les famil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mbl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u concept de « vedette principale » dans RCAA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 offre quatre possibilités où coder cette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XX + 2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XX + 2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65B73-09F8-4058-AD4A-9A624DB51BB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écisions LC sur …</a:t>
            </a:r>
            <a:br>
              <a:rPr sz="28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nnées bibliographiques ou d’autorité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n’indique pas si les attributs de l’œuvre et les points d’accès doivent être enregistrés comme données bibliographiques ou d’autor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que LC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oujou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dentifier l’œuvre en donnant le point d’accès dans la notic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bibliograph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Parfo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dentifier l’œuvre en faisant un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otice d’autorit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tre ou auteur/titre – pas de changement dans la politique L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(DCM Z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1FD60-F168-4900-BBFB-697A116706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rminologie reliée aux « Œuvres »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re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RDA 6.2.1.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mot, caractère ou groupe de mots et/ou de caractères sous lequel une œuvre est connu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re privilégié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RDA 6.2.2.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forme du titre choisie pour créer le point d’accè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utoris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nte de titre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RDA 6.2.3.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forme du titre choisie pour créer un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varian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u point d’accè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renvois voir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22CD7-80C4-4CA6-953E-325E5F2056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urces d’information pour les titres privilégiés (6.2.2.2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9760" indent="-2397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re consacré par l’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une œuvre créé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près 1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30348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À partir des ressources matérialisant l’œuvre ou à partir des sources de réfé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30348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fois : le titre propre de la première manifestation reç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une œuvre créé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vant 15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30348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À partir des sources de référence moder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30348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les preuves </a:t>
            </a: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ne sont pas concluant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utiliser (dans cet ordre)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88840" indent="-342720"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ditions moder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88840" indent="-342720"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ditions ancien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88840" indent="-342720"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mplaires manuscr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C75AF-7F18-4CC4-A8C9-52D270A12D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urces d’information pour les autres éléments (6.1.1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r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tous les aut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tributs d’identification des œuvres et des expres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ndre l’information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de n’importe quelle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C5BF5-4437-4C78-B52A-53FB26E0D71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ints d’accès autorisés pour les œuvre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6.27.1.1 - 6.27.1.8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nt assembler les éléments pour construire un point d’accès autori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’élément de base est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itre privilég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Le point d’accès autorisé pour le créate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écède le titre privilégié, le cas éché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jou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u titre privilégié selon les instructions données sou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27.1.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en vers les instructions sur l’enregistrement de chacun des éléments spécif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421CD-1978-47C6-B578-E98FB8CD161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Daniel Paradis</cp:lastModifiedBy>
  <cp:lastPrinted>2010-10-18T15:40:26Z</cp:lastPrinted>
  <dcterms:modified xsi:type="dcterms:W3CDTF">2013-11-05T17:28:00Z</dcterms:modified>
  <cp:revision>280</cp:revision>
  <dc:subject/>
  <dc:title>Diapositive 1</dc:title>
</cp:coreProperties>
</file>