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5B676-7AE2-4DB7-963E-FBEC2B301D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B2074-5975-4DDF-A231-596F580828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659B1-F7CB-418B-B4E0-C207F4E284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8AF24-4B8C-49F6-961E-3D75FD2CF7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61371-9585-40F7-977A-5838B1FDCB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26210-9D44-468D-AD5B-DDF93F6BBD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3CDFB-FF41-4820-B300-17E47FFAC2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A37C9-EA76-45A1-8475-E1E82FCB0B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9998D-2608-4FF4-A988-158D35F640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BAECE-BC5C-4851-9DC9-8E5C16ACB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AA8D9-AB63-4CB7-9400-BBA2BE4F60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6EF90-6DB1-4113-85D2-74B8F160B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46411A9-8540-450D-82FC-D89EA638851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aux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éateur (19.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personne, famille ou collectivité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responsable pour la cré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l’œuvr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lus d’une ent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responsable de l’œuvre dans son intégralit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créateur ayant la responsabilité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princip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mmé en premier dans la ressource est req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la responsabilité principale n’est pas indiquée, seul 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créateur nommé en premi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t req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LC-PCC PS 19.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dique d’utiliser 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ur décider de donner des points d’accès autorisés pour les créateurs additionnels, au-delà de l’élément fonda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A00EA-E11A-4996-9358-A2E4B68656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éateur – Change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isparition de la « règle de trois 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i identifiait l’œuvre seulement par son titre privilégié quand il y avait plus de trois créateu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 conséquent, il y aura plus d’œuvres nommées au moyen d’une combinaison créateur+titre privilég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F8ECE-A0D5-4D09-847D-95A6528613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ilateurs et modificateurs comme créateurs (19.2.1.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ne entité responsable d’une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eut être considérée comme étant la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créatric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 la compilat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a sélection, l’arrangement, l’édition, etc., du contenu de la compilation entraînent de fait la création d’une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nouvelle 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ne entité responsable de la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modification d’une œuvre préexistant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st considérée comme étant la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créatrice de la nouvelle œuv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si la modification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change considérablement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a nature ou le contenu de l’orig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40569-109C-4A81-9789-E08C4742D1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ectivités considérées comme créatr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tégories d’œuv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19.2.1.1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ire à RCAA2 21.1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llectivité a préséance sur une personne ou une famille nommée en premier comme créat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-PCC PS, similaire à la LCRI pour 21.1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19.2.1.1.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ignitaires gouvernementaux et les dignitaires religieu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idérés comme cré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A60D6-4183-47D3-9B0F-3869DE1F3A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ties de la Bible (6.23.2.9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ments par rapport à 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23.2.9.1 Testaments, mettre au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ncien Test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uveau Test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23.2.9.2 Livres, suiv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rectement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ans mention du test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Esd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e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pocaly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0E4DC-B7A1-425F-8B9B-9FCAADD0F9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ilations et collabo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e disti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terminer comment chacune est ‘identifié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DE429-2CA1-4FE4-9F85-185BDD37C7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décider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es que vous avez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ion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qui a créé qu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À partir de : source privilégiée, table des matières, préface, notes de programme, page d’accueil, autres composant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z que c’est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llabo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us n’avez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ucune ind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qui a créé qu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u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out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A492B-8787-40CB-ACC9-7C78C3817E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œuvres par un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it être traité comme u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’est-à-dire, il n’y a pas de collabo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é p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71BA6-6C27-40A3-AD9B-CF92AA14B1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 privilégié – Compilations par une Personne-Famille-Collectivité (6.2.2.1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st-ce qu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mpil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st connue par un tit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Pas habituel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Mais, par exemple, </a:t>
            </a:r>
            <a:r>
              <a:rPr b="0" i="1" lang="fr-CA" sz="2000" spc="-1" strike="noStrike">
                <a:solidFill>
                  <a:srgbClr val="008093"/>
                </a:solidFill>
                <a:latin typeface="Arial"/>
              </a:rPr>
              <a:t>Leaves of grass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est un exemple d’une compilation connue par un ti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i non, utiliser le titre collectif conventionnel (pas d’importance si le titre propre est distinctif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Œuvres complètes = utiliser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« Œuvre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Œuvres complètes en une seule forme = utiliser le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terme choisi par le catalogueur (par exemple, Pièces de théâtre, Poèmes, Roma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utres compilations de deux ou plusieurs (mais pas toutes) œuvres dans la même forme ou dans différentes formes =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ajouter « Extraits »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(et non «  Morceaux choisis ») au titre collectif conventionnel, y compris après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« Œuvre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65B4D-C4A0-496F-AF58-C6C787C6A2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Compilation de 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par le même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a 1re œuvre comme titre privilégié (mais cela identifie de façon erronée la compi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4120" y="306720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Miller, Arthur, $d 1915-2005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Archbishop’s ceiling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Two plays / $c Arthur Miller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505 0#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he Archbishop’s ceil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-- The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Miller, Arthur, $d 1915-2005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t 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"/>
          <p:cNvSpPr/>
          <p:nvPr/>
        </p:nvSpPr>
        <p:spPr>
          <a:xfrm>
            <a:off x="1415880" y="3067200"/>
            <a:ext cx="6248520" cy="2666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339920" y="3067200"/>
            <a:ext cx="6476760" cy="2666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6BBD8-2E69-4BB4-AF63-F49F8AF8E9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ion aux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sont les i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 Nommer » 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isions de LC sur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iographique ou autorit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s d’accès autorisés pour l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5B6D0-AE81-4EFF-9CD9-647CBD0DF6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Compilation de 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par le même créa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avec application de l’alternative d’utiliser un titre collectif conven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1480" y="2590920"/>
            <a:ext cx="792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Miller, Arthur, $d 1915-2005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Pièces de théâtre. $k Extrait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Two plays / $c Arthur Miller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505 0# $a The Archbishop’s ceiling -- Th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700 12 $a Miller, Arthur, $d 1915-2005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$t Archbishop’s ceiling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Miller, Arthur, $d 1915-2005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t American clo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>
            <a:off x="461880" y="6019920"/>
            <a:ext cx="754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* 2e</a:t>
            </a:r>
            <a:r>
              <a:rPr b="1" i="1" lang="en-US" sz="2200" spc="-1" strike="noStrike" baseline="30000">
                <a:solidFill>
                  <a:srgbClr val="008093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700 pas élément fondamental mais utile à l’usager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8F786-FF2C-4341-AB2E-45087BBC68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œuvres par plusieurs créateurs -- Compilations vs Collabo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ns 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rce qu’il n’y a pas un seul créateur des œuvres individu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incipal ou premier nomm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1B89D-49BF-402F-90BF-38EDB4A896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Compilation d’œuvres par différents créateurs (pas de titre collectif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a 1re œuvre comme titre privilégié (mais cela n’identifie pas la compi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4120" y="3067200"/>
            <a:ext cx="8076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100 1# $a Polk, Shar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0 10 $a Community band concert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24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 $a Community band concerts / $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haron Polk. Fall harves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 / Terri Swans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7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2 $a Swanson, Terri. $t Fall harvest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1797120" y="2990880"/>
            <a:ext cx="571500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797120" y="2990880"/>
            <a:ext cx="556236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AC16E-523E-4DDC-9860-5C99CACDD1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Compilation d’œuvres par différents créateurs (pas de titre collectif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utiliser le titre propre de la 1re œuvre comme titre privilégié (</a:t>
            </a: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ne pas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forger un tit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743200"/>
            <a:ext cx="838224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00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Community band concerts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/ $c Sharon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olk.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Fall harvest festivals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/ Terri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wanson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700 12 $a Polk, Sharon. $t Community band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     </a:t>
            </a: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concerts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700 12 $a Swanson, Terri. $t Fall harvest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estivals.</a:t>
            </a:r>
            <a:endParaRPr b="1" lang="en-US" sz="23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5486400"/>
            <a:ext cx="769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8093"/>
                </a:solidFill>
                <a:latin typeface="Arial"/>
              </a:rPr>
              <a:t>* 2e 700 n’est pas requis mais utile pour l’usager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37A77-4657-4625-80EC-8674E7DF74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Œuvres collaborativ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e œuvre, plusieurs créateu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esponsable princip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u créate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ommé en prem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Excep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stées e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ms cinémat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es ressources impliquant à la fois des collectivités et des perso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es collaborations musi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lupart des publications en série (selon LC-PCC 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C1BF1-A412-4B5D-B1D4-E85D93E344D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Plusieurs créateurs –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93"/>
                </a:solidFill>
                <a:latin typeface="Arial"/>
              </a:rPr>
              <a:t>Pas de changement, sauf pour ‘vedettes secondair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0040" y="2492280"/>
            <a:ext cx="7683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0 1# $a Sweet, Martha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Georgia history / $c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artha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weet and Linda Bru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with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ontributions by Gus Peterson and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arilee James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Bruce, Linda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Peterson, Gu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928800" indent="-9288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James, Marilee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"/>
          <p:cNvSpPr/>
          <p:nvPr/>
        </p:nvSpPr>
        <p:spPr>
          <a:xfrm>
            <a:off x="474840" y="5576760"/>
            <a:ext cx="8091360" cy="825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* nombre de points d’accès pour autres créateur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LC-PCC PS 19.3 = jugement du catalogueu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DEE20-8495-4AF0-A537-CCF8182B4B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Plusieurs créateur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 de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CA" sz="2800" spc="-1" strike="noStrike">
                <a:solidFill>
                  <a:srgbClr val="008093"/>
                </a:solidFill>
                <a:latin typeface="Arial"/>
              </a:rPr>
              <a:t>‘entrer’ sous le titre, sans zone 1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utres auteurs (Melanie Carlson, Stephen Lindell, Kevin Ott et Janet Wilson) listés sur la source, mais pas enregistrés dans le 2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2286000"/>
            <a:ext cx="774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5 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$a Architecture / $c by Susan Brown … [et al.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Brown, Susa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42B35-6C0C-4FDD-B0F2-661B3CF94D8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Plusieurs créateur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 de responsabilité princip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 : faire précéder le titre privilégié par le créateur nommé en prem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1480" y="252720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100 1# $a Brown, Susa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10 $a Architecture / $c by Susan Brown, Melanie Carlson, Stephen Lindell,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Kevin Ott, and Janet Wilso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Carlson, Melanie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Lindell, Stephe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Ott, Kevi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*7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1# $a Wilson, Janet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"/>
          <p:cNvSpPr/>
          <p:nvPr/>
        </p:nvSpPr>
        <p:spPr>
          <a:xfrm>
            <a:off x="1701360" y="5656320"/>
            <a:ext cx="5453640" cy="70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8093"/>
                </a:solidFill>
                <a:latin typeface="Arial"/>
              </a:rPr>
              <a:t>points d’accès pour autres créateurs :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8093"/>
                </a:solidFill>
                <a:latin typeface="Arial"/>
              </a:rPr>
              <a:t>jugement du catalogueur (LC-PCC PS 19.3)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90948-C9FD-4FE5-9B1A-EA6C59102FC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représentant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er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cer avec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e précéder par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appropr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jout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 rendre disti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.1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que ajout possible est discuté en détail dans les instructions précédentes du chapitre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C90DF-B56C-4ADD-9B6C-8509DE09D7D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représentant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For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ieu d’orig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4876920"/>
            <a:ext cx="6705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 d’ordre de priorité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ut donner plus d’un ajout si nécessair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C90BE-D335-4405-82D2-B78693C6576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ù sont les instruction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général, les instructions po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’identification des œuvres et des expres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nt dans le chapi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devrez aussi consulter les instructions connexes dan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« Personnes, familles et collectivités associées à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« Personnes, familles et collectivités associées à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expre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14B3F-A4BA-4666-A995-16C804D38B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 Nommer » l’œuv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t comme ‘nommer’ les personnes et les collectivité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 maintenant les famil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mbl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u concept de « vedette principale » dans RCA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offre quatre possibilités où coder cett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XX + 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XX + 2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65207-F2EC-4215-A6EF-F603DD0A21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nées bibliographiques ou d’autorité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n’indique pas si les attributs de l’œuvre et les points d’accès doivent être enregistrés comme données bibliographiques ou d’autor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que LC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fier l’œuvre en donnant le point d’accès dans la notic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bibliograph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fier l’œuvre en faisant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tice d’autor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ou auteur/titre – pas de changement dans la politique L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(DCM Z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D580C-3200-416E-840F-09554CB55B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rminologie reliée aux « Œuvres 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re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1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mot, caractère ou groupe de mots et/ou de caractères sous lequel une œuvre est connu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re privilégié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2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rme du titre choisie pour créer le point d’accè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te de titre de l’œuvre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DA 6.2.3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rme du titre choisie pour créer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vari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renvois voir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4CB64-E3F2-4EBB-A5C2-4A921042CD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 d’information pour les titres privilégiés (6.2.2.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consacré par l’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une œuvre créé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près 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À partir des ressources matérialisant l’œuvre ou à partir des sources de réfé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fois : le titre propre de la première manifestation reç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une œuvre créé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vant 15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À partir des sources de référence moder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3034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les preuves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ne sont pas concluan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tiliser (dans cet ordre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ditions moder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ditions ancien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34272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laires manuscr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B7DB6-F4B9-4B9E-98B9-6079E71994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 d’information pour les autres éléments (6.1.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ous les aut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tributs d’identification des œuvres et d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l’information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 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0624C-0F9D-49B6-9855-5D40CEB180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ints d’accès autorisés pour les œuvr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6.27.1.1 - 6.27.1.8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assembler les éléments pour construire un 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élément de base est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Le point d’accès autorisé pour le cré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écède le titre privilégié, le cas éché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u titre privilégié selon les instructions données sou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1.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en vers les instructions sur l’enregistrement de chacun des éléments spécif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91B47-8876-4B1B-80A3-795B46F218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Daniel Paradis</cp:lastModifiedBy>
  <cp:lastPrinted>2010-10-18T15:40:26Z</cp:lastPrinted>
  <dcterms:modified xsi:type="dcterms:W3CDTF">2013-11-05T17:28:00Z</dcterms:modified>
  <cp:revision>280</cp:revision>
  <dc:subject/>
  <dc:title>Diapositive 1</dc:title>
</cp:coreProperties>
</file>