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7FD2-D079-4C12-92B6-648C93DE4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4C80-32EB-4E39-90B0-2D9330854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B1B4-C29D-4D1F-8BEB-2F2B0AFDF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01DE-37EF-4A87-855B-994DCE26FB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9F6C-B540-43D0-B2DF-A73E84AF9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3AE9-2E87-4EAB-AF11-586C223BB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4E98-73C8-44E7-97CA-C53B0BEB7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B6FD-8E14-4200-9F37-CEB174C7D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79D3-6B33-4FCB-8701-A751CF632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FCAD-606F-43F3-8E20-147386607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0DFE-D4AA-469B-910B-A15033B07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41F6-15E2-44D1-B984-566F9C109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1D5706F-F1C2-40C8-A688-CE70A159EF3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2847-952B-4C6B-929B-9CA914EE55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9451-5F8C-4B81-A37D-D3FD9435A1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considérée comme étant l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eur de la nouvelle œuv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1BC2-A406-4BC8-9B33-FE825A0DD0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au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FF7F-5009-4679-ADA0-A3ADBCC162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DDB1-08A9-4CC4-83DB-C01D7DB68F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B42D-9E7C-46EA-96DC-6E399DBABF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6406-CD79-4D16-8C20-99BE553CFF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FE2B-B85F-440C-8E62-C575E7AF65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03665-B5D1-4359-9699-8943C9E4D7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2D36-D83D-4723-8F8D-6EF1384081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32FE-F7C8-4BD6-AD20-402DFE0F5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FE10-94DF-4CCA-A6CC-1481B7D352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70DD-8FC3-4A62-8CB5-B66820F94B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511E-0781-45A6-8C99-DB64EE7D75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B4D8-9F93-4DB6-B886-B108F6CF4E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63ED-48C0-4C52-A080-C0A5E34987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EAD5-65B8-465F-A877-082CE4E2C7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9F44-2CBA-44DF-AAE8-6B5AE1196A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47DC-1663-497A-8FD9-74A24646B1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F614-466B-41EB-83B9-B538B5C7E3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4EBB-80EB-4829-AA53-E9083B7D11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FE85-9468-4D99-A81E-7EE2D396A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7D2B-1777-4F06-82A1-99FFC521B2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6E5F-DFD8-4CFB-A301-45323D5D4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37AE-D125-4B7E-AD60-A20ABDE39C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C3ED-F4BD-42FC-B5CF-056A67F632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6E1A-5983-48D7-A05D-A4E3EC406A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667C-6074-4D49-86E0-761CD90A2E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29Z</dcterms:modified>
  <cp:revision>276</cp:revision>
  <dc:subject/>
  <dc:title>Diapositive 1</dc:title>
</cp:coreProperties>
</file>