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8061D-917B-42E3-A83D-82FB7D5C1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19277-AF6F-4AF1-82E6-B2A44A7EC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D3A87-840B-409C-BFA2-63E9CA92FA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77BD7-99CD-4FF6-852E-509269D2FF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E451C-B7A3-4FE1-B55A-988D35257C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72120-6920-403E-9BD4-198E03B87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501EE-BB8E-4790-8410-8CB80E360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C564C-F4A5-4F07-8B14-290430732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2B94F-307E-4E41-96F0-B392C3C58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E86EF-E346-4EB9-9C06-D69505C47C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BC19C-23D5-4AB5-8C62-AA046F4857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3561E-DBB3-44BB-B985-637CE91A76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B9870E4-738D-4077-9DB6-05255C2E42B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(19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personne, famille ou collectivité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responsable pour la cré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’œuvr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lus d’une ent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responsable de l’œuvre dans son intégralit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créateur ayant la responsabilité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princip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mmé en premier dans la ressource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a responsabilité principale n’est pas indiquée, seul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créateur nommé en prem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LC-PCC PS 19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ique d’utiliser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ur décider de donner des points d’accès autorisés pour les créateurs additionnels, au-delà de l’élément fonda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51C14-01F4-49D4-AC10-B6041EBEA5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– Chang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sparition de la « règle de trois 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 identifiait l’œuvre seulement par son titre privilégié quand il y avait plus de trois créat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 conséquent, il y aura plus d’œuvres nommées au moyen d’une combinaison créateur+titre privilég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873A6-C7E9-4183-9471-8E1DEBF5C5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eurs et modificateurs comme créateurs (19.2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entité responsable d’une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ut être considérée comme étant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réatr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a compilat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sélection, l’arrangement, l’édition, etc., du contenu de la compilation entraînent de fait la création d’une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uvell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entité responsable de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modification d’une œuvre préexista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 considérée comme étant le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réateur de la nouvelle œuv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la modification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change considérab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nature ou le contenu de l’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4480E-FB87-4582-980D-B86A4138CC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ectivités considérées comme créatr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tégories d’œuv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ire à RCAA2 21.1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llectivité a préséance sur une personne ou une famille nommée en premier comme créat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, similaire au LCRI pour 21.1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gnitaires gouvernementaux et les dignitaires religie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dérés comme cré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AC3B1-6AAD-4380-9693-9CEB638325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ies de la Bible (6.23.2.9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s par rapport à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1 Testaments, mettre au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ncien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uveau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2 Livres, suiv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ement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ans mention du test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sd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ocaly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A6716-89BD-40F3-B745-EC6012C442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ions et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e disti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terminer comment chacune est ‘identifié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6AB73-A7F8-4D81-8AF3-0E2D696A23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décide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es que vous avez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ion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À partir de : source privilégiée, table des matières, préface, notes de programme, page d’accueil, autres composant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z que c’est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llabo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n’avez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cune ind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ou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74AE0-3D8E-4CEF-B950-9067F90D5D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un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t être traité comme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’est-à-dire, il n’y a pas de collabo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é 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714B7-7FD5-467B-BC26-FCB0B6649E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ivilégié – Compilations par une Personne-Famille-Collectivité (6.2.2.1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st-ce qu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connue par un tit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as habituel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Mais, par exemple, </a:t>
            </a:r>
            <a:r>
              <a:rPr b="0" i="1" lang="fr-CA" sz="2000" spc="-1" strike="noStrike">
                <a:solidFill>
                  <a:srgbClr val="008093"/>
                </a:solidFill>
                <a:latin typeface="Arial"/>
              </a:rPr>
              <a:t>Leaves of grass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st un exemple d’une compilation connue par un ti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i non, utiliser le titre collectif conventionnel (pas d’importance si le titre propre est distinctif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= utiliser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en une seule forme = utiliser 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terme choisi par le catalogueur (par exemple, Pièces de théâtre, Poèmes, Rom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utres compilations de deux ou plusieurs (mais pas toutes) œuvres dans la même forme ou dans différentes formes =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ajouter « Extraits »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au titre collectif conventionnel, y compris après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B47AC-4F08-48D0-AAFF-1EB52F1183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identifie de façon erronée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4120" y="306720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Archbishop’s ceiling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he Archbishop’s ceil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-- The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>
            <a:off x="1415880" y="3067200"/>
            <a:ext cx="624852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339920" y="3067200"/>
            <a:ext cx="647676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B59D0-BD80-4AD8-9A6B-2C12D3D242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 Nommer » 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de LC sur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graphique ou autorit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d’accès autorisés pour l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90202-4884-44A9-BD21-E825F993C6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avec application de l’alternative d’utiliser un titre collectif conven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1480" y="2590920"/>
            <a:ext cx="792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ièces de théâtre. $k Extrai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The Archbishop’s ceiling -- Th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$t Archbishop’s ceiling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>
            <a:off x="461880" y="6019920"/>
            <a:ext cx="75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</a:t>
            </a:r>
            <a:r>
              <a:rPr b="1" i="1" lang="en-US" sz="2200" spc="-1" strike="noStrike" baseline="30000">
                <a:solidFill>
                  <a:srgbClr val="008093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700 pas élément fondamental mais utile à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815C2-BA75-4F56-9526-64F3B26B30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plusieurs créateurs -- Compilations vs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ns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ce qu’il n’y a pas un seul créateur des œuvres individu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incipal ou premier nomm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D6ED6-6182-44F4-9921-861C266CA2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n’identifie pas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4120" y="3067200"/>
            <a:ext cx="807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Polk, Shar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Community band concer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4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 $a Community band concerts / $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haron Polk. Fall harve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 / Terri Swan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7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2 $a Swanson, Terri. $t Fall harvest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1797120" y="2990880"/>
            <a:ext cx="571500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797120" y="2990880"/>
            <a:ext cx="556236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8DB82-26FC-4599-99A2-4177609960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e titre propre de la 1re œuvre comme titre privilégié (</a:t>
            </a: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ne pas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forger un tit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743200"/>
            <a:ext cx="838224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00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mmunity band concert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$c Sharon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olk.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Fall harvest festival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Terri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anson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Polk, Sharon. $t Community band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ncert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Swanson, Terri. $t Fall harvest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5486400"/>
            <a:ext cx="769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 700 n’est pas requis mais utile pour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80784-9167-429F-A531-635903065A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collaborativ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Une œuvre, plusieurs créateu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sponsable princip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u créate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Exce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stées e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ms cinémat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ressources impliquant à la fois des collectivités et des perso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collaborations mus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lupart des publications en série (selon LC-PCC 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D127C-C06F-42E6-91E0-AD438F064EF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–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Pas de changement, sauf pour ‘vedettes secondair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040" y="2492280"/>
            <a:ext cx="7683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Sweet, Marth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Georgia history / $c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artha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eet and Linda Bru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with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ontributions by Gus Peterson and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rilee James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uce, Lind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Peterson, Gu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James, Marile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"/>
          <p:cNvSpPr/>
          <p:nvPr/>
        </p:nvSpPr>
        <p:spPr>
          <a:xfrm>
            <a:off x="474840" y="5576760"/>
            <a:ext cx="809136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* nombre de points d’accès pour autres créateur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LC-PCC PS 19.3 = jugement du catalogu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A4D1C-E8E1-4E6C-AF4E-42DB33E0654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CA" sz="2800" spc="-1" strike="noStrike">
                <a:solidFill>
                  <a:srgbClr val="008093"/>
                </a:solidFill>
                <a:latin typeface="Arial"/>
              </a:rPr>
              <a:t>‘entrer’ sous le titre, sans zone 1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utres auteurs (Melanie Carlson, Stephen Lindell, Kevin Ott et Janet Wilson) listés sur la source, mais pas enregistrés dans le 2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2286000"/>
            <a:ext cx="77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5 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Architecture / $c by Susan Brown … [et al.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own, Susa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EBD53-0286-452A-A5DA-E6FE43C6A60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faire précéder le titre privilégié par le créateur 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1480" y="252720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Brown, Susa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Architecture / $c by Susan Brown, Melanie Carlson, Stephen Lindell,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Kevin Ott, and Janet Wil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Carlson, Melani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Lindell, Steph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Ott, Kevi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Wilson, Janet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"/>
          <p:cNvSpPr/>
          <p:nvPr/>
        </p:nvSpPr>
        <p:spPr>
          <a:xfrm>
            <a:off x="1701360" y="5656320"/>
            <a:ext cx="5453640" cy="70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points d’accès pour autres créateurs :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jugement du catalogueur (LC-PCC PS 19.3)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C6009-D929-473A-875F-2E364B3B47D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er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cer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e précéder par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appropr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 rendre dis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ajout possible est discuté en détail dans les instructions précédentes du chapitr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5185F-29D9-47B8-81FB-80C789FE032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For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ieu d’orig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876920"/>
            <a:ext cx="6705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d’ordre de priorit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ut donner plus d’un ajout si nécessai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5CE83-A00D-4E65-A327-49D59D4B499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ù sont les instruction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les instructions 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’identification des œuvres et des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dans le chapi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devrez aussi consulter les instructions connexes dan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12F7B-E6DE-4845-8F17-9D6E13F2E5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 Nommer » l’œuv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t comme ‘nommer’ les personnes et les collectivité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maintenant les famil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mbl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 concept de « vedette principale » dans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offre quatre possibilités où coder cet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B9025-F6A4-4C2E-B8AA-6360253F2B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nées bibliographiques ou d’autorité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n’indique pas si les attributs de l’œuvre et les points d’accès doivent être enregistrés comme données bibliographiques ou d’auto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que LC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donnant le point d’accès dans la notic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d’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auteur/titre – pas de changement dans la politique L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(DCM Z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962EB-27CC-4DB1-A829-0C4E423D80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minologie reliée aux « Œuvres 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ot, caractère ou groupe de mots et/ou de caractères sous lequel une œuvre est connu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privilégié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2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le point d’accè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e de 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3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vari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renvois voir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DC45E-33DF-4393-B7EE-2D90F359C0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titres privilégiés (6.2.2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consacré par l’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rès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ressources matérialisant l’œuvre ou à partir des sources de réfé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fois : le titre propre de la première manifestation reç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vant 15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sources de référence mode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es preuves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ne sont pas concluan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tiliser (dans cet ordre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moder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ancien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aires manuscr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E6CE0-EBCD-4250-8274-D4183B2100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autres éléments (6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ous les aut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ributs d’identification des œuvres et d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l’information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63A7E-6C37-40BB-AA34-4785618B36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ints d’accès autorisés pour les œuvr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6.27.1.1 - 6.27.1.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assembler les éléments pour construire un 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élément de base es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Le point d’accès autorisé pour le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écède le titre privilégié, le cas éché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u titre privilégié selon les instructions données s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en vers les instructions sur l’enregistrement de chacun des éléments spéc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21B30-8899-4E58-9E6F-FF18242EFF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04-04T12:46:29Z</dcterms:modified>
  <cp:revision>276</cp:revision>
  <dc:subject/>
  <dc:title>Diapositive 1</dc:title>
</cp:coreProperties>
</file>