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personnes et des collectiv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30EEC9-0297-4F02-A220-DCC8404C414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personnes et des collectiv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B0364B-8BD4-46D7-9D2A-A8914E07C27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CE3-89D8-4BCD-9E30-E4C3D139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542-542E-4756-92CC-3AF39A85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C43-2872-4AED-8B1C-744F8266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FE8-C7B0-4F39-83EA-110BE45A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173-F9AB-43AB-ADD3-90F60636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4A9-4AC8-4506-A9DD-EC89211A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BF0-D993-4491-B7D7-8B675CDB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C29-CF29-4EA7-9F57-B9DAB9D2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091-CC22-4888-84AB-93E077EA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FA5-F0D4-420F-971A-00EF7859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B8B-5F0F-4189-B5BF-2ABAC2FA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393-242D-442A-A0C8-4AA6AEC9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7D6D-404F-45CC-ABC1-071C65CDD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356A-F607-4239-8288-9F6CCD5CD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50920" y="206064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personnes et des collectivi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9D3C-7D8F-4F72-819C-895C7109E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4120" y="3035160"/>
            <a:ext cx="714060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24000" y="1557360"/>
            <a:ext cx="8445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100 0# $a M. B., $d activité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249C-E8C0-407F-AC5E-32974F6F5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3628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74760" y="1628640"/>
            <a:ext cx="8445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00 1# $a Ohlhausen, Peter $c (Chercheur en ges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F9B1-6074-4904-BC66-E4CBC8BB5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9480" y="2565360"/>
            <a:ext cx="7724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2CC-0794-469C-BCEB-4FB1B6799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3112920"/>
            <a:ext cx="7581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3964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11 2# $a Annual Conference on Development and Change $n (1re : $d 2005 : $c N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ī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mr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ā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na, In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AC65-96CB-43C3-8DCC-997C7C2FF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hoisir le nom privilégié RDA pour le congrès ci-dess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E481-AA72-4EBE-A740-548CDB0DF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110 1# $a États-Unis. $b Department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9661-9F23-4216-86EF-F7BA596D1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26880"/>
            <a:ext cx="856908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RDA nous dit de déterminer le nom privilégié pour une collectivité à partir des sources suivantes (en ordre de préférence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 sources privilégiées d’information dans les ressources associées à la collectiv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res mentions formelles apparaissant dans les ressources associées à la collectiv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res sources (incluant des sources de référe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4313160"/>
                <a:tab algn="l" pos="6978600"/>
                <a:tab algn="l" pos="10468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544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57ED-4E4A-43A4-B7AD-DD5481E09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Le nom privilégié pour une collectivité est un élément fondamental. Les variantes du nom pour une collectivité sont optionnel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9682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BANQ</cp:lastModifiedBy>
  <dcterms:modified xsi:type="dcterms:W3CDTF">2013-04-05T13:58:51Z</dcterms:modified>
  <cp:revision>55</cp:revision>
  <dc:subject/>
  <dc:title>Autorités RDA</dc:title>
</cp:coreProperties>
</file>