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C9BA8C-58F3-4987-B8AF-BEAC38FBC68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Quiz - Identification des personnes et des collectiv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EC4FF1-2D7E-48F2-A91F-3267A739234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0EA-3CA2-4BCB-AAA2-57781F52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AC5-7A35-4578-B0BA-3635A275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9E0-936C-43AF-9D7E-59E65A57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95D-8048-4BA4-8D54-5055DAFB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50D-5A78-47B2-8F9F-832633A1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EBE-78A2-47DE-B58C-2B67B461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815-DD61-449C-8B4D-67C5FB3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084-C982-4160-AA6A-A7EEF693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414-B880-4A75-96B1-266AED63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799-95A7-471B-85ED-AB7CB91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129-CBFC-459C-AD89-2682DA77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518-832B-4D14-82B6-0BACC05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77E1-76BC-4BAD-8D2D-7278B7AF5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9FCB-5AAB-4022-93C0-12ABED159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9254-6B3F-4523-AF5F-765300473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4120" y="3035160"/>
            <a:ext cx="7140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155736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C93E-1121-41C0-B1E1-CE652B4EF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3628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74760" y="1628640"/>
            <a:ext cx="8445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00 1# $a Ohlhausen, Peter $c (Chercheur en ges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1DC6-B585-4476-B446-67FA253C9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BA0A-1578-463B-9D01-C3083B95E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06D5-937B-4091-A197-045038AC0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ED31-B4AF-41E0-9E59-7689B4A6B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110 1# $a États-Unis. $b Departmen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430-A8B9-401D-8DA4-988394898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26880"/>
            <a:ext cx="856908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RDA nous dit de déterminer le nom privilégié pour une collectivité à partir des sources suivantes (en ordre de préférence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4313160"/>
                <a:tab algn="l" pos="6978600"/>
                <a:tab algn="l" pos="104680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4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A0FD-B734-436C-8F32-A766B392E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BANQ</cp:lastModifiedBy>
  <dcterms:modified xsi:type="dcterms:W3CDTF">2013-04-05T13:58:51Z</dcterms:modified>
  <cp:revision>55</cp:revision>
  <dc:subject/>
  <dc:title>Autorités RDA</dc:title>
</cp:coreProperties>
</file>