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4BE049-956D-4174-AEFA-66F538F904B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684509-6265-4EFE-A180-4FEE3897830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424-E891-4E42-8EA1-0EBB23E3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B1B-B2F6-45E5-BE07-13A5895E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0DC-97E6-4BE4-B7A8-BF5D65A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1D7-0371-431C-8522-26713A1F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2CC-E052-4CF2-BFC1-05CFA3B9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65B-A11E-4E37-894D-FAEBCDF6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672-0D8D-4A52-A286-84B38F04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66F-471A-4813-9325-43BB64D0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CBF-D392-48CD-9576-5618CF9B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2E6-9706-4FB5-93CB-38BDFB6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055-1A74-461A-B7B6-DD2C715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FA0-A5B2-49F5-9D9C-C6968D0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A9FD-C37D-4BE3-AE64-BDC7C81A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CFE8-0272-48A6-BDB7-DD8901498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7CB-F1A2-4DE3-B138-F80F8A09A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4120" y="3035160"/>
            <a:ext cx="7140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55736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D24E-D556-42DC-BBD6-D8031CB9D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3628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4760" y="162864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00 1# $a Ohlhausen, Peter $c (Chercheur en ges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0139-40FB-478C-8885-2B07F44AA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4BB9-B7D4-492A-8196-232DE15D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387F-181C-4E0A-B535-9F3E3229B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E23D-9550-4DC5-9780-27EEB28DE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110 1# $a États-Unis. $b Departmen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F30-1A01-4402-BDC9-D059284C0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26880"/>
            <a:ext cx="856908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RDA nous dit de déterminer le nom privilégié pour une collectivité à partir des sources suivantes (en ordre de préférence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75F9-22FA-4411-A72B-1AD756B8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BANQ</cp:lastModifiedBy>
  <dcterms:modified xsi:type="dcterms:W3CDTF">2013-04-05T13:58:51Z</dcterms:modified>
  <cp:revision>55</cp:revision>
  <dc:subject/>
  <dc:title>Autorités RDA</dc:title>
</cp:coreProperties>
</file>